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1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0.wmf" ContentType="image/x-wmf"/>
  <Override PartName="/ppt/media/image52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36.wmf" ContentType="image/x-wmf"/>
  <Override PartName="/ppt/media/image6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97C-5B1A-4D2A-BF76-00B615DB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98B-8D96-4E7E-A15C-1A0EA9D4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BD7-808D-45E3-8922-9F41FEEF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E7F-E7C1-4372-A269-29C03B3B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CDA-E81B-4557-9071-558237F8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D7B-5983-41F7-AA05-248BF46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417-963B-4F23-B9B7-2D3D1A6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A22-68D7-4898-89F0-CA3C59A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8FE-A9E6-47B5-B340-E6C7060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95C-B41B-4BBF-8BC0-CED81A4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0B2-024F-40D7-9768-1C0B7DE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ECD-7651-49A2-86E0-E50E6B0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2192-0CE3-4F26-B3D2-8AE353AA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Interaction of Light and Matter: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α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action of light and matter is what makes life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we see is the result of this interaction.  Why is light absorbed or transmitted by a particular medi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causes matter to vibrate.  Matter in turn emits light, which interferes with the original ligh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ve interference means absorption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e out-of-phase interfere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he phase velocity of ligh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refractive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ited atoms &amp; the forced osc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Lorentzia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 coefficient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fractive index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741920" y="3701880"/>
            <a:ext cx="4079880" cy="28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5010120" y="3909960"/>
            <a:ext cx="375768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34"/>
          <p:cNvGrpSpPr/>
          <p:nvPr/>
        </p:nvGrpSpPr>
        <p:grpSpPr>
          <a:xfrm>
            <a:off x="5229360" y="3921120"/>
            <a:ext cx="2990880" cy="2174760"/>
            <a:chOff x="5229360" y="3921120"/>
            <a:chExt cx="2990880" cy="2174760"/>
          </a:xfrm>
        </p:grpSpPr>
        <p:sp>
          <p:nvSpPr>
            <p:cNvPr id="46" name="Rectangle 12"/>
            <p:cNvSpPr/>
            <p:nvPr/>
          </p:nvSpPr>
          <p:spPr>
            <a:xfrm>
              <a:off x="5229360" y="6062760"/>
              <a:ext cx="299088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>
              <a:off x="5229360" y="5262480"/>
              <a:ext cx="2990880" cy="2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5229360" y="3921120"/>
              <a:ext cx="2990880" cy="20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5229360" y="3921120"/>
              <a:ext cx="21960" cy="2163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6719760" y="3932280"/>
              <a:ext cx="20880" cy="216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"/>
            <p:cNvSpPr/>
            <p:nvPr/>
          </p:nvSpPr>
          <p:spPr>
            <a:xfrm>
              <a:off x="8197920" y="3921120"/>
              <a:ext cx="22320" cy="2163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17"/>
            <p:cNvGrpSpPr/>
            <p:nvPr/>
          </p:nvGrpSpPr>
          <p:grpSpPr>
            <a:xfrm>
              <a:off x="5273640" y="3931920"/>
              <a:ext cx="2924280" cy="1332360"/>
              <a:chOff x="5273640" y="3931920"/>
              <a:chExt cx="2924280" cy="1332360"/>
            </a:xfrm>
          </p:grpSpPr>
          <p:sp>
            <p:nvSpPr>
              <p:cNvPr id="53" name="Line 18"/>
              <p:cNvSpPr/>
              <p:nvPr/>
            </p:nvSpPr>
            <p:spPr>
              <a:xfrm>
                <a:off x="5273640" y="526248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9"/>
              <p:cNvSpPr/>
              <p:nvPr/>
            </p:nvSpPr>
            <p:spPr>
              <a:xfrm>
                <a:off x="5305320" y="526248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0"/>
              <p:cNvSpPr/>
              <p:nvPr/>
            </p:nvSpPr>
            <p:spPr>
              <a:xfrm>
                <a:off x="532764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1"/>
              <p:cNvSpPr/>
              <p:nvPr/>
            </p:nvSpPr>
            <p:spPr>
              <a:xfrm>
                <a:off x="5361120" y="526248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2"/>
              <p:cNvSpPr/>
              <p:nvPr/>
            </p:nvSpPr>
            <p:spPr>
              <a:xfrm>
                <a:off x="5394240" y="5262480"/>
                <a:ext cx="208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3"/>
              <p:cNvSpPr/>
              <p:nvPr/>
            </p:nvSpPr>
            <p:spPr>
              <a:xfrm>
                <a:off x="5415120" y="526248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4"/>
              <p:cNvSpPr/>
              <p:nvPr/>
            </p:nvSpPr>
            <p:spPr>
              <a:xfrm>
                <a:off x="544824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5"/>
              <p:cNvSpPr/>
              <p:nvPr/>
            </p:nvSpPr>
            <p:spPr>
              <a:xfrm>
                <a:off x="5481720" y="526248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6"/>
              <p:cNvSpPr/>
              <p:nvPr/>
            </p:nvSpPr>
            <p:spPr>
              <a:xfrm>
                <a:off x="5504040" y="526248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7"/>
              <p:cNvSpPr/>
              <p:nvPr/>
            </p:nvSpPr>
            <p:spPr>
              <a:xfrm>
                <a:off x="5535720" y="526248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8"/>
              <p:cNvSpPr/>
              <p:nvPr/>
            </p:nvSpPr>
            <p:spPr>
              <a:xfrm>
                <a:off x="556884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9"/>
              <p:cNvSpPr/>
              <p:nvPr/>
            </p:nvSpPr>
            <p:spPr>
              <a:xfrm flipV="1">
                <a:off x="5602320" y="5250960"/>
                <a:ext cx="2052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0"/>
              <p:cNvSpPr/>
              <p:nvPr/>
            </p:nvSpPr>
            <p:spPr>
              <a:xfrm>
                <a:off x="562284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31"/>
              <p:cNvSpPr/>
              <p:nvPr/>
            </p:nvSpPr>
            <p:spPr>
              <a:xfrm>
                <a:off x="5656320" y="525132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2"/>
              <p:cNvSpPr/>
              <p:nvPr/>
            </p:nvSpPr>
            <p:spPr>
              <a:xfrm>
                <a:off x="5689440" y="525132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3"/>
              <p:cNvSpPr/>
              <p:nvPr/>
            </p:nvSpPr>
            <p:spPr>
              <a:xfrm>
                <a:off x="5711760" y="525132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34"/>
              <p:cNvSpPr/>
              <p:nvPr/>
            </p:nvSpPr>
            <p:spPr>
              <a:xfrm>
                <a:off x="574344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35"/>
              <p:cNvSpPr/>
              <p:nvPr/>
            </p:nvSpPr>
            <p:spPr>
              <a:xfrm>
                <a:off x="577692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6"/>
              <p:cNvSpPr/>
              <p:nvPr/>
            </p:nvSpPr>
            <p:spPr>
              <a:xfrm>
                <a:off x="5810400" y="5251320"/>
                <a:ext cx="2196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7"/>
              <p:cNvSpPr/>
              <p:nvPr/>
            </p:nvSpPr>
            <p:spPr>
              <a:xfrm>
                <a:off x="5832360" y="5251320"/>
                <a:ext cx="3204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8"/>
              <p:cNvSpPr/>
              <p:nvPr/>
            </p:nvSpPr>
            <p:spPr>
              <a:xfrm>
                <a:off x="5864400" y="525132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9"/>
              <p:cNvSpPr/>
              <p:nvPr/>
            </p:nvSpPr>
            <p:spPr>
              <a:xfrm>
                <a:off x="5897520" y="525132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40"/>
              <p:cNvSpPr/>
              <p:nvPr/>
            </p:nvSpPr>
            <p:spPr>
              <a:xfrm>
                <a:off x="5919840" y="525132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1"/>
              <p:cNvSpPr/>
              <p:nvPr/>
            </p:nvSpPr>
            <p:spPr>
              <a:xfrm>
                <a:off x="595152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2"/>
              <p:cNvSpPr/>
              <p:nvPr/>
            </p:nvSpPr>
            <p:spPr>
              <a:xfrm>
                <a:off x="5985000" y="525132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V="1">
                <a:off x="6018120" y="5239800"/>
                <a:ext cx="2232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44"/>
              <p:cNvSpPr/>
              <p:nvPr/>
            </p:nvSpPr>
            <p:spPr>
              <a:xfrm>
                <a:off x="6040440" y="524016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45"/>
              <p:cNvSpPr/>
              <p:nvPr/>
            </p:nvSpPr>
            <p:spPr>
              <a:xfrm>
                <a:off x="6072120" y="524016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6"/>
              <p:cNvSpPr/>
              <p:nvPr/>
            </p:nvSpPr>
            <p:spPr>
              <a:xfrm>
                <a:off x="6105600" y="524016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7"/>
              <p:cNvSpPr/>
              <p:nvPr/>
            </p:nvSpPr>
            <p:spPr>
              <a:xfrm>
                <a:off x="6127920" y="524016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8"/>
              <p:cNvSpPr/>
              <p:nvPr/>
            </p:nvSpPr>
            <p:spPr>
              <a:xfrm flipV="1">
                <a:off x="6161040" y="5229360"/>
                <a:ext cx="31680" cy="10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9"/>
              <p:cNvSpPr/>
              <p:nvPr/>
            </p:nvSpPr>
            <p:spPr>
              <a:xfrm flipV="1">
                <a:off x="6192720" y="5219280"/>
                <a:ext cx="22320" cy="972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0"/>
              <p:cNvSpPr/>
              <p:nvPr/>
            </p:nvSpPr>
            <p:spPr>
              <a:xfrm>
                <a:off x="6215040" y="521964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51"/>
              <p:cNvSpPr/>
              <p:nvPr/>
            </p:nvSpPr>
            <p:spPr>
              <a:xfrm>
                <a:off x="6248520" y="521964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52"/>
              <p:cNvSpPr/>
              <p:nvPr/>
            </p:nvSpPr>
            <p:spPr>
              <a:xfrm flipV="1">
                <a:off x="6281640" y="5208120"/>
                <a:ext cx="3168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53"/>
              <p:cNvSpPr/>
              <p:nvPr/>
            </p:nvSpPr>
            <p:spPr>
              <a:xfrm flipV="1">
                <a:off x="6313320" y="5196960"/>
                <a:ext cx="2232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54"/>
              <p:cNvSpPr/>
              <p:nvPr/>
            </p:nvSpPr>
            <p:spPr>
              <a:xfrm flipV="1">
                <a:off x="6335640" y="5186520"/>
                <a:ext cx="33480" cy="10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55"/>
              <p:cNvSpPr/>
              <p:nvPr/>
            </p:nvSpPr>
            <p:spPr>
              <a:xfrm flipV="1">
                <a:off x="6369120" y="5175000"/>
                <a:ext cx="3168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6"/>
              <p:cNvSpPr/>
              <p:nvPr/>
            </p:nvSpPr>
            <p:spPr>
              <a:xfrm flipV="1">
                <a:off x="6400800" y="5154480"/>
                <a:ext cx="22320" cy="2088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7"/>
              <p:cNvSpPr/>
              <p:nvPr/>
            </p:nvSpPr>
            <p:spPr>
              <a:xfrm flipV="1">
                <a:off x="6423120" y="5132160"/>
                <a:ext cx="33120" cy="219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8"/>
              <p:cNvSpPr/>
              <p:nvPr/>
            </p:nvSpPr>
            <p:spPr>
              <a:xfrm flipV="1">
                <a:off x="6456240" y="5100120"/>
                <a:ext cx="33480" cy="3204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9"/>
              <p:cNvSpPr/>
              <p:nvPr/>
            </p:nvSpPr>
            <p:spPr>
              <a:xfrm flipV="1">
                <a:off x="6489720" y="5055840"/>
                <a:ext cx="31680" cy="4428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0"/>
              <p:cNvSpPr/>
              <p:nvPr/>
            </p:nvSpPr>
            <p:spPr>
              <a:xfrm flipV="1">
                <a:off x="6521400" y="5002200"/>
                <a:ext cx="22320" cy="540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1"/>
              <p:cNvSpPr/>
              <p:nvPr/>
            </p:nvSpPr>
            <p:spPr>
              <a:xfrm flipV="1">
                <a:off x="6543720" y="4916520"/>
                <a:ext cx="33120" cy="8568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62"/>
              <p:cNvSpPr/>
              <p:nvPr/>
            </p:nvSpPr>
            <p:spPr>
              <a:xfrm flipV="1">
                <a:off x="6576840" y="4786200"/>
                <a:ext cx="33480" cy="13032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63"/>
              <p:cNvSpPr/>
              <p:nvPr/>
            </p:nvSpPr>
            <p:spPr>
              <a:xfrm flipV="1">
                <a:off x="6610320" y="4601880"/>
                <a:ext cx="20520" cy="1839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64"/>
              <p:cNvSpPr/>
              <p:nvPr/>
            </p:nvSpPr>
            <p:spPr>
              <a:xfrm flipV="1">
                <a:off x="6630840" y="4343040"/>
                <a:ext cx="33480" cy="25884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5"/>
              <p:cNvSpPr/>
              <p:nvPr/>
            </p:nvSpPr>
            <p:spPr>
              <a:xfrm flipV="1">
                <a:off x="6664320" y="4060440"/>
                <a:ext cx="33480" cy="2826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6"/>
              <p:cNvSpPr/>
              <p:nvPr/>
            </p:nvSpPr>
            <p:spPr>
              <a:xfrm flipV="1">
                <a:off x="6697800" y="3931920"/>
                <a:ext cx="31680" cy="12852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7"/>
              <p:cNvSpPr/>
              <p:nvPr/>
            </p:nvSpPr>
            <p:spPr>
              <a:xfrm>
                <a:off x="6729480" y="3932280"/>
                <a:ext cx="22320" cy="12852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6751800" y="4060800"/>
                <a:ext cx="33120" cy="2826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69"/>
              <p:cNvSpPr/>
              <p:nvPr/>
            </p:nvSpPr>
            <p:spPr>
              <a:xfrm>
                <a:off x="6784920" y="4343400"/>
                <a:ext cx="33480" cy="25884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0"/>
              <p:cNvSpPr/>
              <p:nvPr/>
            </p:nvSpPr>
            <p:spPr>
              <a:xfrm>
                <a:off x="6818400" y="4602240"/>
                <a:ext cx="20520" cy="1839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1"/>
              <p:cNvSpPr/>
              <p:nvPr/>
            </p:nvSpPr>
            <p:spPr>
              <a:xfrm>
                <a:off x="6838920" y="4786200"/>
                <a:ext cx="33480" cy="13032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72"/>
              <p:cNvSpPr/>
              <p:nvPr/>
            </p:nvSpPr>
            <p:spPr>
              <a:xfrm>
                <a:off x="6872400" y="4916520"/>
                <a:ext cx="33120" cy="8568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73"/>
              <p:cNvSpPr/>
              <p:nvPr/>
            </p:nvSpPr>
            <p:spPr>
              <a:xfrm>
                <a:off x="6905520" y="5002200"/>
                <a:ext cx="22320" cy="540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74"/>
              <p:cNvSpPr/>
              <p:nvPr/>
            </p:nvSpPr>
            <p:spPr>
              <a:xfrm>
                <a:off x="6927840" y="5056200"/>
                <a:ext cx="31680" cy="4428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75"/>
              <p:cNvSpPr/>
              <p:nvPr/>
            </p:nvSpPr>
            <p:spPr>
              <a:xfrm>
                <a:off x="6959520" y="5100480"/>
                <a:ext cx="33480" cy="3204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6"/>
              <p:cNvSpPr/>
              <p:nvPr/>
            </p:nvSpPr>
            <p:spPr>
              <a:xfrm>
                <a:off x="6993000" y="5132520"/>
                <a:ext cx="33120" cy="219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77"/>
              <p:cNvSpPr/>
              <p:nvPr/>
            </p:nvSpPr>
            <p:spPr>
              <a:xfrm>
                <a:off x="7026120" y="5154480"/>
                <a:ext cx="22320" cy="2088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8"/>
              <p:cNvSpPr/>
              <p:nvPr/>
            </p:nvSpPr>
            <p:spPr>
              <a:xfrm>
                <a:off x="7048440" y="5175360"/>
                <a:ext cx="3168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79"/>
              <p:cNvSpPr/>
              <p:nvPr/>
            </p:nvSpPr>
            <p:spPr>
              <a:xfrm>
                <a:off x="7080120" y="5186520"/>
                <a:ext cx="33480" cy="10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80"/>
              <p:cNvSpPr/>
              <p:nvPr/>
            </p:nvSpPr>
            <p:spPr>
              <a:xfrm>
                <a:off x="7113600" y="5197320"/>
                <a:ext cx="2232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81"/>
              <p:cNvSpPr/>
              <p:nvPr/>
            </p:nvSpPr>
            <p:spPr>
              <a:xfrm>
                <a:off x="7135920" y="5208480"/>
                <a:ext cx="3168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82"/>
              <p:cNvSpPr/>
              <p:nvPr/>
            </p:nvSpPr>
            <p:spPr>
              <a:xfrm>
                <a:off x="7167600" y="521964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83"/>
              <p:cNvSpPr/>
              <p:nvPr/>
            </p:nvSpPr>
            <p:spPr>
              <a:xfrm>
                <a:off x="7201080" y="521964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84"/>
              <p:cNvSpPr/>
              <p:nvPr/>
            </p:nvSpPr>
            <p:spPr>
              <a:xfrm>
                <a:off x="7234200" y="5219640"/>
                <a:ext cx="22320" cy="972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85"/>
              <p:cNvSpPr/>
              <p:nvPr/>
            </p:nvSpPr>
            <p:spPr>
              <a:xfrm>
                <a:off x="7256520" y="5229360"/>
                <a:ext cx="31680" cy="10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86"/>
              <p:cNvSpPr/>
              <p:nvPr/>
            </p:nvSpPr>
            <p:spPr>
              <a:xfrm>
                <a:off x="7288200" y="524016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87"/>
              <p:cNvSpPr/>
              <p:nvPr/>
            </p:nvSpPr>
            <p:spPr>
              <a:xfrm>
                <a:off x="7321680" y="5240160"/>
                <a:ext cx="2196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8"/>
              <p:cNvSpPr/>
              <p:nvPr/>
            </p:nvSpPr>
            <p:spPr>
              <a:xfrm>
                <a:off x="7343640" y="524016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89"/>
              <p:cNvSpPr/>
              <p:nvPr/>
            </p:nvSpPr>
            <p:spPr>
              <a:xfrm>
                <a:off x="7377120" y="524016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90"/>
              <p:cNvSpPr/>
              <p:nvPr/>
            </p:nvSpPr>
            <p:spPr>
              <a:xfrm>
                <a:off x="7408800" y="5240160"/>
                <a:ext cx="3348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91"/>
              <p:cNvSpPr/>
              <p:nvPr/>
            </p:nvSpPr>
            <p:spPr>
              <a:xfrm>
                <a:off x="7442280" y="525132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92"/>
              <p:cNvSpPr/>
              <p:nvPr/>
            </p:nvSpPr>
            <p:spPr>
              <a:xfrm>
                <a:off x="7464600" y="525132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3"/>
              <p:cNvSpPr/>
              <p:nvPr/>
            </p:nvSpPr>
            <p:spPr>
              <a:xfrm>
                <a:off x="7496280" y="525132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94"/>
              <p:cNvSpPr/>
              <p:nvPr/>
            </p:nvSpPr>
            <p:spPr>
              <a:xfrm>
                <a:off x="7529400" y="525132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95"/>
              <p:cNvSpPr/>
              <p:nvPr/>
            </p:nvSpPr>
            <p:spPr>
              <a:xfrm>
                <a:off x="755172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96"/>
              <p:cNvSpPr/>
              <p:nvPr/>
            </p:nvSpPr>
            <p:spPr>
              <a:xfrm>
                <a:off x="7585200" y="525132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97"/>
              <p:cNvSpPr/>
              <p:nvPr/>
            </p:nvSpPr>
            <p:spPr>
              <a:xfrm>
                <a:off x="7616880" y="525132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98"/>
              <p:cNvSpPr/>
              <p:nvPr/>
            </p:nvSpPr>
            <p:spPr>
              <a:xfrm>
                <a:off x="7650000" y="525132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99"/>
              <p:cNvSpPr/>
              <p:nvPr/>
            </p:nvSpPr>
            <p:spPr>
              <a:xfrm>
                <a:off x="767232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00"/>
              <p:cNvSpPr/>
              <p:nvPr/>
            </p:nvSpPr>
            <p:spPr>
              <a:xfrm>
                <a:off x="7705800" y="5251320"/>
                <a:ext cx="316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01"/>
              <p:cNvSpPr/>
              <p:nvPr/>
            </p:nvSpPr>
            <p:spPr>
              <a:xfrm>
                <a:off x="7737480" y="525132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02"/>
              <p:cNvSpPr/>
              <p:nvPr/>
            </p:nvSpPr>
            <p:spPr>
              <a:xfrm>
                <a:off x="7759800" y="525132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3"/>
              <p:cNvSpPr/>
              <p:nvPr/>
            </p:nvSpPr>
            <p:spPr>
              <a:xfrm>
                <a:off x="7792920" y="525132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4"/>
              <p:cNvSpPr/>
              <p:nvPr/>
            </p:nvSpPr>
            <p:spPr>
              <a:xfrm>
                <a:off x="7826400" y="5251320"/>
                <a:ext cx="20520" cy="1116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5"/>
              <p:cNvSpPr/>
              <p:nvPr/>
            </p:nvSpPr>
            <p:spPr>
              <a:xfrm>
                <a:off x="784692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06"/>
              <p:cNvSpPr/>
              <p:nvPr/>
            </p:nvSpPr>
            <p:spPr>
              <a:xfrm>
                <a:off x="7880400" y="526248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07"/>
              <p:cNvSpPr/>
              <p:nvPr/>
            </p:nvSpPr>
            <p:spPr>
              <a:xfrm>
                <a:off x="7913520" y="5262480"/>
                <a:ext cx="3204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08"/>
              <p:cNvSpPr/>
              <p:nvPr/>
            </p:nvSpPr>
            <p:spPr>
              <a:xfrm>
                <a:off x="7945560" y="5262480"/>
                <a:ext cx="2196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09"/>
              <p:cNvSpPr/>
              <p:nvPr/>
            </p:nvSpPr>
            <p:spPr>
              <a:xfrm>
                <a:off x="796752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10"/>
              <p:cNvSpPr/>
              <p:nvPr/>
            </p:nvSpPr>
            <p:spPr>
              <a:xfrm>
                <a:off x="800100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11"/>
              <p:cNvSpPr/>
              <p:nvPr/>
            </p:nvSpPr>
            <p:spPr>
              <a:xfrm>
                <a:off x="8034480" y="5262480"/>
                <a:ext cx="205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12"/>
              <p:cNvSpPr/>
              <p:nvPr/>
            </p:nvSpPr>
            <p:spPr>
              <a:xfrm>
                <a:off x="805500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13"/>
              <p:cNvSpPr/>
              <p:nvPr/>
            </p:nvSpPr>
            <p:spPr>
              <a:xfrm>
                <a:off x="8088480" y="5262480"/>
                <a:ext cx="331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14"/>
              <p:cNvSpPr/>
              <p:nvPr/>
            </p:nvSpPr>
            <p:spPr>
              <a:xfrm>
                <a:off x="8121600" y="5262480"/>
                <a:ext cx="3348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5"/>
              <p:cNvSpPr/>
              <p:nvPr/>
            </p:nvSpPr>
            <p:spPr>
              <a:xfrm>
                <a:off x="8155080" y="5262480"/>
                <a:ext cx="205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16"/>
              <p:cNvSpPr/>
              <p:nvPr/>
            </p:nvSpPr>
            <p:spPr>
              <a:xfrm>
                <a:off x="8175600" y="5262480"/>
                <a:ext cx="22320" cy="1800"/>
              </a:xfrm>
              <a:prstGeom prst="line">
                <a:avLst/>
              </a:prstGeom>
              <a:ln w="22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17"/>
            <p:cNvGrpSpPr/>
            <p:nvPr/>
          </p:nvGrpSpPr>
          <p:grpSpPr>
            <a:xfrm>
              <a:off x="5273640" y="4602240"/>
              <a:ext cx="2924280" cy="1341360"/>
              <a:chOff x="5273640" y="4602240"/>
              <a:chExt cx="2924280" cy="1341360"/>
            </a:xfrm>
          </p:grpSpPr>
          <p:sp>
            <p:nvSpPr>
              <p:cNvPr id="153" name="Line 118"/>
              <p:cNvSpPr/>
              <p:nvPr/>
            </p:nvSpPr>
            <p:spPr>
              <a:xfrm>
                <a:off x="5273640" y="5186520"/>
                <a:ext cx="316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19"/>
              <p:cNvSpPr/>
              <p:nvPr/>
            </p:nvSpPr>
            <p:spPr>
              <a:xfrm>
                <a:off x="5305320" y="5186520"/>
                <a:ext cx="223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0"/>
              <p:cNvSpPr/>
              <p:nvPr/>
            </p:nvSpPr>
            <p:spPr>
              <a:xfrm>
                <a:off x="5327640" y="5186520"/>
                <a:ext cx="334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21"/>
              <p:cNvSpPr/>
              <p:nvPr/>
            </p:nvSpPr>
            <p:spPr>
              <a:xfrm>
                <a:off x="5361120" y="5186520"/>
                <a:ext cx="331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22"/>
              <p:cNvSpPr/>
              <p:nvPr/>
            </p:nvSpPr>
            <p:spPr>
              <a:xfrm flipV="1">
                <a:off x="5394240" y="5175000"/>
                <a:ext cx="208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23"/>
              <p:cNvSpPr/>
              <p:nvPr/>
            </p:nvSpPr>
            <p:spPr>
              <a:xfrm>
                <a:off x="5415120" y="5175360"/>
                <a:ext cx="331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24"/>
              <p:cNvSpPr/>
              <p:nvPr/>
            </p:nvSpPr>
            <p:spPr>
              <a:xfrm>
                <a:off x="5448240" y="5175360"/>
                <a:ext cx="334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5"/>
              <p:cNvSpPr/>
              <p:nvPr/>
            </p:nvSpPr>
            <p:spPr>
              <a:xfrm>
                <a:off x="5481720" y="5175360"/>
                <a:ext cx="223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6"/>
              <p:cNvSpPr/>
              <p:nvPr/>
            </p:nvSpPr>
            <p:spPr>
              <a:xfrm>
                <a:off x="5504040" y="5175360"/>
                <a:ext cx="316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27"/>
              <p:cNvSpPr/>
              <p:nvPr/>
            </p:nvSpPr>
            <p:spPr>
              <a:xfrm>
                <a:off x="5535720" y="5175360"/>
                <a:ext cx="331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28"/>
              <p:cNvSpPr/>
              <p:nvPr/>
            </p:nvSpPr>
            <p:spPr>
              <a:xfrm flipV="1">
                <a:off x="5568840" y="5165280"/>
                <a:ext cx="33480" cy="97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29"/>
              <p:cNvSpPr/>
              <p:nvPr/>
            </p:nvSpPr>
            <p:spPr>
              <a:xfrm>
                <a:off x="5602320" y="5165640"/>
                <a:ext cx="205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30"/>
              <p:cNvSpPr/>
              <p:nvPr/>
            </p:nvSpPr>
            <p:spPr>
              <a:xfrm flipV="1">
                <a:off x="5622840" y="515412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31"/>
              <p:cNvSpPr/>
              <p:nvPr/>
            </p:nvSpPr>
            <p:spPr>
              <a:xfrm>
                <a:off x="5656320" y="5154480"/>
                <a:ext cx="331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32"/>
              <p:cNvSpPr/>
              <p:nvPr/>
            </p:nvSpPr>
            <p:spPr>
              <a:xfrm>
                <a:off x="5689440" y="5154480"/>
                <a:ext cx="223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33"/>
              <p:cNvSpPr/>
              <p:nvPr/>
            </p:nvSpPr>
            <p:spPr>
              <a:xfrm>
                <a:off x="5711760" y="5154480"/>
                <a:ext cx="316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34"/>
              <p:cNvSpPr/>
              <p:nvPr/>
            </p:nvSpPr>
            <p:spPr>
              <a:xfrm flipV="1">
                <a:off x="5743440" y="5143680"/>
                <a:ext cx="33480" cy="10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35"/>
              <p:cNvSpPr/>
              <p:nvPr/>
            </p:nvSpPr>
            <p:spPr>
              <a:xfrm>
                <a:off x="5776920" y="5143680"/>
                <a:ext cx="334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36"/>
              <p:cNvSpPr/>
              <p:nvPr/>
            </p:nvSpPr>
            <p:spPr>
              <a:xfrm>
                <a:off x="5810400" y="5143680"/>
                <a:ext cx="2196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37"/>
              <p:cNvSpPr/>
              <p:nvPr/>
            </p:nvSpPr>
            <p:spPr>
              <a:xfrm flipV="1">
                <a:off x="5832360" y="5132160"/>
                <a:ext cx="3204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38"/>
              <p:cNvSpPr/>
              <p:nvPr/>
            </p:nvSpPr>
            <p:spPr>
              <a:xfrm flipV="1">
                <a:off x="5864400" y="5121000"/>
                <a:ext cx="331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39"/>
              <p:cNvSpPr/>
              <p:nvPr/>
            </p:nvSpPr>
            <p:spPr>
              <a:xfrm>
                <a:off x="5897520" y="5121360"/>
                <a:ext cx="223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40"/>
              <p:cNvSpPr/>
              <p:nvPr/>
            </p:nvSpPr>
            <p:spPr>
              <a:xfrm>
                <a:off x="5919840" y="5121360"/>
                <a:ext cx="316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41"/>
              <p:cNvSpPr/>
              <p:nvPr/>
            </p:nvSpPr>
            <p:spPr>
              <a:xfrm flipV="1">
                <a:off x="5951520" y="510984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42"/>
              <p:cNvSpPr/>
              <p:nvPr/>
            </p:nvSpPr>
            <p:spPr>
              <a:xfrm>
                <a:off x="5985000" y="5110200"/>
                <a:ext cx="331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43"/>
              <p:cNvSpPr/>
              <p:nvPr/>
            </p:nvSpPr>
            <p:spPr>
              <a:xfrm flipV="1">
                <a:off x="6018120" y="5100120"/>
                <a:ext cx="22320" cy="97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44"/>
              <p:cNvSpPr/>
              <p:nvPr/>
            </p:nvSpPr>
            <p:spPr>
              <a:xfrm flipV="1">
                <a:off x="6040440" y="5089680"/>
                <a:ext cx="31680" cy="10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5"/>
              <p:cNvSpPr/>
              <p:nvPr/>
            </p:nvSpPr>
            <p:spPr>
              <a:xfrm flipV="1">
                <a:off x="6072120" y="507816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46"/>
              <p:cNvSpPr/>
              <p:nvPr/>
            </p:nvSpPr>
            <p:spPr>
              <a:xfrm flipV="1">
                <a:off x="6105600" y="5067000"/>
                <a:ext cx="223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47"/>
              <p:cNvSpPr/>
              <p:nvPr/>
            </p:nvSpPr>
            <p:spPr>
              <a:xfrm>
                <a:off x="6127920" y="5067360"/>
                <a:ext cx="331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48"/>
              <p:cNvSpPr/>
              <p:nvPr/>
            </p:nvSpPr>
            <p:spPr>
              <a:xfrm flipV="1">
                <a:off x="6161040" y="5055840"/>
                <a:ext cx="316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49"/>
              <p:cNvSpPr/>
              <p:nvPr/>
            </p:nvSpPr>
            <p:spPr>
              <a:xfrm flipV="1">
                <a:off x="6192720" y="5035320"/>
                <a:ext cx="22320" cy="205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50"/>
              <p:cNvSpPr/>
              <p:nvPr/>
            </p:nvSpPr>
            <p:spPr>
              <a:xfrm flipV="1">
                <a:off x="6215040" y="502416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51"/>
              <p:cNvSpPr/>
              <p:nvPr/>
            </p:nvSpPr>
            <p:spPr>
              <a:xfrm flipV="1">
                <a:off x="6248520" y="5013000"/>
                <a:ext cx="331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52"/>
              <p:cNvSpPr/>
              <p:nvPr/>
            </p:nvSpPr>
            <p:spPr>
              <a:xfrm flipV="1">
                <a:off x="6281640" y="4991040"/>
                <a:ext cx="31680" cy="223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53"/>
              <p:cNvSpPr/>
              <p:nvPr/>
            </p:nvSpPr>
            <p:spPr>
              <a:xfrm flipV="1">
                <a:off x="6313320" y="4981680"/>
                <a:ext cx="22320" cy="93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54"/>
              <p:cNvSpPr/>
              <p:nvPr/>
            </p:nvSpPr>
            <p:spPr>
              <a:xfrm flipV="1">
                <a:off x="6335640" y="4959360"/>
                <a:ext cx="33480" cy="223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55"/>
              <p:cNvSpPr/>
              <p:nvPr/>
            </p:nvSpPr>
            <p:spPr>
              <a:xfrm flipV="1">
                <a:off x="6369120" y="4937040"/>
                <a:ext cx="31680" cy="223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56"/>
              <p:cNvSpPr/>
              <p:nvPr/>
            </p:nvSpPr>
            <p:spPr>
              <a:xfrm flipV="1">
                <a:off x="6400800" y="4905360"/>
                <a:ext cx="22320" cy="3168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57"/>
              <p:cNvSpPr/>
              <p:nvPr/>
            </p:nvSpPr>
            <p:spPr>
              <a:xfrm flipV="1">
                <a:off x="6423120" y="4873680"/>
                <a:ext cx="33120" cy="3168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58"/>
              <p:cNvSpPr/>
              <p:nvPr/>
            </p:nvSpPr>
            <p:spPr>
              <a:xfrm flipV="1">
                <a:off x="6456240" y="4829040"/>
                <a:ext cx="33480" cy="446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59"/>
              <p:cNvSpPr/>
              <p:nvPr/>
            </p:nvSpPr>
            <p:spPr>
              <a:xfrm flipV="1">
                <a:off x="6489720" y="4785840"/>
                <a:ext cx="31680" cy="428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60"/>
              <p:cNvSpPr/>
              <p:nvPr/>
            </p:nvSpPr>
            <p:spPr>
              <a:xfrm flipV="1">
                <a:off x="6521400" y="4732200"/>
                <a:ext cx="2232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61"/>
              <p:cNvSpPr/>
              <p:nvPr/>
            </p:nvSpPr>
            <p:spPr>
              <a:xfrm flipV="1">
                <a:off x="6543720" y="4678200"/>
                <a:ext cx="3312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62"/>
              <p:cNvSpPr/>
              <p:nvPr/>
            </p:nvSpPr>
            <p:spPr>
              <a:xfrm flipV="1">
                <a:off x="6576840" y="4624200"/>
                <a:ext cx="33480" cy="536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3"/>
              <p:cNvSpPr/>
              <p:nvPr/>
            </p:nvSpPr>
            <p:spPr>
              <a:xfrm flipV="1">
                <a:off x="6610320" y="4602240"/>
                <a:ext cx="20520" cy="223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4"/>
              <p:cNvSpPr/>
              <p:nvPr/>
            </p:nvSpPr>
            <p:spPr>
              <a:xfrm>
                <a:off x="6630840" y="4602240"/>
                <a:ext cx="3348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65"/>
              <p:cNvSpPr/>
              <p:nvPr/>
            </p:nvSpPr>
            <p:spPr>
              <a:xfrm>
                <a:off x="6664320" y="4656240"/>
                <a:ext cx="33480" cy="217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66"/>
              <p:cNvSpPr/>
              <p:nvPr/>
            </p:nvSpPr>
            <p:spPr>
              <a:xfrm>
                <a:off x="6697800" y="4873680"/>
                <a:ext cx="31680" cy="3999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67"/>
              <p:cNvSpPr/>
              <p:nvPr/>
            </p:nvSpPr>
            <p:spPr>
              <a:xfrm>
                <a:off x="6729480" y="5273640"/>
                <a:ext cx="22320" cy="3999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68"/>
              <p:cNvSpPr/>
              <p:nvPr/>
            </p:nvSpPr>
            <p:spPr>
              <a:xfrm>
                <a:off x="6751800" y="5673600"/>
                <a:ext cx="33120" cy="216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69"/>
              <p:cNvSpPr/>
              <p:nvPr/>
            </p:nvSpPr>
            <p:spPr>
              <a:xfrm>
                <a:off x="6784920" y="5889600"/>
                <a:ext cx="3348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70"/>
              <p:cNvSpPr/>
              <p:nvPr/>
            </p:nvSpPr>
            <p:spPr>
              <a:xfrm flipV="1">
                <a:off x="6818400" y="5911920"/>
                <a:ext cx="20520" cy="3168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71"/>
              <p:cNvSpPr/>
              <p:nvPr/>
            </p:nvSpPr>
            <p:spPr>
              <a:xfrm flipV="1">
                <a:off x="6838920" y="5857920"/>
                <a:ext cx="3348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72"/>
              <p:cNvSpPr/>
              <p:nvPr/>
            </p:nvSpPr>
            <p:spPr>
              <a:xfrm flipV="1">
                <a:off x="6872400" y="5803920"/>
                <a:ext cx="3312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73"/>
              <p:cNvSpPr/>
              <p:nvPr/>
            </p:nvSpPr>
            <p:spPr>
              <a:xfrm flipV="1">
                <a:off x="6905520" y="5749920"/>
                <a:ext cx="22320" cy="540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4"/>
              <p:cNvSpPr/>
              <p:nvPr/>
            </p:nvSpPr>
            <p:spPr>
              <a:xfrm flipV="1">
                <a:off x="6927840" y="5705280"/>
                <a:ext cx="31680" cy="4428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75"/>
              <p:cNvSpPr/>
              <p:nvPr/>
            </p:nvSpPr>
            <p:spPr>
              <a:xfrm flipV="1">
                <a:off x="6959520" y="5673240"/>
                <a:ext cx="33480" cy="320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76"/>
              <p:cNvSpPr/>
              <p:nvPr/>
            </p:nvSpPr>
            <p:spPr>
              <a:xfrm flipV="1">
                <a:off x="6993000" y="5640480"/>
                <a:ext cx="33120" cy="331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77"/>
              <p:cNvSpPr/>
              <p:nvPr/>
            </p:nvSpPr>
            <p:spPr>
              <a:xfrm flipV="1">
                <a:off x="7026120" y="5608800"/>
                <a:ext cx="22320" cy="3168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78"/>
              <p:cNvSpPr/>
              <p:nvPr/>
            </p:nvSpPr>
            <p:spPr>
              <a:xfrm flipV="1">
                <a:off x="7048440" y="5586480"/>
                <a:ext cx="31680" cy="223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79"/>
              <p:cNvSpPr/>
              <p:nvPr/>
            </p:nvSpPr>
            <p:spPr>
              <a:xfrm flipV="1">
                <a:off x="7080120" y="5565600"/>
                <a:ext cx="33480" cy="2088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80"/>
              <p:cNvSpPr/>
              <p:nvPr/>
            </p:nvSpPr>
            <p:spPr>
              <a:xfrm flipV="1">
                <a:off x="7113600" y="5543280"/>
                <a:ext cx="22320" cy="219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81"/>
              <p:cNvSpPr/>
              <p:nvPr/>
            </p:nvSpPr>
            <p:spPr>
              <a:xfrm flipV="1">
                <a:off x="7135920" y="5521320"/>
                <a:ext cx="31680" cy="2232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82"/>
              <p:cNvSpPr/>
              <p:nvPr/>
            </p:nvSpPr>
            <p:spPr>
              <a:xfrm flipV="1">
                <a:off x="7167600" y="5511960"/>
                <a:ext cx="33480" cy="93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83"/>
              <p:cNvSpPr/>
              <p:nvPr/>
            </p:nvSpPr>
            <p:spPr>
              <a:xfrm flipV="1">
                <a:off x="7201080" y="5500440"/>
                <a:ext cx="331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84"/>
              <p:cNvSpPr/>
              <p:nvPr/>
            </p:nvSpPr>
            <p:spPr>
              <a:xfrm flipV="1">
                <a:off x="7234200" y="5489280"/>
                <a:ext cx="223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85"/>
              <p:cNvSpPr/>
              <p:nvPr/>
            </p:nvSpPr>
            <p:spPr>
              <a:xfrm flipV="1">
                <a:off x="7256520" y="5478120"/>
                <a:ext cx="316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6"/>
              <p:cNvSpPr/>
              <p:nvPr/>
            </p:nvSpPr>
            <p:spPr>
              <a:xfrm flipV="1">
                <a:off x="7288200" y="546696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7"/>
              <p:cNvSpPr/>
              <p:nvPr/>
            </p:nvSpPr>
            <p:spPr>
              <a:xfrm flipV="1">
                <a:off x="7321680" y="5457960"/>
                <a:ext cx="21960" cy="93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88"/>
              <p:cNvSpPr/>
              <p:nvPr/>
            </p:nvSpPr>
            <p:spPr>
              <a:xfrm flipV="1">
                <a:off x="7343640" y="544644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89"/>
              <p:cNvSpPr/>
              <p:nvPr/>
            </p:nvSpPr>
            <p:spPr>
              <a:xfrm flipV="1">
                <a:off x="7377120" y="5435280"/>
                <a:ext cx="316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90"/>
              <p:cNvSpPr/>
              <p:nvPr/>
            </p:nvSpPr>
            <p:spPr>
              <a:xfrm>
                <a:off x="7408800" y="5435640"/>
                <a:ext cx="334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1"/>
              <p:cNvSpPr/>
              <p:nvPr/>
            </p:nvSpPr>
            <p:spPr>
              <a:xfrm flipV="1">
                <a:off x="7442280" y="5424120"/>
                <a:ext cx="223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92"/>
              <p:cNvSpPr/>
              <p:nvPr/>
            </p:nvSpPr>
            <p:spPr>
              <a:xfrm>
                <a:off x="7464600" y="5424480"/>
                <a:ext cx="316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93"/>
              <p:cNvSpPr/>
              <p:nvPr/>
            </p:nvSpPr>
            <p:spPr>
              <a:xfrm flipV="1">
                <a:off x="7496280" y="5412960"/>
                <a:ext cx="331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94"/>
              <p:cNvSpPr/>
              <p:nvPr/>
            </p:nvSpPr>
            <p:spPr>
              <a:xfrm flipV="1">
                <a:off x="7529400" y="5401800"/>
                <a:ext cx="223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95"/>
              <p:cNvSpPr/>
              <p:nvPr/>
            </p:nvSpPr>
            <p:spPr>
              <a:xfrm>
                <a:off x="7551720" y="5402160"/>
                <a:ext cx="334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96"/>
              <p:cNvSpPr/>
              <p:nvPr/>
            </p:nvSpPr>
            <p:spPr>
              <a:xfrm>
                <a:off x="7585200" y="5402160"/>
                <a:ext cx="316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7"/>
              <p:cNvSpPr/>
              <p:nvPr/>
            </p:nvSpPr>
            <p:spPr>
              <a:xfrm flipV="1">
                <a:off x="7616880" y="5392800"/>
                <a:ext cx="33120" cy="93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98"/>
              <p:cNvSpPr/>
              <p:nvPr/>
            </p:nvSpPr>
            <p:spPr>
              <a:xfrm>
                <a:off x="7650000" y="5392800"/>
                <a:ext cx="223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99"/>
              <p:cNvSpPr/>
              <p:nvPr/>
            </p:nvSpPr>
            <p:spPr>
              <a:xfrm>
                <a:off x="7672320" y="5392800"/>
                <a:ext cx="334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00"/>
              <p:cNvSpPr/>
              <p:nvPr/>
            </p:nvSpPr>
            <p:spPr>
              <a:xfrm>
                <a:off x="7705800" y="5392800"/>
                <a:ext cx="316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01"/>
              <p:cNvSpPr/>
              <p:nvPr/>
            </p:nvSpPr>
            <p:spPr>
              <a:xfrm flipV="1">
                <a:off x="7737480" y="5381280"/>
                <a:ext cx="223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02"/>
              <p:cNvSpPr/>
              <p:nvPr/>
            </p:nvSpPr>
            <p:spPr>
              <a:xfrm>
                <a:off x="7759800" y="5381640"/>
                <a:ext cx="331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203"/>
              <p:cNvSpPr/>
              <p:nvPr/>
            </p:nvSpPr>
            <p:spPr>
              <a:xfrm>
                <a:off x="7792920" y="5381640"/>
                <a:ext cx="3348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204"/>
              <p:cNvSpPr/>
              <p:nvPr/>
            </p:nvSpPr>
            <p:spPr>
              <a:xfrm>
                <a:off x="7826400" y="5381640"/>
                <a:ext cx="20520" cy="14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205"/>
              <p:cNvSpPr/>
              <p:nvPr/>
            </p:nvSpPr>
            <p:spPr>
              <a:xfrm flipV="1">
                <a:off x="7846920" y="5370120"/>
                <a:ext cx="3348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06"/>
              <p:cNvSpPr/>
              <p:nvPr/>
            </p:nvSpPr>
            <p:spPr>
              <a:xfrm>
                <a:off x="7880400" y="5370480"/>
                <a:ext cx="331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07"/>
              <p:cNvSpPr/>
              <p:nvPr/>
            </p:nvSpPr>
            <p:spPr>
              <a:xfrm flipV="1">
                <a:off x="7913520" y="5358960"/>
                <a:ext cx="3204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08"/>
              <p:cNvSpPr/>
              <p:nvPr/>
            </p:nvSpPr>
            <p:spPr>
              <a:xfrm>
                <a:off x="7945560" y="5359320"/>
                <a:ext cx="2196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09"/>
              <p:cNvSpPr/>
              <p:nvPr/>
            </p:nvSpPr>
            <p:spPr>
              <a:xfrm>
                <a:off x="7967520" y="5359320"/>
                <a:ext cx="334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10"/>
              <p:cNvSpPr/>
              <p:nvPr/>
            </p:nvSpPr>
            <p:spPr>
              <a:xfrm>
                <a:off x="8001000" y="5359320"/>
                <a:ext cx="334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11"/>
              <p:cNvSpPr/>
              <p:nvPr/>
            </p:nvSpPr>
            <p:spPr>
              <a:xfrm>
                <a:off x="8034480" y="5359320"/>
                <a:ext cx="205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12"/>
              <p:cNvSpPr/>
              <p:nvPr/>
            </p:nvSpPr>
            <p:spPr>
              <a:xfrm>
                <a:off x="8055000" y="5359320"/>
                <a:ext cx="334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13"/>
              <p:cNvSpPr/>
              <p:nvPr/>
            </p:nvSpPr>
            <p:spPr>
              <a:xfrm flipV="1">
                <a:off x="8088480" y="5347800"/>
                <a:ext cx="33120" cy="1116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14"/>
              <p:cNvSpPr/>
              <p:nvPr/>
            </p:nvSpPr>
            <p:spPr>
              <a:xfrm>
                <a:off x="8121600" y="5348160"/>
                <a:ext cx="3348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15"/>
              <p:cNvSpPr/>
              <p:nvPr/>
            </p:nvSpPr>
            <p:spPr>
              <a:xfrm>
                <a:off x="8155080" y="5348160"/>
                <a:ext cx="205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16"/>
              <p:cNvSpPr/>
              <p:nvPr/>
            </p:nvSpPr>
            <p:spPr>
              <a:xfrm>
                <a:off x="8175600" y="5348160"/>
                <a:ext cx="22320" cy="180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51"/>
            <p:cNvGrpSpPr/>
            <p:nvPr/>
          </p:nvGrpSpPr>
          <p:grpSpPr>
            <a:xfrm>
              <a:off x="5240160" y="3932280"/>
              <a:ext cx="11160" cy="2143080"/>
              <a:chOff x="5240160" y="3932280"/>
              <a:chExt cx="11160" cy="2143080"/>
            </a:xfrm>
          </p:grpSpPr>
          <p:sp>
            <p:nvSpPr>
              <p:cNvPr id="253" name="Line 218"/>
              <p:cNvSpPr/>
              <p:nvPr/>
            </p:nvSpPr>
            <p:spPr>
              <a:xfrm>
                <a:off x="5240160" y="607392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219"/>
              <p:cNvSpPr/>
              <p:nvPr/>
            </p:nvSpPr>
            <p:spPr>
              <a:xfrm>
                <a:off x="5240160" y="580392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20"/>
              <p:cNvSpPr/>
              <p:nvPr/>
            </p:nvSpPr>
            <p:spPr>
              <a:xfrm>
                <a:off x="5240160" y="5543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21"/>
              <p:cNvSpPr/>
              <p:nvPr/>
            </p:nvSpPr>
            <p:spPr>
              <a:xfrm>
                <a:off x="5240160" y="527364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222"/>
              <p:cNvSpPr/>
              <p:nvPr/>
            </p:nvSpPr>
            <p:spPr>
              <a:xfrm>
                <a:off x="5240160" y="50022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23"/>
              <p:cNvSpPr/>
              <p:nvPr/>
            </p:nvSpPr>
            <p:spPr>
              <a:xfrm>
                <a:off x="5240160" y="473220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24"/>
              <p:cNvSpPr/>
              <p:nvPr/>
            </p:nvSpPr>
            <p:spPr>
              <a:xfrm>
                <a:off x="5240160" y="447192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25"/>
              <p:cNvSpPr/>
              <p:nvPr/>
            </p:nvSpPr>
            <p:spPr>
              <a:xfrm>
                <a:off x="5240160" y="420228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5240160" y="393228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27"/>
              <p:cNvSpPr/>
              <p:nvPr/>
            </p:nvSpPr>
            <p:spPr>
              <a:xfrm>
                <a:off x="5240160" y="60087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28"/>
              <p:cNvSpPr/>
              <p:nvPr/>
            </p:nvSpPr>
            <p:spPr>
              <a:xfrm>
                <a:off x="5240160" y="5943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5240160" y="586728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5240160" y="573876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5240160" y="567360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5240160" y="5608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40160" y="546732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5240160" y="540216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5240160" y="5338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5240160" y="520848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5240160" y="513252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5240160" y="50673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5240160" y="493704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40"/>
              <p:cNvSpPr/>
              <p:nvPr/>
            </p:nvSpPr>
            <p:spPr>
              <a:xfrm>
                <a:off x="5240160" y="487368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41"/>
              <p:cNvSpPr/>
              <p:nvPr/>
            </p:nvSpPr>
            <p:spPr>
              <a:xfrm>
                <a:off x="5240160" y="480852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42"/>
              <p:cNvSpPr/>
              <p:nvPr/>
            </p:nvSpPr>
            <p:spPr>
              <a:xfrm>
                <a:off x="5240160" y="46674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5240160" y="46022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>
                <a:off x="5240160" y="453708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5240160" y="440676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46"/>
              <p:cNvSpPr/>
              <p:nvPr/>
            </p:nvSpPr>
            <p:spPr>
              <a:xfrm>
                <a:off x="5240160" y="433224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7"/>
              <p:cNvSpPr/>
              <p:nvPr/>
            </p:nvSpPr>
            <p:spPr>
              <a:xfrm>
                <a:off x="5240160" y="426708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5240160" y="413712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5240160" y="406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5240160" y="4006800"/>
                <a:ext cx="11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85"/>
            <p:cNvGrpSpPr/>
            <p:nvPr/>
          </p:nvGrpSpPr>
          <p:grpSpPr>
            <a:xfrm>
              <a:off x="8209080" y="3932280"/>
              <a:ext cx="1440" cy="2143080"/>
              <a:chOff x="8209080" y="3932280"/>
              <a:chExt cx="1440" cy="2143080"/>
            </a:xfrm>
          </p:grpSpPr>
          <p:sp>
            <p:nvSpPr>
              <p:cNvPr id="287" name="Line 252"/>
              <p:cNvSpPr/>
              <p:nvPr/>
            </p:nvSpPr>
            <p:spPr>
              <a:xfrm>
                <a:off x="82090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8209080" y="580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8209080" y="5543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8209080" y="52736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8209080" y="5002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8209080" y="47322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8209080" y="44719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259"/>
              <p:cNvSpPr/>
              <p:nvPr/>
            </p:nvSpPr>
            <p:spPr>
              <a:xfrm>
                <a:off x="8209080" y="420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60"/>
              <p:cNvSpPr/>
              <p:nvPr/>
            </p:nvSpPr>
            <p:spPr>
              <a:xfrm>
                <a:off x="8209080" y="393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61"/>
              <p:cNvSpPr/>
              <p:nvPr/>
            </p:nvSpPr>
            <p:spPr>
              <a:xfrm>
                <a:off x="8209080" y="60087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>
                <a:off x="8209080" y="59436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>
                <a:off x="8209080" y="58672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8209080" y="5738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265"/>
              <p:cNvSpPr/>
              <p:nvPr/>
            </p:nvSpPr>
            <p:spPr>
              <a:xfrm>
                <a:off x="8209080" y="56736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66"/>
              <p:cNvSpPr/>
              <p:nvPr/>
            </p:nvSpPr>
            <p:spPr>
              <a:xfrm>
                <a:off x="8209080" y="5608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8209080" y="54673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8209080" y="54021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8209080" y="5338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8209080" y="52084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8209080" y="5132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8209080" y="5067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8209080" y="4937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8209080" y="48736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8209080" y="4808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8209080" y="4667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8209080" y="46022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78"/>
              <p:cNvSpPr/>
              <p:nvPr/>
            </p:nvSpPr>
            <p:spPr>
              <a:xfrm>
                <a:off x="8209080" y="4537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79"/>
              <p:cNvSpPr/>
              <p:nvPr/>
            </p:nvSpPr>
            <p:spPr>
              <a:xfrm>
                <a:off x="8209080" y="4406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80"/>
              <p:cNvSpPr/>
              <p:nvPr/>
            </p:nvSpPr>
            <p:spPr>
              <a:xfrm>
                <a:off x="8209080" y="4332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8209080" y="42670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8209080" y="41371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83"/>
              <p:cNvSpPr/>
              <p:nvPr/>
            </p:nvSpPr>
            <p:spPr>
              <a:xfrm>
                <a:off x="8209080" y="4060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84"/>
              <p:cNvSpPr/>
              <p:nvPr/>
            </p:nvSpPr>
            <p:spPr>
              <a:xfrm>
                <a:off x="8209080" y="4006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307"/>
            <p:cNvGrpSpPr/>
            <p:nvPr/>
          </p:nvGrpSpPr>
          <p:grpSpPr>
            <a:xfrm>
              <a:off x="5240160" y="6073920"/>
              <a:ext cx="2970360" cy="1440"/>
              <a:chOff x="5240160" y="6073920"/>
              <a:chExt cx="2970360" cy="1440"/>
            </a:xfrm>
          </p:grpSpPr>
          <p:sp>
            <p:nvSpPr>
              <p:cNvPr id="321" name="Line 286"/>
              <p:cNvSpPr/>
              <p:nvPr/>
            </p:nvSpPr>
            <p:spPr>
              <a:xfrm>
                <a:off x="524016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58420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64342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702612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76168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82090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539424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55468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568944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5"/>
              <p:cNvSpPr/>
              <p:nvPr/>
            </p:nvSpPr>
            <p:spPr>
              <a:xfrm>
                <a:off x="598500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96"/>
              <p:cNvSpPr/>
              <p:nvPr/>
            </p:nvSpPr>
            <p:spPr>
              <a:xfrm>
                <a:off x="613872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628164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>
                <a:off x="657684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67294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00"/>
              <p:cNvSpPr/>
              <p:nvPr/>
            </p:nvSpPr>
            <p:spPr>
              <a:xfrm>
                <a:off x="687240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01"/>
              <p:cNvSpPr/>
              <p:nvPr/>
            </p:nvSpPr>
            <p:spPr>
              <a:xfrm>
                <a:off x="717876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732168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747540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777096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7913520" y="60739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8066160" y="60739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29"/>
            <p:cNvGrpSpPr/>
            <p:nvPr/>
          </p:nvGrpSpPr>
          <p:grpSpPr>
            <a:xfrm>
              <a:off x="5240160" y="3932280"/>
              <a:ext cx="2970360" cy="9360"/>
              <a:chOff x="5240160" y="3932280"/>
              <a:chExt cx="2970360" cy="9360"/>
            </a:xfrm>
          </p:grpSpPr>
          <p:sp>
            <p:nvSpPr>
              <p:cNvPr id="343" name="Line 308"/>
              <p:cNvSpPr/>
              <p:nvPr/>
            </p:nvSpPr>
            <p:spPr>
              <a:xfrm>
                <a:off x="524016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8420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64342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702612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76168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313"/>
              <p:cNvSpPr/>
              <p:nvPr/>
            </p:nvSpPr>
            <p:spPr>
              <a:xfrm>
                <a:off x="82090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14"/>
              <p:cNvSpPr/>
              <p:nvPr/>
            </p:nvSpPr>
            <p:spPr>
              <a:xfrm>
                <a:off x="539424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315"/>
              <p:cNvSpPr/>
              <p:nvPr/>
            </p:nvSpPr>
            <p:spPr>
              <a:xfrm>
                <a:off x="55468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>
                <a:off x="568944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17"/>
              <p:cNvSpPr/>
              <p:nvPr/>
            </p:nvSpPr>
            <p:spPr>
              <a:xfrm>
                <a:off x="598500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18"/>
              <p:cNvSpPr/>
              <p:nvPr/>
            </p:nvSpPr>
            <p:spPr>
              <a:xfrm>
                <a:off x="613872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319"/>
              <p:cNvSpPr/>
              <p:nvPr/>
            </p:nvSpPr>
            <p:spPr>
              <a:xfrm>
                <a:off x="628164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320"/>
              <p:cNvSpPr/>
              <p:nvPr/>
            </p:nvSpPr>
            <p:spPr>
              <a:xfrm>
                <a:off x="657684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21"/>
              <p:cNvSpPr/>
              <p:nvPr/>
            </p:nvSpPr>
            <p:spPr>
              <a:xfrm>
                <a:off x="67294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322"/>
              <p:cNvSpPr/>
              <p:nvPr/>
            </p:nvSpPr>
            <p:spPr>
              <a:xfrm>
                <a:off x="687240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323"/>
              <p:cNvSpPr/>
              <p:nvPr/>
            </p:nvSpPr>
            <p:spPr>
              <a:xfrm>
                <a:off x="717876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324"/>
              <p:cNvSpPr/>
              <p:nvPr/>
            </p:nvSpPr>
            <p:spPr>
              <a:xfrm>
                <a:off x="732168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325"/>
              <p:cNvSpPr/>
              <p:nvPr/>
            </p:nvSpPr>
            <p:spPr>
              <a:xfrm>
                <a:off x="747540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326"/>
              <p:cNvSpPr/>
              <p:nvPr/>
            </p:nvSpPr>
            <p:spPr>
              <a:xfrm>
                <a:off x="777096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327"/>
              <p:cNvSpPr/>
              <p:nvPr/>
            </p:nvSpPr>
            <p:spPr>
              <a:xfrm>
                <a:off x="7913520" y="393228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328"/>
              <p:cNvSpPr/>
              <p:nvPr/>
            </p:nvSpPr>
            <p:spPr>
              <a:xfrm>
                <a:off x="8066160" y="393228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Line 330"/>
            <p:cNvSpPr/>
            <p:nvPr/>
          </p:nvSpPr>
          <p:spPr>
            <a:xfrm flipV="1">
              <a:off x="5240160" y="3931920"/>
              <a:ext cx="1800" cy="2141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31"/>
            <p:cNvSpPr/>
            <p:nvPr/>
          </p:nvSpPr>
          <p:spPr>
            <a:xfrm flipV="1">
              <a:off x="8209080" y="3931920"/>
              <a:ext cx="1440" cy="2141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32"/>
            <p:cNvSpPr/>
            <p:nvPr/>
          </p:nvSpPr>
          <p:spPr>
            <a:xfrm>
              <a:off x="5240160" y="6073920"/>
              <a:ext cx="29689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33"/>
            <p:cNvSpPr/>
            <p:nvPr/>
          </p:nvSpPr>
          <p:spPr>
            <a:xfrm>
              <a:off x="5240160" y="3932280"/>
              <a:ext cx="29689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335"/>
          <p:cNvSpPr/>
          <p:nvPr/>
        </p:nvSpPr>
        <p:spPr>
          <a:xfrm>
            <a:off x="5060160" y="5089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c0099"/>
                </a:solidFill>
                <a:latin typeface="Times New Roman"/>
                <a:ea typeface="Times New Roman"/>
              </a:rPr>
              <a:t>0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36"/>
          <p:cNvSpPr/>
          <p:nvPr/>
        </p:nvSpPr>
        <p:spPr>
          <a:xfrm>
            <a:off x="5026680" y="4352760"/>
            <a:ext cx="168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c0099"/>
                </a:solidFill>
                <a:latin typeface="Symbol"/>
                <a:ea typeface="Symbol"/>
              </a:rPr>
              <a:t>α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37"/>
          <p:cNvSpPr/>
          <p:nvPr/>
        </p:nvSpPr>
        <p:spPr>
          <a:xfrm>
            <a:off x="6839280" y="404964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0099"/>
                </a:solidFill>
                <a:latin typeface="Arial"/>
              </a:rPr>
              <a:t>Absorptio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38"/>
          <p:cNvSpPr/>
          <p:nvPr/>
        </p:nvSpPr>
        <p:spPr>
          <a:xfrm>
            <a:off x="6882120" y="428796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0099"/>
                </a:solidFill>
                <a:latin typeface="Arial"/>
              </a:rPr>
              <a:t>coeffici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39"/>
          <p:cNvSpPr/>
          <p:nvPr/>
        </p:nvSpPr>
        <p:spPr>
          <a:xfrm>
            <a:off x="5459400" y="458136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efractiv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40"/>
          <p:cNvSpPr/>
          <p:nvPr/>
        </p:nvSpPr>
        <p:spPr>
          <a:xfrm>
            <a:off x="5460120" y="4818240"/>
            <a:ext cx="54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nde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41"/>
          <p:cNvSpPr/>
          <p:nvPr/>
        </p:nvSpPr>
        <p:spPr>
          <a:xfrm>
            <a:off x="8284320" y="5089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0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42"/>
          <p:cNvSpPr/>
          <p:nvPr/>
        </p:nvSpPr>
        <p:spPr>
          <a:xfrm>
            <a:off x="8283600" y="44179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1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43"/>
          <p:cNvSpPr/>
          <p:nvPr/>
        </p:nvSpPr>
        <p:spPr>
          <a:xfrm>
            <a:off x="6062400" y="6149880"/>
            <a:ext cx="1274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equency, 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44"/>
          <p:cNvSpPr/>
          <p:nvPr/>
        </p:nvSpPr>
        <p:spPr>
          <a:xfrm>
            <a:off x="7368120" y="61167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680" y="352080"/>
            <a:ext cx="4806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mplex Lorentz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00880" cy="12574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8"/>
          <p:cNvGrpSpPr/>
          <p:nvPr/>
        </p:nvGrpSpPr>
        <p:grpSpPr>
          <a:xfrm>
            <a:off x="2308320" y="2583000"/>
            <a:ext cx="4687920" cy="3993840"/>
            <a:chOff x="2308320" y="2583000"/>
            <a:chExt cx="4687920" cy="3993840"/>
          </a:xfrm>
        </p:grpSpPr>
        <p:sp>
          <p:nvSpPr>
            <p:cNvPr id="657" name="Rectangle 7"/>
            <p:cNvSpPr/>
            <p:nvPr/>
          </p:nvSpPr>
          <p:spPr>
            <a:xfrm>
              <a:off x="2308320" y="2583000"/>
              <a:ext cx="4687920" cy="39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Picture 6" descr=""/>
            <p:cNvPicPr/>
            <p:nvPr/>
          </p:nvPicPr>
          <p:blipFill>
            <a:blip r:embed="rId2"/>
            <a:stretch/>
          </p:blipFill>
          <p:spPr>
            <a:xfrm>
              <a:off x="2514600" y="2743200"/>
              <a:ext cx="4343400" cy="38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28120" y="124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Damped forced oscillator solution for light-driv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76080" y="14666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ced-oscillator response is sinusoidal, with a frequency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strength that's approximately a complex Lorentzi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Object 24"/>
          <p:cNvGraphicFramePr/>
          <p:nvPr/>
        </p:nvGraphicFramePr>
        <p:xfrm>
          <a:off x="1149480" y="2619360"/>
          <a:ext cx="6595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9480" y="2619360"/>
                    <a:ext cx="6595920" cy="785880"/>
                  </a:xfrm>
                  <a:prstGeom prst="rect">
                    <a:avLst/>
                  </a:prstGeom>
                  <a:ln w="381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3" name="Text Box 28"/>
          <p:cNvSpPr/>
          <p:nvPr/>
        </p:nvSpPr>
        <p:spPr>
          <a:xfrm>
            <a:off x="4727520" y="2151000"/>
            <a:ext cx="12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, e &lt; 0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676440" y="3787920"/>
            <a:ext cx="447012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electron vibrat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0° out of 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he light wav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electron vibrat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90° out of 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he light wav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electron vibrat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he light wav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4"/>
          <p:cNvSpPr/>
          <p:nvPr/>
        </p:nvSpPr>
        <p:spPr>
          <a:xfrm>
            <a:off x="5356080" y="2467080"/>
            <a:ext cx="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Object 35"/>
          <p:cNvGraphicFramePr/>
          <p:nvPr/>
        </p:nvGraphicFramePr>
        <p:xfrm>
          <a:off x="5184720" y="3730680"/>
          <a:ext cx="29764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4720" y="3730680"/>
                    <a:ext cx="2976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Object 36"/>
          <p:cNvGraphicFramePr/>
          <p:nvPr/>
        </p:nvGraphicFramePr>
        <p:xfrm>
          <a:off x="5124600" y="4678200"/>
          <a:ext cx="3390840" cy="74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9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24600" y="4678200"/>
                    <a:ext cx="339084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37"/>
          <p:cNvGraphicFramePr/>
          <p:nvPr/>
        </p:nvGraphicFramePr>
        <p:xfrm>
          <a:off x="5288040" y="5594400"/>
          <a:ext cx="2894040" cy="74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1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8040" y="5594400"/>
                    <a:ext cx="2894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5443560" y="96372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77360" y="117360"/>
            <a:ext cx="350676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The relative phase of an electron cloud</a:t>
            </a:r>
            <a:r>
              <a:rPr b="1" lang="ja-JP" sz="2800" spc="-1" strike="noStrike">
                <a:solidFill>
                  <a:srgbClr val="996633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 motion with respect to input light depends on th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"/>
          <p:cNvSpPr/>
          <p:nvPr/>
        </p:nvSpPr>
        <p:spPr>
          <a:xfrm>
            <a:off x="6585120" y="130500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6"/>
          <p:cNvSpPr/>
          <p:nvPr/>
        </p:nvSpPr>
        <p:spPr>
          <a:xfrm>
            <a:off x="5897520" y="1666800"/>
            <a:ext cx="2476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5280120" y="32688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6622920" y="3268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5438880" y="294480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1"/>
          <p:cNvSpPr/>
          <p:nvPr/>
        </p:nvSpPr>
        <p:spPr>
          <a:xfrm>
            <a:off x="6585120" y="328464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2"/>
          <p:cNvSpPr/>
          <p:nvPr/>
        </p:nvSpPr>
        <p:spPr>
          <a:xfrm>
            <a:off x="5894280" y="3660840"/>
            <a:ext cx="2444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3"/>
          <p:cNvSpPr/>
          <p:nvPr/>
        </p:nvSpPr>
        <p:spPr>
          <a:xfrm>
            <a:off x="5437080" y="493380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709560" y="3500280"/>
            <a:ext cx="2932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ato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esonan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ligh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on charge is negative, so the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 180° phase shift in all cases (compared to the previous sli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lots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6"/>
          <p:cNvSpPr/>
          <p:nvPr/>
        </p:nvSpPr>
        <p:spPr>
          <a:xfrm>
            <a:off x="6585120" y="52815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7"/>
          <p:cNvSpPr/>
          <p:nvPr/>
        </p:nvSpPr>
        <p:spPr>
          <a:xfrm>
            <a:off x="5899320" y="5641920"/>
            <a:ext cx="2347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7810560" y="116676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7810560" y="313380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7810560" y="5129280"/>
            <a:ext cx="108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3922560" y="1133640"/>
            <a:ext cx="1640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97"/>
          <p:cNvSpPr/>
          <p:nvPr/>
        </p:nvSpPr>
        <p:spPr>
          <a:xfrm>
            <a:off x="3998880" y="306864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07"/>
          <p:cNvSpPr/>
          <p:nvPr/>
        </p:nvSpPr>
        <p:spPr>
          <a:xfrm>
            <a:off x="3844800" y="5073480"/>
            <a:ext cx="17560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624 C -0.00312 -0.05109 -0.00312 -0.09387 -0.00295 -0.09387 C -0.00278 -0.09387 -0.00278 -0.05109 -0.0026 -0.00624 C -0.0026 0.0437 -0.0026 0.09388 -0.00225 0.09388 C -0.00208 0.09388 -0.00208 0.0437 -0.00208 -0.00624 C -0.00191 -0.05109 -0.00191 -0.09387 -0.00173 -0.09387 C -0.00156 -0.09387 -0.00156 -0.05109 -0.00139 -0.00624 C -0.00139 0.0437 -0.00139 0.09388 -0.00121 0.09388 C -0.00104 0.09388 -0.00087 -0.00624 -0.00087 -0.00578 C -0.00087 -0.05109 -0.00069 -0.09387 -0.00052 -0.09387 C -0.00034 -0.09387 -0.00034 -0.05109 -0.00034 -0.00624 C -0.00017 0.0437 -0.00017 0.09388 -2.22222E-006 0.09388 C 0.00018 0.09388 0.00018 0.0437 0.00035 -0.00624 C 0.00035 -0.05109 0.00035 -0.09387 0.00052 -0.09387 C 0.0007 -0.09387 0.00087 -0.05109 0.00087 -0.00624 C 0.00087 0.0437 0.00104 0.09388 0.00122 0.09388 C 0.00139 0.09388 0.00139 0.0437 0.00156 -0.00624 E">
                                      <p:cBhvr>
                                        <p:cTn id="92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94444E-006 4.68208E-006 C 1.94444E-006 -0.00833 1.94444000000001E-006 -0.01619 0.00017 -0.01619 C 0.00035 -0.01619 0.00035 -0.00833 0.00052 4.68208E-006 C 0.00052 0.00948 0.00052 0.01942 0.00087 0.01942 C 0.00104 0.01942 0.00104 0.00948 0.00104 4.68208E-006 C 0.00121 -0.00833 0.00121 -0.01619 0.00139 -0.01619 C 0.00156 -0.01619 0.00156 -0.00833 0.00173 4.68208E-006 C 0.00173 0.00948 0.00173 0.01942 0.00191 0.01942 C 0.00208 0.01942 0.00226 4.68208E-006 0.00226 0.00023 C 0.00226 -0.00833 0.00243 -0.01619 0.0026 -0.01619 C 0.00278 -0.01619 0.00278 -0.00833 0.00278 4.68208E-006 C 0.00295 0.00948 0.00295 0.01942 0.00312 0.01942 C 0.0033 0.01942 0.0033 0.00948 0.00347 4.68208E-006 C 0.00347 -0.00833 0.00347 -0.01619 0.00364 -0.01619 C 0.00382 -0.01619 0.00399 -0.00833 0.00399 4.68208E-006 C 0.00399 0.00948 0.00416 0.01942 0.00434 0.01942 C 0.00451 0.01942 0.00451 0.00948 0.00469 4.68208E-006 E">
                                      <p:cBhvr>
                                        <p:cTn id="94" dur="5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416 C 4.44444E-006 -0.05318 4.44443999999999E-006 -0.09942 0.00017 -0.09942 C 0.00034 -0.09942 0.00034 -0.05318 0.00052 -0.00416 C 0.00052 0.05041 0.00052 0.10521 0.00086 0.10521 C 0.00104 0.10521 0.00104 0.05041 0.00104 -0.00416 C 0.00121 -0.05318 0.00121 -0.09942 0.00138 -0.09942 C 0.00156 -0.09942 0.00156 -0.05318 0.00173 -0.00416 C 0.00173 0.05041 0.00173 0.10521 0.00191 0.10521 C 0.00208 0.10521 0.00225 -0.00416 0.00225 -0.0037 C 0.00225 -0.05318 0.00243 -0.09942 0.0026 -0.09942 C 0.00277 -0.09942 0.00277 -0.05318 0.00277 -0.00416 C 0.00295 0.05041 0.00295 0.10521 0.00312 0.10521 C 0.00329 0.10521 0.00329 0.05041 0.00347 -0.00416 C 0.00347 -0.05318 0.00347 -0.09942 0.00364 -0.09942 C 0.00382 -0.09942 0.00399 -0.05318 0.00399 -0.00416 C 0.00399 0.05041 0.00416 0.10521 0.00434 0.10521 C 0.00451 0.10521 0.00451 0.05041 0.00468 -0.00416 E">
                                      <p:cBhvr>
                                        <p:cTn id="98" dur="5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468 -0.00832 C -0.00468 -0.05526 -0.00468 -0.09988 -0.00451 -0.09988 C -0.00434 -0.09988 -0.00434 -0.05526 -0.00416 -0.00832 C -0.00416 0.0437 -0.00416 0.09619 -0.00382 0.09619 C -0.00364 0.09619 -0.00364 0.0437 -0.00364 -0.00832 C -0.00347 -0.05526 -0.00347 -0.09988 -0.0033 -0.09988 C -0.00312 -0.09988 -0.00312 -0.05526 -0.00295 -0.00832 C -0.00295 0.0437 -0.00295 0.09619 -0.00277 0.09619 C -0.0026 0.09619 -0.00243 -0.00832 -0.00243 -0.00809 C -0.00243 -0.05526 -0.00225 -0.09988 -0.00208 -0.09988 C -0.00191 -0.09988 -0.00191 -0.05526 -0.00191 -0.00832 C -0.00173 0.0437 -0.00173 0.09619 -0.00156 0.09619 C -0.00139 0.09619 -0.00139 0.0437 -0.00121 -0.00832 C -0.00121 -0.05526 -0.00121 -0.09988 -0.00104 -0.09988 C -0.00087 -0.09988 -0.00069 -0.05526 -0.00069 -0.00832 C -0.00069 0.0437 -0.00052 0.09619 -0.00034 0.09619 C -0.00017 0.09619 -0.00017 0.0437 -2.77778E-006 -0.00832 E">
                                      <p:cBhvr>
                                        <p:cTn id="100" dur="5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833 C 2.5E-006 -0.05365 2.50000000000001E-006 -0.09665 0.00017 -0.09665 C 0.00034 -0.09665 0.00034 -0.05365 0.00069 -0.00833 C 0.00069 0.04231 0.00069 0.09317 0.00104 0.09317 C 0.00139 0.09317 0.00139 0.04231 0.00139 -0.00833 C 0.00156 -0.05365 0.00156 -0.09665 0.00173 -0.09665 C 0.00208 -0.09665 0.00208 -0.05365 0.00225 -0.00833 C 0.00225 0.04231 0.00225 0.09317 0.00243 0.09317 C 0.00278 0.09317 0.00295 -0.00833 0.00295 -0.00763 C 0.00295 -0.05365 0.00312 -0.09665 0.00347 -0.09665 C 0.00364 -0.09665 0.00364 -0.05365 0.00364 -0.00833 C 0.00382 0.04231 0.00382 0.09317 0.00416 0.09317 C 0.00434 0.09317 0.00434 0.04231 0.00451 -0.00833 C 0.00451 -0.05365 0.00451 -0.09665 0.00486 -0.09665 C 0.00503 -0.09665 0.00521 -0.05365 0.00521 -0.00833 C 0.00521 0.04231 0.00555 0.09317 0.00573 0.09317 C 0.0059 0.09317 0.0059 0.04231 0.00625 -0.00833 E">
                                      <p:cBhvr>
                                        <p:cTn id="104" dur="5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8.09249E-007 C 4.72222E-006 -0.0104 4.72221999999999E-006 -0.02035 -0.00018 -0.02035 C -0.00035 -0.02035 -0.00035 -0.0104 -0.00053 -8.09249E-007 C -0.00053 0.01179 -0.00053 0.02382 -0.00087 0.02382 C -0.00105 0.02382 -0.00105 0.01179 -0.00105 -8.09249E-007 C -0.00122 -0.0104 -0.00122 -0.02035 -0.00139 -0.02035 C -0.00157 -0.02035 -0.00157 -0.0104 -0.00174 -8.09249E-007 C -0.00174 0.01179 -0.00174 0.02382 -0.00191 0.02382 C -0.00209 0.02382 -0.00226 -8.09249000000007E-007 -0.00226 0.00023 C -0.00226 -0.0104 -0.00244 -0.02035 -0.00261 -0.02035 C -0.00278 -0.02035 -0.00278 -0.0104 -0.00278 -8.09249E-007 C -0.00296 0.01179 -0.00296 0.02382 -0.00313 0.02382 C -0.0033 0.02382 -0.0033 0.01179 -0.00348 -8.09249E-007 C -0.00348 -0.0104 -0.00348 -0.02035 -0.00365 -0.02035 C -0.00382 -0.02035 -0.004 -0.0104 -0.004 -8.09249E-007 C -0.004 0.01179 -0.00417 0.02382 -0.00434 0.02382 C -0.00452 0.02382 -0.00452 0.01179 -0.00469 -8.09249E-007 E">
                                      <p:cBhvr>
                                        <p:cTn id="106" dur="5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42880" y="1118880"/>
            <a:ext cx="7889760" cy="18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y, so w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 determined what the light wave does to th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42880" y="372276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, what does the atom do to the light wave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Re-emitted light from an excited atom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interferes with original light b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32880" y="1630080"/>
            <a:ext cx="338004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-emitted light may interfere constructively, destructively, or, more generally, somewhat out of phase with the original light w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el this process by considering the total electric fie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92"/>
          <p:cNvSpPr/>
          <p:nvPr/>
        </p:nvSpPr>
        <p:spPr>
          <a:xfrm>
            <a:off x="633240" y="5772240"/>
            <a:ext cx="769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well's Equations will allow us to solve for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input field will be the initial conditio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35"/>
          <p:cNvSpPr/>
          <p:nvPr/>
        </p:nvSpPr>
        <p:spPr>
          <a:xfrm>
            <a:off x="922320" y="4888080"/>
            <a:ext cx="3739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rig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-emi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638"/>
          <p:cNvGrpSpPr/>
          <p:nvPr/>
        </p:nvGrpSpPr>
        <p:grpSpPr>
          <a:xfrm>
            <a:off x="4691160" y="1751040"/>
            <a:ext cx="3600360" cy="2620440"/>
            <a:chOff x="4691160" y="1751040"/>
            <a:chExt cx="3600360" cy="2620440"/>
          </a:xfrm>
        </p:grpSpPr>
        <p:sp>
          <p:nvSpPr>
            <p:cNvPr id="698" name="Rectangle 593"/>
            <p:cNvSpPr/>
            <p:nvPr/>
          </p:nvSpPr>
          <p:spPr>
            <a:xfrm>
              <a:off x="4691160" y="1788840"/>
              <a:ext cx="3600360" cy="25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Group 595"/>
            <p:cNvGrpSpPr/>
            <p:nvPr/>
          </p:nvGrpSpPr>
          <p:grpSpPr>
            <a:xfrm>
              <a:off x="5041800" y="2168640"/>
              <a:ext cx="1391760" cy="441360"/>
              <a:chOff x="5041800" y="2168640"/>
              <a:chExt cx="1391760" cy="441360"/>
            </a:xfrm>
          </p:grpSpPr>
          <p:grpSp>
            <p:nvGrpSpPr>
              <p:cNvPr id="700" name="Group 596"/>
              <p:cNvGrpSpPr/>
              <p:nvPr/>
            </p:nvGrpSpPr>
            <p:grpSpPr>
              <a:xfrm>
                <a:off x="5504400" y="2170800"/>
                <a:ext cx="462240" cy="425880"/>
                <a:chOff x="5504400" y="2170800"/>
                <a:chExt cx="462240" cy="425880"/>
              </a:xfrm>
            </p:grpSpPr>
            <p:sp>
              <p:nvSpPr>
                <p:cNvPr id="701" name="Arc 597"/>
                <p:cNvSpPr/>
                <p:nvPr/>
              </p:nvSpPr>
              <p:spPr>
                <a:xfrm flipH="1" rot="10802400">
                  <a:off x="5504040" y="2266560"/>
                  <a:ext cx="232200" cy="330120"/>
                </a:xfrm>
                <a:custGeom>
                  <a:avLst/>
                  <a:gdLst>
                    <a:gd name="textAreaLeft" fmla="*/ -360 w 232200"/>
                    <a:gd name="textAreaRight" fmla="*/ 232200 w 23220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rc 598"/>
                <p:cNvSpPr/>
                <p:nvPr/>
              </p:nvSpPr>
              <p:spPr>
                <a:xfrm flipH="1" flipV="1" rot="10802400">
                  <a:off x="5741280" y="2170440"/>
                  <a:ext cx="225360" cy="330120"/>
                </a:xfrm>
                <a:custGeom>
                  <a:avLst/>
                  <a:gdLst>
                    <a:gd name="textAreaLeft" fmla="*/ 360 w 225360"/>
                    <a:gd name="textAreaRight" fmla="*/ 226080 w 225360"/>
                    <a:gd name="textAreaTop" fmla="*/ -360 h 330120"/>
                    <a:gd name="textAreaBottom" fmla="*/ 330120 h 33012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Arc 599"/>
              <p:cNvSpPr/>
              <p:nvPr/>
            </p:nvSpPr>
            <p:spPr>
              <a:xfrm flipH="1" rot="10802400">
                <a:off x="5963040" y="2280600"/>
                <a:ext cx="235800" cy="329400"/>
              </a:xfrm>
              <a:custGeom>
                <a:avLst/>
                <a:gdLst>
                  <a:gd name="textAreaLeft" fmla="*/ -360 w 235800"/>
                  <a:gd name="textAreaRight" fmla="*/ 235800 w 2358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rc 600"/>
              <p:cNvSpPr/>
              <p:nvPr/>
            </p:nvSpPr>
            <p:spPr>
              <a:xfrm flipH="1" flipV="1" rot="10801800">
                <a:off x="6200280" y="2173320"/>
                <a:ext cx="233280" cy="32976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360 h 329760"/>
                  <a:gd name="textAreaBottom" fmla="*/ 330480 h 329760"/>
                </a:gdLst>
                <a:ahLst/>
                <a:rect l="textAreaLeft" t="textAreaTop" r="textAreaRight" b="textAreaBottom"/>
                <a:pathLst>
                  <a:path fill="none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</a:path>
                  <a:path stroke="0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  <a:lnTo>
                      <a:pt x="20791" y="21600"/>
                    </a:lnTo>
                    <a:lnTo>
                      <a:pt x="-1" y="15743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01"/>
              <p:cNvGrpSpPr/>
              <p:nvPr/>
            </p:nvGrpSpPr>
            <p:grpSpPr>
              <a:xfrm>
                <a:off x="5041800" y="2168640"/>
                <a:ext cx="463680" cy="425880"/>
                <a:chOff x="5041800" y="2168640"/>
                <a:chExt cx="463680" cy="425880"/>
              </a:xfrm>
            </p:grpSpPr>
            <p:sp>
              <p:nvSpPr>
                <p:cNvPr id="706" name="Arc 602"/>
                <p:cNvSpPr/>
                <p:nvPr/>
              </p:nvSpPr>
              <p:spPr>
                <a:xfrm flipH="1" rot="10802400">
                  <a:off x="5041440" y="2264400"/>
                  <a:ext cx="234360" cy="33012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rc 603"/>
                <p:cNvSpPr/>
                <p:nvPr/>
              </p:nvSpPr>
              <p:spPr>
                <a:xfrm flipH="1" flipV="1" rot="10802400">
                  <a:off x="5275800" y="2168280"/>
                  <a:ext cx="229320" cy="330120"/>
                </a:xfrm>
                <a:custGeom>
                  <a:avLst/>
                  <a:gdLst>
                    <a:gd name="textAreaLeft" fmla="*/ 0 w 229320"/>
                    <a:gd name="textAreaRight" fmla="*/ 229320 w 229320"/>
                    <a:gd name="textAreaTop" fmla="*/ -360 h 330120"/>
                    <a:gd name="textAreaBottom" fmla="*/ 330120 h 33012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Group 604"/>
            <p:cNvGrpSpPr/>
            <p:nvPr/>
          </p:nvGrpSpPr>
          <p:grpSpPr>
            <a:xfrm>
              <a:off x="5037120" y="3668760"/>
              <a:ext cx="1391760" cy="229680"/>
              <a:chOff x="5037120" y="3668760"/>
              <a:chExt cx="1391760" cy="229680"/>
            </a:xfrm>
          </p:grpSpPr>
          <p:grpSp>
            <p:nvGrpSpPr>
              <p:cNvPr id="709" name="Group 605"/>
              <p:cNvGrpSpPr/>
              <p:nvPr/>
            </p:nvGrpSpPr>
            <p:grpSpPr>
              <a:xfrm>
                <a:off x="5499720" y="3669840"/>
                <a:ext cx="462240" cy="221400"/>
                <a:chOff x="5499720" y="3669840"/>
                <a:chExt cx="462240" cy="221400"/>
              </a:xfrm>
            </p:grpSpPr>
            <p:sp>
              <p:nvSpPr>
                <p:cNvPr id="710" name="Arc 606"/>
                <p:cNvSpPr/>
                <p:nvPr/>
              </p:nvSpPr>
              <p:spPr>
                <a:xfrm flipH="1" rot="10802400">
                  <a:off x="5499360" y="3718080"/>
                  <a:ext cx="232200" cy="173160"/>
                </a:xfrm>
                <a:custGeom>
                  <a:avLst/>
                  <a:gdLst>
                    <a:gd name="textAreaLeft" fmla="*/ -360 w 232200"/>
                    <a:gd name="textAreaRight" fmla="*/ 232200 w 23220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rc 607"/>
                <p:cNvSpPr/>
                <p:nvPr/>
              </p:nvSpPr>
              <p:spPr>
                <a:xfrm flipH="1" flipV="1" rot="10802400">
                  <a:off x="5736600" y="3669480"/>
                  <a:ext cx="225360" cy="173160"/>
                </a:xfrm>
                <a:custGeom>
                  <a:avLst/>
                  <a:gdLst>
                    <a:gd name="textAreaLeft" fmla="*/ 360 w 225360"/>
                    <a:gd name="textAreaRight" fmla="*/ 226080 w 225360"/>
                    <a:gd name="textAreaTop" fmla="*/ -36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Arc 608"/>
              <p:cNvSpPr/>
              <p:nvPr/>
            </p:nvSpPr>
            <p:spPr>
              <a:xfrm flipH="1" rot="10802400">
                <a:off x="5958360" y="3727080"/>
                <a:ext cx="235800" cy="171360"/>
              </a:xfrm>
              <a:custGeom>
                <a:avLst/>
                <a:gdLst>
                  <a:gd name="textAreaLeft" fmla="*/ -360 w 235800"/>
                  <a:gd name="textAreaRight" fmla="*/ 235800 w 2358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rc 609"/>
              <p:cNvSpPr/>
              <p:nvPr/>
            </p:nvSpPr>
            <p:spPr>
              <a:xfrm flipH="1" flipV="1" rot="10801800">
                <a:off x="6195600" y="3670920"/>
                <a:ext cx="233280" cy="17136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360 h 171360"/>
                  <a:gd name="textAreaBottom" fmla="*/ 172080 h 171360"/>
                </a:gdLst>
                <a:ahLst/>
                <a:rect l="textAreaLeft" t="textAreaTop" r="textAreaRight" b="textAreaBottom"/>
                <a:pathLst>
                  <a:path fill="none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</a:path>
                  <a:path stroke="0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  <a:lnTo>
                      <a:pt x="20791" y="21600"/>
                    </a:lnTo>
                    <a:lnTo>
                      <a:pt x="-1" y="15743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Group 610"/>
              <p:cNvGrpSpPr/>
              <p:nvPr/>
            </p:nvGrpSpPr>
            <p:grpSpPr>
              <a:xfrm>
                <a:off x="5037120" y="3668760"/>
                <a:ext cx="463680" cy="221400"/>
                <a:chOff x="5037120" y="3668760"/>
                <a:chExt cx="463680" cy="221400"/>
              </a:xfrm>
            </p:grpSpPr>
            <p:sp>
              <p:nvSpPr>
                <p:cNvPr id="715" name="Arc 611"/>
                <p:cNvSpPr/>
                <p:nvPr/>
              </p:nvSpPr>
              <p:spPr>
                <a:xfrm flipH="1" rot="10802400">
                  <a:off x="5036760" y="3717000"/>
                  <a:ext cx="234360" cy="17316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3160"/>
                    <a:gd name="textAreaBottom" fmla="*/ 173520 h 17316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Arc 612"/>
                <p:cNvSpPr/>
                <p:nvPr/>
              </p:nvSpPr>
              <p:spPr>
                <a:xfrm flipH="1" flipV="1" rot="10802400">
                  <a:off x="5271120" y="3668400"/>
                  <a:ext cx="229320" cy="173160"/>
                </a:xfrm>
                <a:custGeom>
                  <a:avLst/>
                  <a:gdLst>
                    <a:gd name="textAreaLeft" fmla="*/ 0 w 229320"/>
                    <a:gd name="textAreaRight" fmla="*/ 229320 w 229320"/>
                    <a:gd name="textAreaTop" fmla="*/ -36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Group 613"/>
            <p:cNvGrpSpPr/>
            <p:nvPr/>
          </p:nvGrpSpPr>
          <p:grpSpPr>
            <a:xfrm>
              <a:off x="4816440" y="1990440"/>
              <a:ext cx="1391760" cy="2225160"/>
              <a:chOff x="4816440" y="1990440"/>
              <a:chExt cx="1391760" cy="2225160"/>
            </a:xfrm>
          </p:grpSpPr>
          <p:grpSp>
            <p:nvGrpSpPr>
              <p:cNvPr id="718" name="Group 614"/>
              <p:cNvGrpSpPr/>
              <p:nvPr/>
            </p:nvGrpSpPr>
            <p:grpSpPr>
              <a:xfrm>
                <a:off x="4816440" y="2987280"/>
                <a:ext cx="1391760" cy="174960"/>
                <a:chOff x="4816440" y="2987280"/>
                <a:chExt cx="1391760" cy="174960"/>
              </a:xfrm>
            </p:grpSpPr>
            <p:grpSp>
              <p:nvGrpSpPr>
                <p:cNvPr id="719" name="Group 615"/>
                <p:cNvGrpSpPr/>
                <p:nvPr/>
              </p:nvGrpSpPr>
              <p:grpSpPr>
                <a:xfrm>
                  <a:off x="5279040" y="2988000"/>
                  <a:ext cx="462240" cy="169200"/>
                  <a:chOff x="5279040" y="2988000"/>
                  <a:chExt cx="462240" cy="169200"/>
                </a:xfrm>
              </p:grpSpPr>
              <p:sp>
                <p:nvSpPr>
                  <p:cNvPr id="720" name="Arc 616"/>
                  <p:cNvSpPr/>
                  <p:nvPr/>
                </p:nvSpPr>
                <p:spPr>
                  <a:xfrm flipH="1" rot="10802400">
                    <a:off x="5278680" y="3023640"/>
                    <a:ext cx="232200" cy="133560"/>
                  </a:xfrm>
                  <a:custGeom>
                    <a:avLst/>
                    <a:gdLst>
                      <a:gd name="textAreaLeft" fmla="*/ -360 w 232200"/>
                      <a:gd name="textAreaRight" fmla="*/ 232200 w 232200"/>
                      <a:gd name="textAreaTop" fmla="*/ 0 h 133560"/>
                      <a:gd name="textAreaBottom" fmla="*/ 133920 h 133560"/>
                    </a:gdLst>
                    <a:ahLst/>
                    <a:rect l="textAreaLeft" t="textAreaTop" r="textAreaRight" b="textAreaBottom"/>
                    <a:pathLst>
                      <a:path fill="none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</a:path>
                      <a:path stroke="0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  <a:lnTo>
                          <a:pt x="20555" y="21600"/>
                        </a:lnTo>
                        <a:lnTo>
                          <a:pt x="-1" y="1496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rc 617"/>
                  <p:cNvSpPr/>
                  <p:nvPr/>
                </p:nvSpPr>
                <p:spPr>
                  <a:xfrm flipH="1" flipV="1" rot="10802400">
                    <a:off x="5515920" y="2987640"/>
                    <a:ext cx="225360" cy="132840"/>
                  </a:xfrm>
                  <a:custGeom>
                    <a:avLst/>
                    <a:gdLst>
                      <a:gd name="textAreaLeft" fmla="*/ 360 w 225360"/>
                      <a:gd name="textAreaRight" fmla="*/ 226080 w 225360"/>
                      <a:gd name="textAreaTop" fmla="*/ -360 h 132840"/>
                      <a:gd name="textAreaBottom" fmla="*/ 132840 h 132840"/>
                    </a:gdLst>
                    <a:ahLst/>
                    <a:rect l="textAreaLeft" t="textAreaTop" r="textAreaRight" b="textAreaBottom"/>
                    <a:pathLst>
                      <a:path fill="none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</a:path>
                      <a:path stroke="0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  <a:lnTo>
                          <a:pt x="19987" y="21600"/>
                        </a:lnTo>
                        <a:lnTo>
                          <a:pt x="-1" y="1341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2" name="Arc 618"/>
                <p:cNvSpPr/>
                <p:nvPr/>
              </p:nvSpPr>
              <p:spPr>
                <a:xfrm flipH="1" rot="10802400">
                  <a:off x="5737680" y="3031560"/>
                  <a:ext cx="235800" cy="130680"/>
                </a:xfrm>
                <a:custGeom>
                  <a:avLst/>
                  <a:gdLst>
                    <a:gd name="textAreaLeft" fmla="*/ -360 w 235800"/>
                    <a:gd name="textAreaRight" fmla="*/ 235800 w 235800"/>
                    <a:gd name="textAreaTop" fmla="*/ 0 h 130680"/>
                    <a:gd name="textAreaBottom" fmla="*/ 130680 h 13068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rc 619"/>
                <p:cNvSpPr/>
                <p:nvPr/>
              </p:nvSpPr>
              <p:spPr>
                <a:xfrm flipH="1" flipV="1" rot="10801800">
                  <a:off x="5974920" y="2989080"/>
                  <a:ext cx="233280" cy="131040"/>
                </a:xfrm>
                <a:custGeom>
                  <a:avLst/>
                  <a:gdLst>
                    <a:gd name="textAreaLeft" fmla="*/ 360 w 233280"/>
                    <a:gd name="textAreaRight" fmla="*/ 234000 w 233280"/>
                    <a:gd name="textAreaTop" fmla="*/ 360 h 131040"/>
                    <a:gd name="textAreaBottom" fmla="*/ 131760 h 131040"/>
                  </a:gdLst>
                  <a:ahLst/>
                  <a:rect l="textAreaLeft" t="textAreaTop" r="textAreaRight" b="textAreaBottom"/>
                  <a:pathLst>
                    <a:path fill="none" w="40937" h="21600">
                      <a:moveTo>
                        <a:pt x="-1" y="15743"/>
                      </a:moveTo>
                      <a:cubicBezTo>
                        <a:pt x="2622" y="6432"/>
                        <a:pt x="11116" y="-1"/>
                        <a:pt x="20791" y="-1"/>
                      </a:cubicBezTo>
                      <a:cubicBezTo>
                        <a:pt x="29714" y="-1"/>
                        <a:pt x="37719" y="5487"/>
                        <a:pt x="40937" y="13809"/>
                      </a:cubicBezTo>
                    </a:path>
                    <a:path stroke="0" w="40937" h="21600">
                      <a:moveTo>
                        <a:pt x="-1" y="15743"/>
                      </a:moveTo>
                      <a:cubicBezTo>
                        <a:pt x="2622" y="6432"/>
                        <a:pt x="11116" y="-1"/>
                        <a:pt x="20791" y="-1"/>
                      </a:cubicBezTo>
                      <a:cubicBezTo>
                        <a:pt x="29714" y="-1"/>
                        <a:pt x="37719" y="5487"/>
                        <a:pt x="40937" y="13809"/>
                      </a:cubicBezTo>
                      <a:lnTo>
                        <a:pt x="20791" y="21600"/>
                      </a:lnTo>
                      <a:lnTo>
                        <a:pt x="-1" y="1574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Group 620"/>
                <p:cNvGrpSpPr/>
                <p:nvPr/>
              </p:nvGrpSpPr>
              <p:grpSpPr>
                <a:xfrm>
                  <a:off x="4816440" y="2987280"/>
                  <a:ext cx="463680" cy="169200"/>
                  <a:chOff x="4816440" y="2987280"/>
                  <a:chExt cx="463680" cy="169200"/>
                </a:xfrm>
              </p:grpSpPr>
              <p:sp>
                <p:nvSpPr>
                  <p:cNvPr id="725" name="Arc 621"/>
                  <p:cNvSpPr/>
                  <p:nvPr/>
                </p:nvSpPr>
                <p:spPr>
                  <a:xfrm flipH="1" rot="10802400">
                    <a:off x="4816080" y="3022560"/>
                    <a:ext cx="234360" cy="133920"/>
                  </a:xfrm>
                  <a:custGeom>
                    <a:avLst/>
                    <a:gdLst>
                      <a:gd name="textAreaLeft" fmla="*/ -360 w 234360"/>
                      <a:gd name="textAreaRight" fmla="*/ 234360 w 234360"/>
                      <a:gd name="textAreaTop" fmla="*/ 0 h 133920"/>
                      <a:gd name="textAreaBottom" fmla="*/ 134280 h 133920"/>
                    </a:gdLst>
                    <a:ahLst/>
                    <a:rect l="textAreaLeft" t="textAreaTop" r="textAreaRight" b="textAreaBottom"/>
                    <a:pathLst>
                      <a:path fill="none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</a:path>
                      <a:path stroke="0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  <a:lnTo>
                          <a:pt x="20555" y="21600"/>
                        </a:lnTo>
                        <a:lnTo>
                          <a:pt x="-1" y="1496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rc 622"/>
                  <p:cNvSpPr/>
                  <p:nvPr/>
                </p:nvSpPr>
                <p:spPr>
                  <a:xfrm flipH="1" flipV="1" rot="10802400">
                    <a:off x="5050440" y="2987280"/>
                    <a:ext cx="2293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</a:path>
                      <a:path stroke="0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  <a:lnTo>
                          <a:pt x="19987" y="21600"/>
                        </a:lnTo>
                        <a:lnTo>
                          <a:pt x="-1" y="1341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7" name="Text Box 623"/>
              <p:cNvSpPr/>
              <p:nvPr/>
            </p:nvSpPr>
            <p:spPr>
              <a:xfrm>
                <a:off x="5442480" y="25822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624"/>
              <p:cNvGrpSpPr/>
              <p:nvPr/>
            </p:nvGrpSpPr>
            <p:grpSpPr>
              <a:xfrm>
                <a:off x="5394240" y="1990440"/>
                <a:ext cx="461880" cy="2225160"/>
                <a:chOff x="5394240" y="1990440"/>
                <a:chExt cx="461880" cy="2225160"/>
              </a:xfrm>
            </p:grpSpPr>
            <p:sp>
              <p:nvSpPr>
                <p:cNvPr id="729" name="Line 625"/>
                <p:cNvSpPr/>
                <p:nvPr/>
              </p:nvSpPr>
              <p:spPr>
                <a:xfrm>
                  <a:off x="5394240" y="1991880"/>
                  <a:ext cx="0" cy="22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626"/>
                <p:cNvSpPr/>
                <p:nvPr/>
              </p:nvSpPr>
              <p:spPr>
                <a:xfrm>
                  <a:off x="5856120" y="1990440"/>
                  <a:ext cx="0" cy="222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Text Box 627"/>
              <p:cNvSpPr/>
              <p:nvPr/>
            </p:nvSpPr>
            <p:spPr>
              <a:xfrm>
                <a:off x="5441040" y="320472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628"/>
            <p:cNvSpPr/>
            <p:nvPr/>
          </p:nvSpPr>
          <p:spPr>
            <a:xfrm>
              <a:off x="4699080" y="1936440"/>
              <a:ext cx="34416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629"/>
            <p:cNvSpPr/>
            <p:nvPr/>
          </p:nvSpPr>
          <p:spPr>
            <a:xfrm>
              <a:off x="6221160" y="1990440"/>
              <a:ext cx="39564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630"/>
            <p:cNvSpPr/>
            <p:nvPr/>
          </p:nvSpPr>
          <p:spPr>
            <a:xfrm>
              <a:off x="6226560" y="216972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ident ligh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631"/>
            <p:cNvSpPr/>
            <p:nvPr/>
          </p:nvSpPr>
          <p:spPr>
            <a:xfrm>
              <a:off x="6227640" y="2874600"/>
              <a:ext cx="157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itted ligh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632"/>
            <p:cNvSpPr/>
            <p:nvPr/>
          </p:nvSpPr>
          <p:spPr>
            <a:xfrm>
              <a:off x="6197760" y="359388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mitted ligh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636"/>
            <p:cNvSpPr/>
            <p:nvPr/>
          </p:nvSpPr>
          <p:spPr>
            <a:xfrm>
              <a:off x="7053120" y="1989000"/>
              <a:ext cx="4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637"/>
            <p:cNvSpPr/>
            <p:nvPr/>
          </p:nvSpPr>
          <p:spPr>
            <a:xfrm>
              <a:off x="7524360" y="17510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7443720" y="1057320"/>
            <a:ext cx="11318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11200" y="24300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nhomogeneous Wav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14520" y="107136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ced polarization,    , is due to the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3876840" y="16542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Object 8"/>
          <p:cNvGraphicFramePr/>
          <p:nvPr/>
        </p:nvGraphicFramePr>
        <p:xfrm>
          <a:off x="3887640" y="1957320"/>
          <a:ext cx="1809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1957320"/>
                    <a:ext cx="1809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9"/>
          <p:cNvGraphicFramePr/>
          <p:nvPr/>
        </p:nvGraphicFramePr>
        <p:xfrm>
          <a:off x="3583080" y="1012680"/>
          <a:ext cx="303120" cy="4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1012680"/>
                    <a:ext cx="3031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Oval 10"/>
          <p:cNvSpPr/>
          <p:nvPr/>
        </p:nvSpPr>
        <p:spPr>
          <a:xfrm>
            <a:off x="7632720" y="14349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2"/>
          <p:cNvSpPr/>
          <p:nvPr/>
        </p:nvSpPr>
        <p:spPr>
          <a:xfrm flipV="1">
            <a:off x="7269120" y="120348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614520" y="2705040"/>
            <a:ext cx="5427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electron charge, and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he electron number density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Object 15"/>
          <p:cNvGraphicFramePr/>
          <p:nvPr/>
        </p:nvGraphicFramePr>
        <p:xfrm>
          <a:off x="6669000" y="1628640"/>
          <a:ext cx="573120" cy="45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9000" y="1628640"/>
                    <a:ext cx="5731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Object 19"/>
          <p:cNvGraphicFramePr/>
          <p:nvPr/>
        </p:nvGraphicFramePr>
        <p:xfrm>
          <a:off x="876240" y="1665360"/>
          <a:ext cx="290844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3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76240" y="1665360"/>
                    <a:ext cx="2908440" cy="904680"/>
                  </a:xfrm>
                  <a:prstGeom prst="rect">
                    <a:avLst/>
                  </a:prstGeom>
                  <a:ln w="38160">
                    <a:solidFill>
                      <a:srgbClr val="33cc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4" name="Object 24"/>
          <p:cNvGraphicFramePr/>
          <p:nvPr/>
        </p:nvGraphicFramePr>
        <p:xfrm>
          <a:off x="2644920" y="3956040"/>
          <a:ext cx="581796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5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4920" y="3956040"/>
                    <a:ext cx="5817960" cy="798480"/>
                  </a:xfrm>
                  <a:prstGeom prst="rect">
                    <a:avLst/>
                  </a:prstGeom>
                  <a:ln w="381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56" name="Group 41"/>
          <p:cNvGrpSpPr/>
          <p:nvPr/>
        </p:nvGrpSpPr>
        <p:grpSpPr>
          <a:xfrm>
            <a:off x="3932280" y="2932200"/>
            <a:ext cx="4817880" cy="1050840"/>
            <a:chOff x="3932280" y="2932200"/>
            <a:chExt cx="4817880" cy="1050840"/>
          </a:xfrm>
        </p:grpSpPr>
        <p:graphicFrame>
          <p:nvGraphicFramePr>
            <p:cNvPr id="757" name="Object 25"/>
            <p:cNvGraphicFramePr/>
            <p:nvPr/>
          </p:nvGraphicFramePr>
          <p:xfrm>
            <a:off x="4984920" y="2932200"/>
            <a:ext cx="3765240" cy="757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58" name="Object 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984920" y="2932200"/>
                      <a:ext cx="376524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9" name="AutoShape 27"/>
            <p:cNvSpPr/>
            <p:nvPr/>
          </p:nvSpPr>
          <p:spPr>
            <a:xfrm rot="5400000">
              <a:off x="6035760" y="1569600"/>
              <a:ext cx="309600" cy="451656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117720 h 4516560"/>
                <a:gd name="textAreaBottom" fmla="*/ 4398840 h 451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AutoShape 28"/>
          <p:cNvSpPr/>
          <p:nvPr/>
        </p:nvSpPr>
        <p:spPr>
          <a:xfrm flipV="1" rot="16200000">
            <a:off x="7474680" y="3921840"/>
            <a:ext cx="254160" cy="1859040"/>
          </a:xfrm>
          <a:custGeom>
            <a:avLst/>
            <a:gdLst>
              <a:gd name="textAreaLeft" fmla="*/ 162360 w 254160"/>
              <a:gd name="textAreaRight" fmla="*/ 254520 w 254160"/>
              <a:gd name="textAreaTop" fmla="*/ 48240 h 1859040"/>
              <a:gd name="textAreaBottom" fmla="*/ 1810800 h 185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9"/>
          <p:cNvSpPr/>
          <p:nvPr/>
        </p:nvSpPr>
        <p:spPr>
          <a:xfrm>
            <a:off x="7323480" y="493380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0"/>
          <p:cNvSpPr/>
          <p:nvPr/>
        </p:nvSpPr>
        <p:spPr>
          <a:xfrm flipV="1" rot="16200000">
            <a:off x="4962960" y="3168720"/>
            <a:ext cx="547560" cy="3321000"/>
          </a:xfrm>
          <a:custGeom>
            <a:avLst/>
            <a:gdLst>
              <a:gd name="textAreaLeft" fmla="*/ 349920 w 547560"/>
              <a:gd name="textAreaRight" fmla="*/ 547920 w 547560"/>
              <a:gd name="textAreaTop" fmla="*/ 86400 h 3321000"/>
              <a:gd name="textAreaBottom" fmla="*/ 3234600 h 33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Object 31"/>
          <p:cNvGraphicFramePr/>
          <p:nvPr/>
        </p:nvGraphicFramePr>
        <p:xfrm>
          <a:off x="5016600" y="4995720"/>
          <a:ext cx="5140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4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16600" y="4995720"/>
                    <a:ext cx="5140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34"/>
          <p:cNvGraphicFramePr/>
          <p:nvPr/>
        </p:nvGraphicFramePr>
        <p:xfrm>
          <a:off x="4600440" y="5724360"/>
          <a:ext cx="3424320" cy="79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6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0440" y="5724360"/>
                    <a:ext cx="3424320" cy="798840"/>
                  </a:xfrm>
                  <a:prstGeom prst="rect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7" name="Text Box 35"/>
          <p:cNvSpPr/>
          <p:nvPr/>
        </p:nvSpPr>
        <p:spPr>
          <a:xfrm>
            <a:off x="7013520" y="9050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6"/>
          <p:cNvSpPr/>
          <p:nvPr/>
        </p:nvSpPr>
        <p:spPr>
          <a:xfrm>
            <a:off x="614520" y="4978440"/>
            <a:ext cx="33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ften also writ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Object 37"/>
          <p:cNvGraphicFramePr/>
          <p:nvPr/>
        </p:nvGraphicFramePr>
        <p:xfrm>
          <a:off x="1112760" y="5486400"/>
          <a:ext cx="1841400" cy="447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0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12760" y="5486400"/>
                    <a:ext cx="1841400" cy="447840"/>
                  </a:xfrm>
                  <a:prstGeom prst="rect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1" name="Rectangle 38"/>
          <p:cNvSpPr/>
          <p:nvPr/>
        </p:nvSpPr>
        <p:spPr>
          <a:xfrm>
            <a:off x="3311640" y="58723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Object 39"/>
          <p:cNvGraphicFramePr/>
          <p:nvPr/>
        </p:nvGraphicFramePr>
        <p:xfrm>
          <a:off x="1389240" y="6067440"/>
          <a:ext cx="136836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3" name="Object 3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89240" y="6067440"/>
                    <a:ext cx="1368360" cy="447840"/>
                  </a:xfrm>
                  <a:prstGeom prst="rect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4" name="Text Box 40"/>
          <p:cNvSpPr/>
          <p:nvPr/>
        </p:nvSpPr>
        <p:spPr>
          <a:xfrm>
            <a:off x="598320" y="60516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4.04624E-006 C -0.00469 -0.0252 -0.00469 -0.04924 -0.00452 -0.04924 C -0.00434 -0.04924 -0.00434 -0.0252 -0.00417 -4.04624E-006 C -0.00417 0.02798 -0.00417 0.05596 -0.00382 0.05596 C -0.00365 0.05596 -0.00365 0.02798 -0.00365 -4.04624E-006 C -0.00348 -0.0252 -0.00348 -0.04924 -0.0033 -0.04924 C -0.00313 -0.04924 -0.00313 -0.0252 -0.00296 -4.04624E-006 C -0.00296 0.02798 -0.00296 0.05596 -0.00278 0.05596 C -0.00261 0.05596 -0.00243 -4.04624E-006 -0.00243 0.00024 C -0.00243 -0.0252 -0.00226 -0.04924 -0.00209 -0.04924 C -0.00191 -0.04924 -0.00191 -0.0252 -0.00191 -4.04624E-006 C -0.00174 0.02798 -0.00174 0.05596 -0.00157 0.05596 C -0.00139 0.05596 -0.00139 0.02798 -0.00122 -4.04624E-006 C -0.00122 -0.0252 -0.00122 -0.04924 -0.00105 -0.04924 C -0.00087 -0.04924 -0.0007 -0.0252 -0.0007 -4.04624E-006 C -0.0007 0.02798 -0.00052 0.05596 -0.00035 0.05596 C -0.00018 0.05596 -0.00018 0.02798 3.88889E-006 -4.04624E-006 E">
                                      <p:cBhvr>
                                        <p:cTn id="112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28680" y="245880"/>
            <a:ext cx="8400960" cy="6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e Slowly Varying Envelope Approx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4360" y="981000"/>
            <a:ext cx="81774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w, we'll assume that the wave won't be dramatically affected by the induced polarization, which itself will not change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lly, the envelop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ssumed to vary slowly; the fast variations will all be in the complex exponenti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derivatives are easy (as before, they just bring down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ause the envelopes are independ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riva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Object 1028"/>
          <p:cNvGraphicFramePr/>
          <p:nvPr/>
        </p:nvGraphicFramePr>
        <p:xfrm>
          <a:off x="1079640" y="2000160"/>
          <a:ext cx="72961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000160"/>
                    <a:ext cx="7296120" cy="487440"/>
                  </a:xfrm>
                  <a:prstGeom prst="rect">
                    <a:avLst/>
                  </a:prstGeom>
                  <a:ln w="381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79" name="Object 1029"/>
          <p:cNvGraphicFramePr/>
          <p:nvPr/>
        </p:nvGraphicFramePr>
        <p:xfrm>
          <a:off x="5935680" y="3030480"/>
          <a:ext cx="17748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5680" y="3030480"/>
                    <a:ext cx="17748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Line 1031"/>
          <p:cNvSpPr/>
          <p:nvPr/>
        </p:nvSpPr>
        <p:spPr>
          <a:xfrm flipH="1">
            <a:off x="6384600" y="1743120"/>
            <a:ext cx="35244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32"/>
          <p:cNvSpPr/>
          <p:nvPr/>
        </p:nvSpPr>
        <p:spPr>
          <a:xfrm>
            <a:off x="6729840" y="156996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 in ti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033"/>
          <p:cNvSpPr/>
          <p:nvPr/>
        </p:nvSpPr>
        <p:spPr>
          <a:xfrm flipH="1" flipV="1">
            <a:off x="2588760" y="2387520"/>
            <a:ext cx="105588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1034"/>
          <p:cNvGraphicFramePr/>
          <p:nvPr/>
        </p:nvGraphicFramePr>
        <p:xfrm>
          <a:off x="2778120" y="5048280"/>
          <a:ext cx="552132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5" name="Object 10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8120" y="5048280"/>
                    <a:ext cx="55213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6" name="Group 1035"/>
          <p:cNvGrpSpPr/>
          <p:nvPr/>
        </p:nvGrpSpPr>
        <p:grpSpPr>
          <a:xfrm>
            <a:off x="4135320" y="5200560"/>
            <a:ext cx="495360" cy="495360"/>
            <a:chOff x="4135320" y="5200560"/>
            <a:chExt cx="495360" cy="495360"/>
          </a:xfrm>
        </p:grpSpPr>
        <p:sp>
          <p:nvSpPr>
            <p:cNvPr id="787" name="Line 1036"/>
            <p:cNvSpPr/>
            <p:nvPr/>
          </p:nvSpPr>
          <p:spPr>
            <a:xfrm>
              <a:off x="4135320" y="5200560"/>
              <a:ext cx="4953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37"/>
            <p:cNvSpPr/>
            <p:nvPr/>
          </p:nvSpPr>
          <p:spPr>
            <a:xfrm flipH="1">
              <a:off x="4135320" y="5200560"/>
              <a:ext cx="4953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9" name="Object 1038"/>
          <p:cNvGraphicFramePr/>
          <p:nvPr/>
        </p:nvGraphicFramePr>
        <p:xfrm>
          <a:off x="2862360" y="4226040"/>
          <a:ext cx="465588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0" name="Object 10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4226040"/>
                    <a:ext cx="46558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Rectangle 1039"/>
          <p:cNvSpPr/>
          <p:nvPr/>
        </p:nvSpPr>
        <p:spPr>
          <a:xfrm>
            <a:off x="504720" y="5942160"/>
            <a:ext cx="76456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variations of the envelop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space will be slow, w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 neglect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rivativ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3200" y="14400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The Slowly Varying Envelope Approx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83840" y="1047600"/>
            <a:ext cx="8551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the derivatives into the inhomogeneous wave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be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2nd and 3rd terms can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anceling the complex exponentials lea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Object 4"/>
          <p:cNvGraphicFramePr/>
          <p:nvPr/>
        </p:nvGraphicFramePr>
        <p:xfrm>
          <a:off x="960480" y="1495440"/>
          <a:ext cx="71420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495440"/>
                    <a:ext cx="71420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5"/>
          <p:cNvGraphicFramePr/>
          <p:nvPr/>
        </p:nvGraphicFramePr>
        <p:xfrm>
          <a:off x="6124680" y="2762280"/>
          <a:ext cx="21524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4680" y="2762280"/>
                    <a:ext cx="21524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8" name="Group 6"/>
          <p:cNvGrpSpPr/>
          <p:nvPr/>
        </p:nvGrpSpPr>
        <p:grpSpPr>
          <a:xfrm>
            <a:off x="2076480" y="1662120"/>
            <a:ext cx="1371600" cy="495360"/>
            <a:chOff x="2076480" y="1662120"/>
            <a:chExt cx="1371600" cy="495360"/>
          </a:xfrm>
        </p:grpSpPr>
        <p:grpSp>
          <p:nvGrpSpPr>
            <p:cNvPr id="799" name="Group 7"/>
            <p:cNvGrpSpPr/>
            <p:nvPr/>
          </p:nvGrpSpPr>
          <p:grpSpPr>
            <a:xfrm>
              <a:off x="2952720" y="1662120"/>
              <a:ext cx="495360" cy="495360"/>
              <a:chOff x="2952720" y="1662120"/>
              <a:chExt cx="495360" cy="495360"/>
            </a:xfrm>
          </p:grpSpPr>
          <p:sp>
            <p:nvSpPr>
              <p:cNvPr id="800" name="Line 8"/>
              <p:cNvSpPr/>
              <p:nvPr/>
            </p:nvSpPr>
            <p:spPr>
              <a:xfrm>
                <a:off x="2952720" y="1662120"/>
                <a:ext cx="49536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9"/>
              <p:cNvSpPr/>
              <p:nvPr/>
            </p:nvSpPr>
            <p:spPr>
              <a:xfrm flipH="1">
                <a:off x="2952720" y="1662120"/>
                <a:ext cx="49536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10"/>
            <p:cNvGrpSpPr/>
            <p:nvPr/>
          </p:nvGrpSpPr>
          <p:grpSpPr>
            <a:xfrm>
              <a:off x="2076480" y="1662120"/>
              <a:ext cx="495360" cy="495360"/>
              <a:chOff x="2076480" y="1662120"/>
              <a:chExt cx="495360" cy="495360"/>
            </a:xfrm>
          </p:grpSpPr>
          <p:sp>
            <p:nvSpPr>
              <p:cNvPr id="803" name="Line 11"/>
              <p:cNvSpPr/>
              <p:nvPr/>
            </p:nvSpPr>
            <p:spPr>
              <a:xfrm>
                <a:off x="2076480" y="1662120"/>
                <a:ext cx="49536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2"/>
              <p:cNvSpPr/>
              <p:nvPr/>
            </p:nvSpPr>
            <p:spPr>
              <a:xfrm flipH="1">
                <a:off x="2076480" y="1662120"/>
                <a:ext cx="49536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5" name="Group 13"/>
          <p:cNvGrpSpPr/>
          <p:nvPr/>
        </p:nvGrpSpPr>
        <p:grpSpPr>
          <a:xfrm>
            <a:off x="3790440" y="1662120"/>
            <a:ext cx="4152600" cy="495360"/>
            <a:chOff x="3790440" y="1662120"/>
            <a:chExt cx="4152600" cy="495360"/>
          </a:xfrm>
        </p:grpSpPr>
        <p:grpSp>
          <p:nvGrpSpPr>
            <p:cNvPr id="806" name="Group 14"/>
            <p:cNvGrpSpPr/>
            <p:nvPr/>
          </p:nvGrpSpPr>
          <p:grpSpPr>
            <a:xfrm>
              <a:off x="3790440" y="1662120"/>
              <a:ext cx="1447200" cy="495360"/>
              <a:chOff x="3790440" y="1662120"/>
              <a:chExt cx="1447200" cy="495360"/>
            </a:xfrm>
          </p:grpSpPr>
          <p:sp>
            <p:nvSpPr>
              <p:cNvPr id="807" name="Line 15"/>
              <p:cNvSpPr/>
              <p:nvPr/>
            </p:nvSpPr>
            <p:spPr>
              <a:xfrm>
                <a:off x="3790800" y="1662120"/>
                <a:ext cx="144684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6"/>
              <p:cNvSpPr/>
              <p:nvPr/>
            </p:nvSpPr>
            <p:spPr>
              <a:xfrm flipH="1">
                <a:off x="3790440" y="1662120"/>
                <a:ext cx="144684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17"/>
            <p:cNvGrpSpPr/>
            <p:nvPr/>
          </p:nvGrpSpPr>
          <p:grpSpPr>
            <a:xfrm>
              <a:off x="6495840" y="1662120"/>
              <a:ext cx="1447200" cy="495360"/>
              <a:chOff x="6495840" y="1662120"/>
              <a:chExt cx="1447200" cy="495360"/>
            </a:xfrm>
          </p:grpSpPr>
          <p:sp>
            <p:nvSpPr>
              <p:cNvPr id="810" name="Line 18"/>
              <p:cNvSpPr/>
              <p:nvPr/>
            </p:nvSpPr>
            <p:spPr>
              <a:xfrm>
                <a:off x="6495840" y="1662120"/>
                <a:ext cx="144720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19"/>
              <p:cNvSpPr/>
              <p:nvPr/>
            </p:nvSpPr>
            <p:spPr>
              <a:xfrm flipH="1">
                <a:off x="6495840" y="1662120"/>
                <a:ext cx="1447200" cy="49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12" name="Object 20"/>
          <p:cNvGraphicFramePr/>
          <p:nvPr/>
        </p:nvGraphicFramePr>
        <p:xfrm>
          <a:off x="1825560" y="3672000"/>
          <a:ext cx="15541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560" y="3672000"/>
                    <a:ext cx="1554120" cy="7239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4" name="Rectangle 22"/>
          <p:cNvSpPr/>
          <p:nvPr/>
        </p:nvSpPr>
        <p:spPr>
          <a:xfrm>
            <a:off x="3905280" y="3573360"/>
            <a:ext cx="48481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nstant, the integration is trivial. Usually, however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he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485280" y="37623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484200" y="4761000"/>
            <a:ext cx="80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to finite differences, the re-emitted field at a giv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Object 25"/>
          <p:cNvGraphicFramePr/>
          <p:nvPr/>
        </p:nvGraphicFramePr>
        <p:xfrm>
          <a:off x="1596960" y="5478480"/>
          <a:ext cx="183204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8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6960" y="5478480"/>
                    <a:ext cx="1832040" cy="722160"/>
                  </a:xfrm>
                  <a:prstGeom prst="rect">
                    <a:avLst/>
                  </a:prstGeom>
                  <a:ln w="38160">
                    <a:solidFill>
                      <a:srgbClr val="33cc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9" name="Text Box 26"/>
          <p:cNvSpPr/>
          <p:nvPr/>
        </p:nvSpPr>
        <p:spPr>
          <a:xfrm>
            <a:off x="3935520" y="5299200"/>
            <a:ext cx="48117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eans that the re-emitted field has a 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phase shift with respect to the polarization and h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-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phase shift with respect to the electron cloud motion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4854600" y="1116000"/>
            <a:ext cx="28875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63400" y="539280"/>
            <a:ext cx="2857680" cy="2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e re-emitted wave leads the electron cloud motion by 90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° in ph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5"/>
          <p:cNvSpPr/>
          <p:nvPr/>
        </p:nvSpPr>
        <p:spPr>
          <a:xfrm>
            <a:off x="5931000" y="14619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6"/>
          <p:cNvSpPr/>
          <p:nvPr/>
        </p:nvSpPr>
        <p:spPr>
          <a:xfrm>
            <a:off x="5294160" y="1812960"/>
            <a:ext cx="2160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4622760" y="522360"/>
            <a:ext cx="14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5865840" y="52236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4854600" y="2982960"/>
            <a:ext cx="28875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31000" y="332892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2"/>
          <p:cNvSpPr/>
          <p:nvPr/>
        </p:nvSpPr>
        <p:spPr>
          <a:xfrm>
            <a:off x="5286240" y="3693960"/>
            <a:ext cx="231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3"/>
          <p:cNvSpPr/>
          <p:nvPr/>
        </p:nvSpPr>
        <p:spPr>
          <a:xfrm>
            <a:off x="4854600" y="4917960"/>
            <a:ext cx="28875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609480" y="3409920"/>
            <a:ext cx="244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hase shift adds to the potential phase shift of the electron cloud motion with respect to the input ligh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5977080" y="526572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7"/>
          <p:cNvSpPr/>
          <p:nvPr/>
        </p:nvSpPr>
        <p:spPr>
          <a:xfrm>
            <a:off x="5297400" y="5614920"/>
            <a:ext cx="209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8"/>
          <p:cNvSpPr/>
          <p:nvPr/>
        </p:nvSpPr>
        <p:spPr>
          <a:xfrm>
            <a:off x="7170840" y="1814400"/>
            <a:ext cx="21420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9"/>
          <p:cNvSpPr/>
          <p:nvPr/>
        </p:nvSpPr>
        <p:spPr>
          <a:xfrm>
            <a:off x="6723000" y="522360"/>
            <a:ext cx="117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ed fiel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0"/>
          <p:cNvSpPr/>
          <p:nvPr/>
        </p:nvSpPr>
        <p:spPr>
          <a:xfrm>
            <a:off x="7174080" y="5616720"/>
            <a:ext cx="20772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7178760" y="3693960"/>
            <a:ext cx="19836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7759800" y="12826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emission.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3"/>
          <p:cNvSpPr/>
          <p:nvPr/>
        </p:nvSpPr>
        <p:spPr>
          <a:xfrm>
            <a:off x="7759800" y="31780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emiss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7759800" y="51022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emiss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3287880" y="1133640"/>
            <a:ext cx="1639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97"/>
          <p:cNvSpPr/>
          <p:nvPr/>
        </p:nvSpPr>
        <p:spPr>
          <a:xfrm>
            <a:off x="3363840" y="306864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07"/>
          <p:cNvSpPr/>
          <p:nvPr/>
        </p:nvSpPr>
        <p:spPr>
          <a:xfrm>
            <a:off x="3209760" y="5073480"/>
            <a:ext cx="17560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3526E-006 C -2.22222E-006 -0.04578 -2.22222E-006 -0.08924 -2.22222E-006 -0.08901 C 0.00018 -0.08924 0.00018 -0.04578 0.00035 -4.33526E-006 C 0.00035 0.05087 0.00035 0.10243 0.0007 0.10243 C 0.00087 0.10243 0.00087 0.05087 0.00087 -4.33526E-006 C 0.00104 -0.04578 0.00104 -0.08924 0.00122 -0.08924 C 0.00139 -0.08924 0.00139 -0.04578 0.00156 -4.33526E-006 C 0.00156 0.05087 0.00156 0.10243 0.00156 0.10243 C 0.00191 0.10243 0.00209 -4.33526000000002E-006 0.00209 0.00024 C 0.00209 -0.04578 0.00226 -0.08924 0.00243 -0.08924 C 0.00261 -0.08924 0.00261 -0.04578 0.00261 -4.33526E-006 C 0.00278 0.05087 0.00278 0.10243 0.00295 0.10243 C 0.00313 0.10243 0.00313 0.05087 0.0033 -4.33526E-006 C 0.0033 -0.04578 0.0033 -0.08924 0.00347 -0.08924 C 0.00365 -0.08924 0.00382 -0.04578 0.00382 -4.33526E-006 C 0.00382 0.05087 0.004 0.10243 0.00417 0.10243 C 0.00434 0.10243 0.00434 0.05087 0.00469 -4.33526E-006 E">
                                      <p:cBhvr>
                                        <p:cTn id="139" dur="5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6.93642E-007 C -2.77778E-006 -0.01318 -2.77778E-006 -0.02613 -0.00034 -0.02613 C -0.00052 -0.02613 -0.00052 -0.01318 -0.00052 6.93642E-007 C -0.00052 0.01595 -0.00052 0.03306 -0.00104 0.03306 C -0.00104 0.03306 -0.00104 0.01595 -0.00104 6.93642E-007 C -0.00139 -0.01318 -0.00139 -0.02613 -0.00156 -0.02613 C -0.00156 -0.02613 -0.00156 -0.01318 -0.00191 6.93642E-007 C -0.00191 0.01595 -0.00191 0.03306 -0.00208 0.03306 C -0.00208 0.03306 -0.00243 6.93641999999998E-007 -0.00243 0.00023 C -0.00243 -0.01318 -0.0026 -0.02613 -0.0026 -0.02613 C -0.00295 -0.02613 -0.00295 -0.01318 -0.00295 6.93642E-007 C -0.00312 0.01595 -0.00312 0.03306 -0.00312 0.03306 C -0.00347 0.03306 -0.00347 0.01595 -0.00364 6.93642E-007 C -0.00364 -0.01318 -0.00364 -0.02613 -0.00364 -0.02613 C -0.00399 -0.02613 -0.00416 -0.01318 -0.00416 6.93642E-007 C -0.00416 0.01595 -0.00416 0.03306 -0.00451 0.03306 C -0.00468 0.03306 -0.00468 0.01595 -0.00468 6.93642E-007 E">
                                      <p:cBhvr>
                                        <p:cTn id="141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469 -3.58382E-006 C -0.00469 -0.01133 -0.00469 -0.02196 -0.00469 -0.02173 C -0.00434 -0.02196 -0.00434 -0.01133 -0.00434 -3.58382E-006 C -0.00417 0.01318 -0.00417 0.02636 -0.00382 0.02636 C -0.00382 0.02659 -0.00382 0.01318 -0.00364 -3.58382E-006 C -0.00364 -0.01133 -0.00364 -0.02196 -0.00347 -0.02196 C -0.00312 -0.02196 -0.00312 -0.01133 -0.00312 -3.58382E-006 C -0.00295 0.01318 -0.00295 0.02636 -0.00295 0.02659 C -0.0026 0.02636 -0.00243 -3.58382000000001E-006 -0.00243 0.00023 C -0.00243 -0.01133 -0.00243 -0.02196 -0.00226 -0.02196 C -0.00191 -0.02196 -0.00191 -0.01133 -0.00191 -3.58382E-006 C -0.00191 0.01318 -0.00191 0.02636 -0.00156 0.02636 C -0.00139 0.02636 -0.00139 0.01318 -0.00139 -3.58382E-006 C -0.00121 -0.01133 -0.00121 -0.02196 -0.00104 -0.02196 C -0.00087 -0.02196 -0.00087 -0.01133 -0.00087 -3.58382E-006 C -0.00069 0.01318 -0.00069 0.02636 -0.00052 0.02636 C -0.00017 0.02636 -0.00017 0.01318 -8.33333E-007 -3.58382E-006 E">
                                      <p:cBhvr>
                                        <p:cTn id="143" dur="5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208 C -0.00469 -0.04255 -0.00469 -0.0807 -0.00451 -0.0807 C -0.00434 -0.0807 -0.00434 -0.04255 -0.00417 -0.00208 C -0.00417 0.04277 -0.00417 0.08809 -0.00382 0.08809 C -0.00365 0.08809 -0.00365 0.04277 -0.00365 -0.00208 C -0.00347 -0.04255 -0.00347 -0.0807 -0.0033 -0.0807 C -0.00312 -0.0807 -0.00312 -0.04255 -0.00295 -0.00208 C -0.00295 0.04277 -0.00295 0.08809 -0.00278 0.08809 C -0.0026 0.08809 -0.00243 -0.00208 -0.00243 -0.00162 C -0.00243 -0.04255 -0.00226 -0.0807 -0.00208 -0.0807 C -0.00191 -0.0807 -0.00191 -0.04255 -0.00191 -0.00208 C -0.00174 0.04277 -0.00174 0.08809 -0.00156 0.08809 C -0.00139 0.08809 -0.00139 0.04277 -0.00121 -0.00208 C -0.00121 -0.04255 -0.00121 -0.0807 -0.00104 -0.0807 C -0.00087 -0.0807 -0.00069 -0.04255 -0.00069 -0.00208 C -0.00069 0.04277 -0.00052 0.08809 -0.00035 0.08809 C -0.00017 0.08809 -0.00017 0.04277 -2.77778E-007 -0.00208 E">
                                      <p:cBhvr>
                                        <p:cTn id="147" dur="5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-0.00416 C 1.38889E-006 -0.04832 1.38889E-006 -0.09064 1.38889E-006 -0.0904 C 0.00035 -0.09064 0.00035 -0.04832 0.00069 -0.00416 C 0.00069 0.04509 0.00069 0.0948 0.00104 0.0948 C 0.00139 0.0948 0.00139 0.04509 0.00139 -0.00416 C 0.00139 -0.04832 0.00139 -0.09064 0.00173 -0.09064 C 0.00208 -0.09064 0.00208 -0.04832 0.00208 -0.00416 C 0.00208 0.04509 0.00208 0.0948 0.00243 0.0948 C 0.00278 0.0948 0.00278 -0.00416 0.00278 -0.00347 C 0.00278 -0.04832 0.00312 -0.09064 0.00347 -0.09064 C 0.00347 -0.0904 0.00347 -0.04832 0.00347 -0.00416 C 0.00382 0.04509 0.00382 0.0948 0.00417 0.0948 C 0.00417 0.09503 0.00417 0.04509 0.00451 -0.00416 C 0.00451 -0.04832 0.00451 -0.09064 0.00486 -0.09064 C 0.00486 -0.0904 0.00521 -0.04832 0.00521 -0.00416 C 0.00521 0.04509 0.00555 0.0948 0.00555 0.09503 C 0.0059 0.0948 0.0059 0.04509 0.00625 -0.00416 E">
                                      <p:cBhvr>
                                        <p:cTn id="149" dur="5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3.33333E-006 -0.00416 C -3.33333E-006 -0.04809 -3.33333000000001E-006 -0.08994 0.00018 -0.08994 C 0.00035 -0.08994 0.00035 -0.04809 0.00052 -0.00416 C 0.00052 0.04532 0.00052 0.09526 0.00087 0.09526 C 0.00105 0.09526 0.00105 0.04532 0.00105 -0.00416 C 0.00122 -0.04809 0.00122 -0.08994 0.00139 -0.08994 C 0.00157 -0.08994 0.00157 -0.04809 0.00174 -0.00416 C 0.00174 0.04532 0.00174 0.09526 0.00191 0.09526 C 0.00209 0.09526 0.00226 -0.00416 0.00226 -0.00324 C 0.00226 -0.04809 0.00243 -0.08994 0.00261 -0.08994 C 0.00278 -0.08994 0.00278 -0.04809 0.00278 -0.00416 C 0.00295 0.04532 0.00295 0.09526 0.00313 0.09526 C 0.0033 0.09526 0.0033 0.04532 0.00348 -0.00416 C 0.00348 -0.04809 0.00348 -0.08994 0.00365 -0.08994 C 0.00382 -0.08994 0.004 -0.04809 0.004 -0.00416 C 0.004 0.04532 0.00417 0.09526 0.00434 0.09526 C 0.00452 0.09526 0.00452 0.04532 0.00469 -0.00416 E">
                                      <p:cBhvr>
                                        <p:cTn id="151" dur="5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208 C 0.00469 -0.04694 0.00469 -0.08971 0.00451 -0.08971 C 0.00434 -0.08971 0.00434 -0.04694 0.00417 -0.00208 C 0.00417 0.04786 0.00417 0.09803 0.00382 0.09803 C 0.00364 0.09803 0.00364 0.04786 0.00364 -0.00208 C 0.00347 -0.04694 0.00347 -0.08971 0.0033 -0.08971 C 0.00312 -0.08971 0.00312 -0.04694 0.00295 -0.00208 C 0.00295 0.04786 0.00295 0.09803 0.00278 0.09803 C 0.0026 0.09803 0.00243 -0.00208 0.00243 -0.00162 C 0.00243 -0.04694 0.00226 -0.08971 0.00208 -0.08971 C 0.00191 -0.08971 0.00191 -0.04694 0.00191 -0.00208 C 0.00173 0.04786 0.00173 0.09803 0.00156 0.09803 C 0.00139 0.09803 0.00139 0.04786 0.00121 -0.00208 C 0.00121 -0.04694 0.00121 -0.08971 0.00104 -0.08971 C 0.00087 -0.08971 0.00069 -0.04694 0.00069 -0.00208 C 0.00069 0.04786 0.00052 0.09803 0.00035 0.09803 C 0.00017 0.09803 0.00017 0.04786 1.38889E-006 -0.00208 E">
                                      <p:cBhvr>
                                        <p:cTn id="155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2.25434E-006 C -0.00468 -0.01457 -0.00468 -0.02798 -0.00468 -0.02775 C -0.00451 -0.02798 -0.00451 -0.01457 -0.00416 2.25434E-006 C -0.00416 0.01618 -0.00416 0.03283 -0.00399 0.03283 C -0.00364 0.03283 -0.00364 0.01618 -0.00364 2.25434E-006 C -0.00364 -0.01457 -0.00364 -0.02798 -0.00347 -0.02798 C -0.00312 -0.02798 -0.00312 -0.01457 -0.00312 2.25434E-006 C -0.00312 0.01618 -0.00312 0.03283 -0.00295 0.03283 C -0.0026 0.03283 -0.0026 2.25434000000001E-006 -0.0026 0.00023 C -0.0026 -0.01457 -0.00243 -0.02798 -0.00208 -0.02798 C -0.00208 -0.02775 -0.00208 -0.01457 -0.00208 2.25434E-006 C -0.00191 0.01618 -0.00191 0.03283 -0.00156 0.03283 C -0.00156 0.03306 -0.00156 0.01618 -0.00139 2.25434E-006 C -0.00139 -0.01457 -0.00139 -0.02798 -0.00104 -0.02798 C -0.00104 -0.02775 -0.00087 -0.01457 -0.00087 2.25434E-006 C -0.00087 0.01618 -0.00052 0.03283 -0.00052 0.03306 C -0.00034 0.03283 -0.00034 0.01618 -2.5E-006 2.25434E-006 E">
                                      <p:cBhvr>
                                        <p:cTn id="157" dur="5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469 4.62428E-007 C -0.00469 -0.01734 -0.00469 -0.03306 -0.00451 -0.03306 C -0.00434 -0.03306 -0.00434 -0.01734 -0.00417 4.62428E-007 C -0.00417 0.01873 -0.00417 0.03815 -0.00382 0.03815 C -0.00364 0.03815 -0.00364 0.01873 -0.00364 4.62428E-007 C -0.00347 -0.01734 -0.00347 -0.03306 -0.0033 -0.03306 C -0.00312 -0.03306 -0.00312 -0.01734 -0.00295 4.62428E-007 C -0.00295 0.01873 -0.00295 0.03815 -0.00278 0.03815 C -0.0026 0.03815 -0.00243 4.62428000000008E-007 -0.00243 0.00023 C -0.00243 -0.01734 -0.00226 -0.03306 -0.00208 -0.03306 C -0.00191 -0.03306 -0.00191 -0.01734 -0.00191 4.62428E-007 C -0.00174 0.01873 -0.00174 0.03815 -0.00156 0.03815 C -0.00139 0.03815 -0.00139 0.01873 -0.00121 4.62428E-007 C -0.00121 -0.01734 -0.00121 -0.03306 -0.00104 -0.03306 C -0.00087 -0.03306 -0.00069 -0.01734 -0.00069 4.62428E-007 C -0.00069 0.01873 -0.00052 0.03815 -0.00035 0.03815 C -0.00017 0.03815 -0.00017 0.01873 -8.33333E-007 4.62428E-007 E">
                                      <p:cBhvr>
                                        <p:cTn id="159" dur="5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22200" y="207720"/>
            <a:ext cx="80596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olving for the slowly varying 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3080" y="1136160"/>
            <a:ext cx="51879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SVEA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fferential equation has the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5"/>
          <p:cNvGraphicFramePr/>
          <p:nvPr/>
        </p:nvGraphicFramePr>
        <p:xfrm>
          <a:off x="5100480" y="1674720"/>
          <a:ext cx="16750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0480" y="1674720"/>
                    <a:ext cx="16750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7"/>
          <p:cNvGraphicFramePr/>
          <p:nvPr/>
        </p:nvGraphicFramePr>
        <p:xfrm>
          <a:off x="5286240" y="2406600"/>
          <a:ext cx="311652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2406600"/>
                    <a:ext cx="31165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9"/>
          <p:cNvGraphicFramePr/>
          <p:nvPr/>
        </p:nvGraphicFramePr>
        <p:xfrm>
          <a:off x="2111400" y="5240160"/>
          <a:ext cx="475596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1400" y="5240160"/>
                    <a:ext cx="47559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10"/>
          <p:cNvGraphicFramePr/>
          <p:nvPr/>
        </p:nvGraphicFramePr>
        <p:xfrm>
          <a:off x="798480" y="1262160"/>
          <a:ext cx="140508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8480" y="1262160"/>
                    <a:ext cx="1405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12"/>
          <p:cNvSpPr/>
          <p:nvPr/>
        </p:nvSpPr>
        <p:spPr>
          <a:xfrm>
            <a:off x="473400" y="6103800"/>
            <a:ext cx="796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absorption co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refractive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13"/>
          <p:cNvGraphicFramePr/>
          <p:nvPr/>
        </p:nvGraphicFramePr>
        <p:xfrm>
          <a:off x="2701800" y="1068480"/>
          <a:ext cx="1757520" cy="81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5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1800" y="1068480"/>
                    <a:ext cx="17575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Line 14"/>
          <p:cNvSpPr/>
          <p:nvPr/>
        </p:nvSpPr>
        <p:spPr>
          <a:xfrm>
            <a:off x="2077920" y="1730520"/>
            <a:ext cx="2541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6"/>
          <p:cNvSpPr/>
          <p:nvPr/>
        </p:nvSpPr>
        <p:spPr>
          <a:xfrm>
            <a:off x="3429000" y="16318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7"/>
          <p:cNvSpPr/>
          <p:nvPr/>
        </p:nvSpPr>
        <p:spPr>
          <a:xfrm>
            <a:off x="433440" y="46594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18"/>
          <p:cNvGraphicFramePr/>
          <p:nvPr/>
        </p:nvGraphicFramePr>
        <p:xfrm>
          <a:off x="2111400" y="4149720"/>
          <a:ext cx="13986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0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11400" y="4149720"/>
                    <a:ext cx="1398600" cy="407880"/>
                  </a:xfrm>
                  <a:prstGeom prst="rect">
                    <a:avLst/>
                  </a:prstGeom>
                  <a:ln w="381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1" name="Object 19"/>
          <p:cNvGraphicFramePr/>
          <p:nvPr/>
        </p:nvGraphicFramePr>
        <p:xfrm>
          <a:off x="4797360" y="3914640"/>
          <a:ext cx="1957320" cy="79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2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97360" y="3914640"/>
                    <a:ext cx="1957320" cy="792360"/>
                  </a:xfrm>
                  <a:prstGeom prst="rect">
                    <a:avLst/>
                  </a:prstGeom>
                  <a:ln w="381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3" name="Rectangle 20"/>
          <p:cNvSpPr/>
          <p:nvPr/>
        </p:nvSpPr>
        <p:spPr>
          <a:xfrm>
            <a:off x="424800" y="3254400"/>
            <a:ext cx="67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new quantities for the real and imaginary parts o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wo waves add together with the same complex exponent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dd the complex amplitud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Adding complex ampl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75"/>
          <p:cNvSpPr/>
          <p:nvPr/>
        </p:nvSpPr>
        <p:spPr>
          <a:xfrm>
            <a:off x="5966640" y="581040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phase velocit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85"/>
          <p:cNvSpPr/>
          <p:nvPr/>
        </p:nvSpPr>
        <p:spPr>
          <a:xfrm>
            <a:off x="1374840" y="5811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6"/>
          <p:cNvSpPr/>
          <p:nvPr/>
        </p:nvSpPr>
        <p:spPr>
          <a:xfrm>
            <a:off x="3854520" y="58118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609480" y="2017800"/>
            <a:ext cx="7934400" cy="37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7"/>
          <p:cNvGrpSpPr/>
          <p:nvPr/>
        </p:nvGrpSpPr>
        <p:grpSpPr>
          <a:xfrm>
            <a:off x="3770280" y="3905640"/>
            <a:ext cx="1391760" cy="175320"/>
            <a:chOff x="3770280" y="3905640"/>
            <a:chExt cx="1391760" cy="175320"/>
          </a:xfrm>
        </p:grpSpPr>
        <p:grpSp>
          <p:nvGrpSpPr>
            <p:cNvPr id="385" name="Group 98"/>
            <p:cNvGrpSpPr/>
            <p:nvPr/>
          </p:nvGrpSpPr>
          <p:grpSpPr>
            <a:xfrm>
              <a:off x="4232880" y="3906000"/>
              <a:ext cx="462240" cy="169920"/>
              <a:chOff x="4232880" y="3906000"/>
              <a:chExt cx="462240" cy="169920"/>
            </a:xfrm>
          </p:grpSpPr>
          <p:sp>
            <p:nvSpPr>
              <p:cNvPr id="386" name="Arc 99"/>
              <p:cNvSpPr/>
              <p:nvPr/>
            </p:nvSpPr>
            <p:spPr>
              <a:xfrm flipH="1" rot="10802400">
                <a:off x="4232520" y="3942000"/>
                <a:ext cx="232200" cy="1339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rc 100"/>
              <p:cNvSpPr/>
              <p:nvPr/>
            </p:nvSpPr>
            <p:spPr>
              <a:xfrm flipH="1" flipV="1" rot="10802400">
                <a:off x="4469760" y="3906000"/>
                <a:ext cx="225360" cy="13320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0 h 133200"/>
                  <a:gd name="textAreaBottom" fmla="*/ 133200 h 13320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Arc 101"/>
            <p:cNvSpPr/>
            <p:nvPr/>
          </p:nvSpPr>
          <p:spPr>
            <a:xfrm flipH="1" rot="10802400">
              <a:off x="4691520" y="3949920"/>
              <a:ext cx="235800" cy="13104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102"/>
            <p:cNvSpPr/>
            <p:nvPr/>
          </p:nvSpPr>
          <p:spPr>
            <a:xfrm flipH="1" flipV="1" rot="10801800">
              <a:off x="4928760" y="3906000"/>
              <a:ext cx="233280" cy="1314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103"/>
            <p:cNvGrpSpPr/>
            <p:nvPr/>
          </p:nvGrpSpPr>
          <p:grpSpPr>
            <a:xfrm>
              <a:off x="3770280" y="3905640"/>
              <a:ext cx="463680" cy="169560"/>
              <a:chOff x="3770280" y="3905640"/>
              <a:chExt cx="463680" cy="169560"/>
            </a:xfrm>
          </p:grpSpPr>
          <p:sp>
            <p:nvSpPr>
              <p:cNvPr id="391" name="Arc 104"/>
              <p:cNvSpPr/>
              <p:nvPr/>
            </p:nvSpPr>
            <p:spPr>
              <a:xfrm flipH="1" rot="10802400">
                <a:off x="3769920" y="3940920"/>
                <a:ext cx="234360" cy="13428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rc 105"/>
              <p:cNvSpPr/>
              <p:nvPr/>
            </p:nvSpPr>
            <p:spPr>
              <a:xfrm flipH="1" flipV="1" rot="10802400">
                <a:off x="4004280" y="3905280"/>
                <a:ext cx="229320" cy="13356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133560"/>
                  <a:gd name="textAreaBottom" fmla="*/ 133560 h 13356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Group 106"/>
          <p:cNvGrpSpPr/>
          <p:nvPr/>
        </p:nvGrpSpPr>
        <p:grpSpPr>
          <a:xfrm>
            <a:off x="3995640" y="3087360"/>
            <a:ext cx="1392120" cy="440640"/>
            <a:chOff x="3995640" y="3087360"/>
            <a:chExt cx="1392120" cy="440640"/>
          </a:xfrm>
        </p:grpSpPr>
        <p:grpSp>
          <p:nvGrpSpPr>
            <p:cNvPr id="394" name="Group 107"/>
            <p:cNvGrpSpPr/>
            <p:nvPr/>
          </p:nvGrpSpPr>
          <p:grpSpPr>
            <a:xfrm>
              <a:off x="4458240" y="3089520"/>
              <a:ext cx="462240" cy="425880"/>
              <a:chOff x="4458240" y="3089520"/>
              <a:chExt cx="462240" cy="425880"/>
            </a:xfrm>
          </p:grpSpPr>
          <p:sp>
            <p:nvSpPr>
              <p:cNvPr id="395" name="Arc 108"/>
              <p:cNvSpPr/>
              <p:nvPr/>
            </p:nvSpPr>
            <p:spPr>
              <a:xfrm flipH="1" rot="10802400">
                <a:off x="4457880" y="3185280"/>
                <a:ext cx="232200" cy="3301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Arc 109"/>
              <p:cNvSpPr/>
              <p:nvPr/>
            </p:nvSpPr>
            <p:spPr>
              <a:xfrm flipH="1" flipV="1" rot="10802400">
                <a:off x="4695120" y="3089160"/>
                <a:ext cx="225360" cy="33012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rc 110"/>
            <p:cNvSpPr/>
            <p:nvPr/>
          </p:nvSpPr>
          <p:spPr>
            <a:xfrm flipH="1" rot="10802400">
              <a:off x="4917240" y="3198600"/>
              <a:ext cx="235800" cy="32940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111"/>
            <p:cNvSpPr/>
            <p:nvPr/>
          </p:nvSpPr>
          <p:spPr>
            <a:xfrm flipH="1" flipV="1" rot="10801800">
              <a:off x="5154480" y="3090240"/>
              <a:ext cx="233280" cy="3301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12"/>
            <p:cNvGrpSpPr/>
            <p:nvPr/>
          </p:nvGrpSpPr>
          <p:grpSpPr>
            <a:xfrm>
              <a:off x="3995640" y="3087360"/>
              <a:ext cx="464400" cy="425880"/>
              <a:chOff x="3995640" y="3087360"/>
              <a:chExt cx="464400" cy="425880"/>
            </a:xfrm>
          </p:grpSpPr>
          <p:sp>
            <p:nvSpPr>
              <p:cNvPr id="400" name="Arc 113"/>
              <p:cNvSpPr/>
              <p:nvPr/>
            </p:nvSpPr>
            <p:spPr>
              <a:xfrm flipH="1" rot="10802400">
                <a:off x="3995640" y="3183120"/>
                <a:ext cx="234720" cy="330120"/>
              </a:xfrm>
              <a:custGeom>
                <a:avLst/>
                <a:gdLst>
                  <a:gd name="textAreaLeft" fmla="*/ 0 w 234720"/>
                  <a:gd name="textAreaRight" fmla="*/ 234720 w 2347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14"/>
              <p:cNvSpPr/>
              <p:nvPr/>
            </p:nvSpPr>
            <p:spPr>
              <a:xfrm flipH="1" flipV="1" rot="10802400">
                <a:off x="4230360" y="3087000"/>
                <a:ext cx="229680" cy="330120"/>
              </a:xfrm>
              <a:custGeom>
                <a:avLst/>
                <a:gdLst>
                  <a:gd name="textAreaLeft" fmla="*/ 360 w 229680"/>
                  <a:gd name="textAreaRight" fmla="*/ 230400 w 22968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124"/>
          <p:cNvGrpSpPr/>
          <p:nvPr/>
        </p:nvGrpSpPr>
        <p:grpSpPr>
          <a:xfrm>
            <a:off x="3990960" y="4586760"/>
            <a:ext cx="1391760" cy="229680"/>
            <a:chOff x="3990960" y="4586760"/>
            <a:chExt cx="1391760" cy="229680"/>
          </a:xfrm>
        </p:grpSpPr>
        <p:grpSp>
          <p:nvGrpSpPr>
            <p:cNvPr id="403" name="Group 125"/>
            <p:cNvGrpSpPr/>
            <p:nvPr/>
          </p:nvGrpSpPr>
          <p:grpSpPr>
            <a:xfrm>
              <a:off x="4453560" y="4587840"/>
              <a:ext cx="462240" cy="221400"/>
              <a:chOff x="4453560" y="4587840"/>
              <a:chExt cx="462240" cy="221400"/>
            </a:xfrm>
          </p:grpSpPr>
          <p:sp>
            <p:nvSpPr>
              <p:cNvPr id="404" name="Arc 126"/>
              <p:cNvSpPr/>
              <p:nvPr/>
            </p:nvSpPr>
            <p:spPr>
              <a:xfrm flipH="1" rot="10802400">
                <a:off x="4453200" y="4636080"/>
                <a:ext cx="232200" cy="17316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rc 127"/>
              <p:cNvSpPr/>
              <p:nvPr/>
            </p:nvSpPr>
            <p:spPr>
              <a:xfrm flipH="1" flipV="1" rot="10802400">
                <a:off x="4690440" y="4587480"/>
                <a:ext cx="225360" cy="17316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-360 h 173160"/>
                  <a:gd name="textAreaBottom" fmla="*/ 173160 h 17316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Arc 128"/>
            <p:cNvSpPr/>
            <p:nvPr/>
          </p:nvSpPr>
          <p:spPr>
            <a:xfrm flipH="1" rot="10802400">
              <a:off x="4912200" y="4645080"/>
              <a:ext cx="235800" cy="17136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rc 129"/>
            <p:cNvSpPr/>
            <p:nvPr/>
          </p:nvSpPr>
          <p:spPr>
            <a:xfrm flipH="1" flipV="1" rot="10801800">
              <a:off x="5149440" y="4588920"/>
              <a:ext cx="233280" cy="17136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360 h 171360"/>
                <a:gd name="textAreaBottom" fmla="*/ 172080 h 17136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130"/>
            <p:cNvGrpSpPr/>
            <p:nvPr/>
          </p:nvGrpSpPr>
          <p:grpSpPr>
            <a:xfrm>
              <a:off x="3990960" y="4586760"/>
              <a:ext cx="463680" cy="221400"/>
              <a:chOff x="3990960" y="4586760"/>
              <a:chExt cx="463680" cy="221400"/>
            </a:xfrm>
          </p:grpSpPr>
          <p:sp>
            <p:nvSpPr>
              <p:cNvPr id="409" name="Arc 131"/>
              <p:cNvSpPr/>
              <p:nvPr/>
            </p:nvSpPr>
            <p:spPr>
              <a:xfrm flipH="1" rot="10802400">
                <a:off x="3990600" y="4635000"/>
                <a:ext cx="234360" cy="17316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rc 132"/>
              <p:cNvSpPr/>
              <p:nvPr/>
            </p:nvSpPr>
            <p:spPr>
              <a:xfrm flipH="1" flipV="1" rot="10802400">
                <a:off x="4224960" y="4586400"/>
                <a:ext cx="229320" cy="17316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173160"/>
                  <a:gd name="textAreaBottom" fmla="*/ 173160 h 17316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Text Box 156"/>
          <p:cNvSpPr/>
          <p:nvPr/>
        </p:nvSpPr>
        <p:spPr>
          <a:xfrm>
            <a:off x="4396680" y="3500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57"/>
          <p:cNvGrpSpPr/>
          <p:nvPr/>
        </p:nvGrpSpPr>
        <p:grpSpPr>
          <a:xfrm>
            <a:off x="4348080" y="2908440"/>
            <a:ext cx="461880" cy="2225160"/>
            <a:chOff x="4348080" y="2908440"/>
            <a:chExt cx="461880" cy="2225160"/>
          </a:xfrm>
        </p:grpSpPr>
        <p:sp>
          <p:nvSpPr>
            <p:cNvPr id="413" name="Line 158"/>
            <p:cNvSpPr/>
            <p:nvPr/>
          </p:nvSpPr>
          <p:spPr>
            <a:xfrm>
              <a:off x="4348080" y="2909880"/>
              <a:ext cx="0" cy="22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9"/>
            <p:cNvSpPr/>
            <p:nvPr/>
          </p:nvSpPr>
          <p:spPr>
            <a:xfrm>
              <a:off x="4809960" y="2908440"/>
              <a:ext cx="0" cy="22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65"/>
          <p:cNvSpPr/>
          <p:nvPr/>
        </p:nvSpPr>
        <p:spPr>
          <a:xfrm>
            <a:off x="4394880" y="4122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68"/>
          <p:cNvGrpSpPr/>
          <p:nvPr/>
        </p:nvGrpSpPr>
        <p:grpSpPr>
          <a:xfrm>
            <a:off x="4025880" y="5248440"/>
            <a:ext cx="957240" cy="398880"/>
            <a:chOff x="4025880" y="5248440"/>
            <a:chExt cx="957240" cy="398880"/>
          </a:xfrm>
        </p:grpSpPr>
        <p:sp>
          <p:nvSpPr>
            <p:cNvPr id="417" name="Line 166"/>
            <p:cNvSpPr/>
            <p:nvPr/>
          </p:nvSpPr>
          <p:spPr>
            <a:xfrm>
              <a:off x="4025880" y="527508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67"/>
            <p:cNvSpPr/>
            <p:nvPr/>
          </p:nvSpPr>
          <p:spPr>
            <a:xfrm>
              <a:off x="4214520" y="5248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177"/>
          <p:cNvSpPr/>
          <p:nvPr/>
        </p:nvSpPr>
        <p:spPr>
          <a:xfrm>
            <a:off x="3602160" y="2854440"/>
            <a:ext cx="395280" cy="23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3450600" y="3138480"/>
            <a:ext cx="529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0.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8"/>
          <p:cNvSpPr/>
          <p:nvPr/>
        </p:nvSpPr>
        <p:spPr>
          <a:xfrm>
            <a:off x="5175360" y="2908440"/>
            <a:ext cx="395280" cy="23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82"/>
          <p:cNvSpPr/>
          <p:nvPr/>
        </p:nvSpPr>
        <p:spPr>
          <a:xfrm>
            <a:off x="3710160" y="2066760"/>
            <a:ext cx="195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ve interferenc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830520" y="3138480"/>
            <a:ext cx="462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78"/>
          <p:cNvGrpSpPr/>
          <p:nvPr/>
        </p:nvGrpSpPr>
        <p:grpSpPr>
          <a:xfrm>
            <a:off x="1295280" y="3087360"/>
            <a:ext cx="1392120" cy="440640"/>
            <a:chOff x="1295280" y="3087360"/>
            <a:chExt cx="1392120" cy="440640"/>
          </a:xfrm>
        </p:grpSpPr>
        <p:grpSp>
          <p:nvGrpSpPr>
            <p:cNvPr id="425" name="Group 14"/>
            <p:cNvGrpSpPr/>
            <p:nvPr/>
          </p:nvGrpSpPr>
          <p:grpSpPr>
            <a:xfrm>
              <a:off x="1757880" y="3089520"/>
              <a:ext cx="462240" cy="425880"/>
              <a:chOff x="1757880" y="3089520"/>
              <a:chExt cx="462240" cy="425880"/>
            </a:xfrm>
          </p:grpSpPr>
          <p:sp>
            <p:nvSpPr>
              <p:cNvPr id="426" name="Arc 15"/>
              <p:cNvSpPr/>
              <p:nvPr/>
            </p:nvSpPr>
            <p:spPr>
              <a:xfrm flipH="1" rot="10802400">
                <a:off x="1757520" y="3185280"/>
                <a:ext cx="232200" cy="3301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6"/>
              <p:cNvSpPr/>
              <p:nvPr/>
            </p:nvSpPr>
            <p:spPr>
              <a:xfrm flipH="1" flipV="1" rot="10802400">
                <a:off x="1994760" y="3089160"/>
                <a:ext cx="225360" cy="33012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Arc 17"/>
            <p:cNvSpPr/>
            <p:nvPr/>
          </p:nvSpPr>
          <p:spPr>
            <a:xfrm flipH="1" rot="10802400">
              <a:off x="2216880" y="3198600"/>
              <a:ext cx="235800" cy="32940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rc 18"/>
            <p:cNvSpPr/>
            <p:nvPr/>
          </p:nvSpPr>
          <p:spPr>
            <a:xfrm flipH="1" flipV="1" rot="10801800">
              <a:off x="2454120" y="3090240"/>
              <a:ext cx="233280" cy="3301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19"/>
            <p:cNvGrpSpPr/>
            <p:nvPr/>
          </p:nvGrpSpPr>
          <p:grpSpPr>
            <a:xfrm>
              <a:off x="1295280" y="3087360"/>
              <a:ext cx="464400" cy="425880"/>
              <a:chOff x="1295280" y="3087360"/>
              <a:chExt cx="464400" cy="425880"/>
            </a:xfrm>
          </p:grpSpPr>
          <p:sp>
            <p:nvSpPr>
              <p:cNvPr id="431" name="Arc 20"/>
              <p:cNvSpPr/>
              <p:nvPr/>
            </p:nvSpPr>
            <p:spPr>
              <a:xfrm flipH="1" rot="10802400">
                <a:off x="1295280" y="3183120"/>
                <a:ext cx="234720" cy="330120"/>
              </a:xfrm>
              <a:custGeom>
                <a:avLst/>
                <a:gdLst>
                  <a:gd name="textAreaLeft" fmla="*/ 0 w 234720"/>
                  <a:gd name="textAreaRight" fmla="*/ 234720 w 2347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rc 21"/>
              <p:cNvSpPr/>
              <p:nvPr/>
            </p:nvSpPr>
            <p:spPr>
              <a:xfrm flipH="1" flipV="1" rot="10802400">
                <a:off x="1530000" y="3087000"/>
                <a:ext cx="229680" cy="330120"/>
              </a:xfrm>
              <a:custGeom>
                <a:avLst/>
                <a:gdLst>
                  <a:gd name="textAreaLeft" fmla="*/ 360 w 229680"/>
                  <a:gd name="textAreaRight" fmla="*/ 230400 w 22968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79"/>
          <p:cNvGrpSpPr/>
          <p:nvPr/>
        </p:nvGrpSpPr>
        <p:grpSpPr>
          <a:xfrm>
            <a:off x="1308240" y="3905640"/>
            <a:ext cx="1391760" cy="175320"/>
            <a:chOff x="1308240" y="3905640"/>
            <a:chExt cx="1391760" cy="175320"/>
          </a:xfrm>
        </p:grpSpPr>
        <p:grpSp>
          <p:nvGrpSpPr>
            <p:cNvPr id="434" name="Group 80"/>
            <p:cNvGrpSpPr/>
            <p:nvPr/>
          </p:nvGrpSpPr>
          <p:grpSpPr>
            <a:xfrm>
              <a:off x="1770840" y="3906000"/>
              <a:ext cx="462240" cy="169920"/>
              <a:chOff x="1770840" y="3906000"/>
              <a:chExt cx="462240" cy="169920"/>
            </a:xfrm>
          </p:grpSpPr>
          <p:sp>
            <p:nvSpPr>
              <p:cNvPr id="435" name="Arc 81"/>
              <p:cNvSpPr/>
              <p:nvPr/>
            </p:nvSpPr>
            <p:spPr>
              <a:xfrm flipH="1" rot="10802400">
                <a:off x="1770480" y="3942000"/>
                <a:ext cx="232200" cy="1339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rc 82"/>
              <p:cNvSpPr/>
              <p:nvPr/>
            </p:nvSpPr>
            <p:spPr>
              <a:xfrm flipH="1" flipV="1" rot="10802400">
                <a:off x="2007720" y="3906000"/>
                <a:ext cx="225360" cy="13320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0 h 133200"/>
                  <a:gd name="textAreaBottom" fmla="*/ 133200 h 13320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Arc 83"/>
            <p:cNvSpPr/>
            <p:nvPr/>
          </p:nvSpPr>
          <p:spPr>
            <a:xfrm flipH="1" rot="10802400">
              <a:off x="2229480" y="3949920"/>
              <a:ext cx="235800" cy="13104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rc 84"/>
            <p:cNvSpPr/>
            <p:nvPr/>
          </p:nvSpPr>
          <p:spPr>
            <a:xfrm flipH="1" flipV="1" rot="10801800">
              <a:off x="2466720" y="3906000"/>
              <a:ext cx="233280" cy="1314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85"/>
            <p:cNvGrpSpPr/>
            <p:nvPr/>
          </p:nvGrpSpPr>
          <p:grpSpPr>
            <a:xfrm>
              <a:off x="1308240" y="3905640"/>
              <a:ext cx="463680" cy="169560"/>
              <a:chOff x="1308240" y="3905640"/>
              <a:chExt cx="463680" cy="169560"/>
            </a:xfrm>
          </p:grpSpPr>
          <p:sp>
            <p:nvSpPr>
              <p:cNvPr id="440" name="Arc 86"/>
              <p:cNvSpPr/>
              <p:nvPr/>
            </p:nvSpPr>
            <p:spPr>
              <a:xfrm flipH="1" rot="10802400">
                <a:off x="1307880" y="3940920"/>
                <a:ext cx="234360" cy="13428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rc 87"/>
              <p:cNvSpPr/>
              <p:nvPr/>
            </p:nvSpPr>
            <p:spPr>
              <a:xfrm flipH="1" flipV="1" rot="10802400">
                <a:off x="1542240" y="3905280"/>
                <a:ext cx="229320" cy="13356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133560"/>
                  <a:gd name="textAreaBottom" fmla="*/ 133560 h 13356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88"/>
          <p:cNvGrpSpPr/>
          <p:nvPr/>
        </p:nvGrpSpPr>
        <p:grpSpPr>
          <a:xfrm>
            <a:off x="1304640" y="4426560"/>
            <a:ext cx="1392120" cy="694080"/>
            <a:chOff x="1304640" y="4426560"/>
            <a:chExt cx="1392120" cy="694080"/>
          </a:xfrm>
        </p:grpSpPr>
        <p:grpSp>
          <p:nvGrpSpPr>
            <p:cNvPr id="443" name="Group 89"/>
            <p:cNvGrpSpPr/>
            <p:nvPr/>
          </p:nvGrpSpPr>
          <p:grpSpPr>
            <a:xfrm>
              <a:off x="1767240" y="4429800"/>
              <a:ext cx="462960" cy="669960"/>
              <a:chOff x="1767240" y="4429800"/>
              <a:chExt cx="462960" cy="669960"/>
            </a:xfrm>
          </p:grpSpPr>
          <p:sp>
            <p:nvSpPr>
              <p:cNvPr id="444" name="Arc 90"/>
              <p:cNvSpPr/>
              <p:nvPr/>
            </p:nvSpPr>
            <p:spPr>
              <a:xfrm flipH="1" rot="10802400">
                <a:off x="1766880" y="4578480"/>
                <a:ext cx="232200" cy="52128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rc 91"/>
              <p:cNvSpPr/>
              <p:nvPr/>
            </p:nvSpPr>
            <p:spPr>
              <a:xfrm flipH="1" flipV="1" rot="10802400">
                <a:off x="2004840" y="4429800"/>
                <a:ext cx="225360" cy="52056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360 h 520560"/>
                  <a:gd name="textAreaBottom" fmla="*/ 521280 h 52056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Arc 92"/>
            <p:cNvSpPr/>
            <p:nvPr/>
          </p:nvSpPr>
          <p:spPr>
            <a:xfrm flipH="1" rot="10802400">
              <a:off x="2226600" y="4602960"/>
              <a:ext cx="235800" cy="51768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rc 93"/>
            <p:cNvSpPr/>
            <p:nvPr/>
          </p:nvSpPr>
          <p:spPr>
            <a:xfrm flipH="1" flipV="1" rot="10801800">
              <a:off x="2463480" y="4434120"/>
              <a:ext cx="233280" cy="5184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360 h 518400"/>
                <a:gd name="textAreaBottom" fmla="*/ 519120 h 51840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94"/>
            <p:cNvGrpSpPr/>
            <p:nvPr/>
          </p:nvGrpSpPr>
          <p:grpSpPr>
            <a:xfrm>
              <a:off x="1304640" y="4426560"/>
              <a:ext cx="464400" cy="669600"/>
              <a:chOff x="1304640" y="4426560"/>
              <a:chExt cx="464400" cy="669600"/>
            </a:xfrm>
          </p:grpSpPr>
          <p:sp>
            <p:nvSpPr>
              <p:cNvPr id="449" name="Arc 95"/>
              <p:cNvSpPr/>
              <p:nvPr/>
            </p:nvSpPr>
            <p:spPr>
              <a:xfrm flipH="1" rot="10802400">
                <a:off x="1304280" y="4573080"/>
                <a:ext cx="234360" cy="52308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rc 96"/>
              <p:cNvSpPr/>
              <p:nvPr/>
            </p:nvSpPr>
            <p:spPr>
              <a:xfrm flipH="1" flipV="1" rot="10802400">
                <a:off x="1539360" y="4426200"/>
                <a:ext cx="229320" cy="52308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523080"/>
                  <a:gd name="textAreaBottom" fmla="*/ 523080 h 52308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53"/>
          <p:cNvGrpSpPr/>
          <p:nvPr/>
        </p:nvGrpSpPr>
        <p:grpSpPr>
          <a:xfrm>
            <a:off x="1647720" y="2908440"/>
            <a:ext cx="462240" cy="2225160"/>
            <a:chOff x="1647720" y="2908440"/>
            <a:chExt cx="462240" cy="2225160"/>
          </a:xfrm>
        </p:grpSpPr>
        <p:sp>
          <p:nvSpPr>
            <p:cNvPr id="452" name="Line 151"/>
            <p:cNvSpPr/>
            <p:nvPr/>
          </p:nvSpPr>
          <p:spPr>
            <a:xfrm>
              <a:off x="1647720" y="2909880"/>
              <a:ext cx="0" cy="22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52"/>
            <p:cNvSpPr/>
            <p:nvPr/>
          </p:nvSpPr>
          <p:spPr>
            <a:xfrm>
              <a:off x="2109960" y="2908440"/>
              <a:ext cx="0" cy="22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154"/>
          <p:cNvSpPr/>
          <p:nvPr/>
        </p:nvSpPr>
        <p:spPr>
          <a:xfrm>
            <a:off x="1726200" y="3527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63"/>
          <p:cNvSpPr/>
          <p:nvPr/>
        </p:nvSpPr>
        <p:spPr>
          <a:xfrm>
            <a:off x="1726200" y="40640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69"/>
          <p:cNvGrpSpPr/>
          <p:nvPr/>
        </p:nvGrpSpPr>
        <p:grpSpPr>
          <a:xfrm>
            <a:off x="1347840" y="5248440"/>
            <a:ext cx="957240" cy="398880"/>
            <a:chOff x="1347840" y="5248440"/>
            <a:chExt cx="957240" cy="398880"/>
          </a:xfrm>
        </p:grpSpPr>
        <p:sp>
          <p:nvSpPr>
            <p:cNvPr id="457" name="Line 170"/>
            <p:cNvSpPr/>
            <p:nvPr/>
          </p:nvSpPr>
          <p:spPr>
            <a:xfrm>
              <a:off x="1347840" y="527508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71"/>
            <p:cNvSpPr/>
            <p:nvPr/>
          </p:nvSpPr>
          <p:spPr>
            <a:xfrm>
              <a:off x="1536480" y="5248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176"/>
          <p:cNvSpPr/>
          <p:nvPr/>
        </p:nvSpPr>
        <p:spPr>
          <a:xfrm>
            <a:off x="2463840" y="2870280"/>
            <a:ext cx="39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81"/>
          <p:cNvSpPr/>
          <p:nvPr/>
        </p:nvSpPr>
        <p:spPr>
          <a:xfrm>
            <a:off x="1038240" y="2066760"/>
            <a:ext cx="19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ve interferenc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15"/>
          <p:cNvGrpSpPr/>
          <p:nvPr/>
        </p:nvGrpSpPr>
        <p:grpSpPr>
          <a:xfrm>
            <a:off x="6819840" y="3085560"/>
            <a:ext cx="1391760" cy="440640"/>
            <a:chOff x="6819840" y="3085560"/>
            <a:chExt cx="1391760" cy="440640"/>
          </a:xfrm>
        </p:grpSpPr>
        <p:grpSp>
          <p:nvGrpSpPr>
            <p:cNvPr id="462" name="Group 116"/>
            <p:cNvGrpSpPr/>
            <p:nvPr/>
          </p:nvGrpSpPr>
          <p:grpSpPr>
            <a:xfrm>
              <a:off x="7282440" y="3087720"/>
              <a:ext cx="462240" cy="425880"/>
              <a:chOff x="7282440" y="3087720"/>
              <a:chExt cx="462240" cy="425880"/>
            </a:xfrm>
          </p:grpSpPr>
          <p:sp>
            <p:nvSpPr>
              <p:cNvPr id="463" name="Arc 117"/>
              <p:cNvSpPr/>
              <p:nvPr/>
            </p:nvSpPr>
            <p:spPr>
              <a:xfrm flipH="1" rot="10802400">
                <a:off x="7282080" y="3183480"/>
                <a:ext cx="232200" cy="3301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18"/>
              <p:cNvSpPr/>
              <p:nvPr/>
            </p:nvSpPr>
            <p:spPr>
              <a:xfrm flipH="1" flipV="1" rot="10802400">
                <a:off x="7519320" y="3087360"/>
                <a:ext cx="225360" cy="33012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Arc 119"/>
            <p:cNvSpPr/>
            <p:nvPr/>
          </p:nvSpPr>
          <p:spPr>
            <a:xfrm flipH="1" rot="10802400">
              <a:off x="7741080" y="3196800"/>
              <a:ext cx="235800" cy="32940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120"/>
            <p:cNvSpPr/>
            <p:nvPr/>
          </p:nvSpPr>
          <p:spPr>
            <a:xfrm flipH="1" flipV="1" rot="10801800">
              <a:off x="7978320" y="3088440"/>
              <a:ext cx="233280" cy="3301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21"/>
            <p:cNvGrpSpPr/>
            <p:nvPr/>
          </p:nvGrpSpPr>
          <p:grpSpPr>
            <a:xfrm>
              <a:off x="6819840" y="3085560"/>
              <a:ext cx="463680" cy="425880"/>
              <a:chOff x="6819840" y="3085560"/>
              <a:chExt cx="463680" cy="425880"/>
            </a:xfrm>
          </p:grpSpPr>
          <p:sp>
            <p:nvSpPr>
              <p:cNvPr id="468" name="Arc 122"/>
              <p:cNvSpPr/>
              <p:nvPr/>
            </p:nvSpPr>
            <p:spPr>
              <a:xfrm flipH="1" rot="10802400">
                <a:off x="6819480" y="3181320"/>
                <a:ext cx="234360" cy="33012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rc 123"/>
              <p:cNvSpPr/>
              <p:nvPr/>
            </p:nvSpPr>
            <p:spPr>
              <a:xfrm flipH="1" flipV="1" rot="10802400">
                <a:off x="7053840" y="3085200"/>
                <a:ext cx="229320" cy="33012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133"/>
          <p:cNvGrpSpPr/>
          <p:nvPr/>
        </p:nvGrpSpPr>
        <p:grpSpPr>
          <a:xfrm>
            <a:off x="6734160" y="3905640"/>
            <a:ext cx="1391760" cy="175320"/>
            <a:chOff x="6734160" y="3905640"/>
            <a:chExt cx="1391760" cy="175320"/>
          </a:xfrm>
        </p:grpSpPr>
        <p:grpSp>
          <p:nvGrpSpPr>
            <p:cNvPr id="471" name="Group 134"/>
            <p:cNvGrpSpPr/>
            <p:nvPr/>
          </p:nvGrpSpPr>
          <p:grpSpPr>
            <a:xfrm>
              <a:off x="7196760" y="3906000"/>
              <a:ext cx="462240" cy="169920"/>
              <a:chOff x="7196760" y="3906000"/>
              <a:chExt cx="462240" cy="169920"/>
            </a:xfrm>
          </p:grpSpPr>
          <p:sp>
            <p:nvSpPr>
              <p:cNvPr id="472" name="Arc 135"/>
              <p:cNvSpPr/>
              <p:nvPr/>
            </p:nvSpPr>
            <p:spPr>
              <a:xfrm flipH="1" rot="10802400">
                <a:off x="7196400" y="3942000"/>
                <a:ext cx="232200" cy="1339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rc 136"/>
              <p:cNvSpPr/>
              <p:nvPr/>
            </p:nvSpPr>
            <p:spPr>
              <a:xfrm flipH="1" flipV="1" rot="10802400">
                <a:off x="7433640" y="3906000"/>
                <a:ext cx="225360" cy="13320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0 h 133200"/>
                  <a:gd name="textAreaBottom" fmla="*/ 133200 h 13320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Arc 137"/>
            <p:cNvSpPr/>
            <p:nvPr/>
          </p:nvSpPr>
          <p:spPr>
            <a:xfrm flipH="1" rot="10802400">
              <a:off x="7655400" y="3949920"/>
              <a:ext cx="235800" cy="13104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138"/>
            <p:cNvSpPr/>
            <p:nvPr/>
          </p:nvSpPr>
          <p:spPr>
            <a:xfrm flipH="1" flipV="1" rot="10801800">
              <a:off x="7892640" y="3906000"/>
              <a:ext cx="233280" cy="1314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39"/>
            <p:cNvGrpSpPr/>
            <p:nvPr/>
          </p:nvGrpSpPr>
          <p:grpSpPr>
            <a:xfrm>
              <a:off x="6734160" y="3905640"/>
              <a:ext cx="463680" cy="169560"/>
              <a:chOff x="6734160" y="3905640"/>
              <a:chExt cx="463680" cy="169560"/>
            </a:xfrm>
          </p:grpSpPr>
          <p:sp>
            <p:nvSpPr>
              <p:cNvPr id="477" name="Arc 140"/>
              <p:cNvSpPr/>
              <p:nvPr/>
            </p:nvSpPr>
            <p:spPr>
              <a:xfrm flipH="1" rot="10802400">
                <a:off x="6733800" y="3940920"/>
                <a:ext cx="234360" cy="13428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rc 141"/>
              <p:cNvSpPr/>
              <p:nvPr/>
            </p:nvSpPr>
            <p:spPr>
              <a:xfrm flipH="1" flipV="1" rot="10802400">
                <a:off x="6968160" y="3905280"/>
                <a:ext cx="229320" cy="13356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133560"/>
                  <a:gd name="textAreaBottom" fmla="*/ 133560 h 13356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155"/>
          <p:cNvSpPr/>
          <p:nvPr/>
        </p:nvSpPr>
        <p:spPr>
          <a:xfrm>
            <a:off x="7209720" y="35132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60"/>
          <p:cNvGrpSpPr/>
          <p:nvPr/>
        </p:nvGrpSpPr>
        <p:grpSpPr>
          <a:xfrm>
            <a:off x="7157880" y="2908440"/>
            <a:ext cx="475920" cy="2225160"/>
            <a:chOff x="7157880" y="2908440"/>
            <a:chExt cx="475920" cy="2225160"/>
          </a:xfrm>
        </p:grpSpPr>
        <p:sp>
          <p:nvSpPr>
            <p:cNvPr id="481" name="Line 161"/>
            <p:cNvSpPr/>
            <p:nvPr/>
          </p:nvSpPr>
          <p:spPr>
            <a:xfrm>
              <a:off x="7157880" y="2909880"/>
              <a:ext cx="0" cy="22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62"/>
            <p:cNvSpPr/>
            <p:nvPr/>
          </p:nvSpPr>
          <p:spPr>
            <a:xfrm>
              <a:off x="7633800" y="2908440"/>
              <a:ext cx="0" cy="222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164"/>
          <p:cNvSpPr/>
          <p:nvPr/>
        </p:nvSpPr>
        <p:spPr>
          <a:xfrm>
            <a:off x="7209720" y="4121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72"/>
          <p:cNvGrpSpPr/>
          <p:nvPr/>
        </p:nvGrpSpPr>
        <p:grpSpPr>
          <a:xfrm>
            <a:off x="6875640" y="5248440"/>
            <a:ext cx="957240" cy="398880"/>
            <a:chOff x="6875640" y="5248440"/>
            <a:chExt cx="957240" cy="398880"/>
          </a:xfrm>
        </p:grpSpPr>
        <p:sp>
          <p:nvSpPr>
            <p:cNvPr id="485" name="Line 173"/>
            <p:cNvSpPr/>
            <p:nvPr/>
          </p:nvSpPr>
          <p:spPr>
            <a:xfrm>
              <a:off x="6875640" y="5275080"/>
              <a:ext cx="9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74"/>
            <p:cNvSpPr/>
            <p:nvPr/>
          </p:nvSpPr>
          <p:spPr>
            <a:xfrm>
              <a:off x="7064280" y="5248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183"/>
          <p:cNvSpPr/>
          <p:nvPr/>
        </p:nvSpPr>
        <p:spPr>
          <a:xfrm>
            <a:off x="5556240" y="2066760"/>
            <a:ext cx="30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Quadrature phase" ±90° interferenc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87"/>
          <p:cNvGrpSpPr/>
          <p:nvPr/>
        </p:nvGrpSpPr>
        <p:grpSpPr>
          <a:xfrm>
            <a:off x="6761160" y="4482720"/>
            <a:ext cx="1391760" cy="440640"/>
            <a:chOff x="6761160" y="4482720"/>
            <a:chExt cx="1391760" cy="440640"/>
          </a:xfrm>
        </p:grpSpPr>
        <p:grpSp>
          <p:nvGrpSpPr>
            <p:cNvPr id="489" name="Group 188"/>
            <p:cNvGrpSpPr/>
            <p:nvPr/>
          </p:nvGrpSpPr>
          <p:grpSpPr>
            <a:xfrm>
              <a:off x="7223760" y="4484880"/>
              <a:ext cx="462240" cy="425880"/>
              <a:chOff x="7223760" y="4484880"/>
              <a:chExt cx="462240" cy="425880"/>
            </a:xfrm>
          </p:grpSpPr>
          <p:sp>
            <p:nvSpPr>
              <p:cNvPr id="490" name="Arc 189"/>
              <p:cNvSpPr/>
              <p:nvPr/>
            </p:nvSpPr>
            <p:spPr>
              <a:xfrm flipH="1" rot="10802400">
                <a:off x="7223400" y="4580640"/>
                <a:ext cx="232200" cy="330120"/>
              </a:xfrm>
              <a:custGeom>
                <a:avLst/>
                <a:gdLst>
                  <a:gd name="textAreaLeft" fmla="*/ -360 w 232200"/>
                  <a:gd name="textAreaRight" fmla="*/ 232200 w 2322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rc 190"/>
              <p:cNvSpPr/>
              <p:nvPr/>
            </p:nvSpPr>
            <p:spPr>
              <a:xfrm flipH="1" flipV="1" rot="10802400">
                <a:off x="7460640" y="4484520"/>
                <a:ext cx="225360" cy="33012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Arc 191"/>
            <p:cNvSpPr/>
            <p:nvPr/>
          </p:nvSpPr>
          <p:spPr>
            <a:xfrm flipH="1" rot="10802400">
              <a:off x="7682400" y="4593960"/>
              <a:ext cx="235800" cy="329400"/>
            </a:xfrm>
            <a:custGeom>
              <a:avLst/>
              <a:gdLst>
                <a:gd name="textAreaLeft" fmla="*/ -360 w 235800"/>
                <a:gd name="textAreaRight" fmla="*/ 235800 w 2358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fill="none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</a:path>
                <a:path stroke="0" w="41051" h="21600">
                  <a:moveTo>
                    <a:pt x="-1" y="14962"/>
                  </a:moveTo>
                  <a:cubicBezTo>
                    <a:pt x="2879" y="6044"/>
                    <a:pt x="11182" y="-1"/>
                    <a:pt x="20555" y="-1"/>
                  </a:cubicBezTo>
                  <a:cubicBezTo>
                    <a:pt x="29857" y="-1"/>
                    <a:pt x="38114" y="5955"/>
                    <a:pt x="41050" y="14782"/>
                  </a:cubicBezTo>
                  <a:lnTo>
                    <a:pt x="20555" y="21600"/>
                  </a:lnTo>
                  <a:lnTo>
                    <a:pt x="-1" y="1496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rc 192"/>
            <p:cNvSpPr/>
            <p:nvPr/>
          </p:nvSpPr>
          <p:spPr>
            <a:xfrm flipH="1" flipV="1" rot="10801800">
              <a:off x="7919640" y="4485600"/>
              <a:ext cx="233280" cy="3301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-36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fill="none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</a:path>
                <a:path stroke="0" w="40937" h="21600">
                  <a:moveTo>
                    <a:pt x="-1" y="15743"/>
                  </a:moveTo>
                  <a:cubicBezTo>
                    <a:pt x="2622" y="6432"/>
                    <a:pt x="11116" y="-1"/>
                    <a:pt x="20791" y="-1"/>
                  </a:cubicBezTo>
                  <a:cubicBezTo>
                    <a:pt x="29714" y="-1"/>
                    <a:pt x="37719" y="5487"/>
                    <a:pt x="40937" y="13809"/>
                  </a:cubicBezTo>
                  <a:lnTo>
                    <a:pt x="20791" y="21600"/>
                  </a:lnTo>
                  <a:lnTo>
                    <a:pt x="-1" y="1574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193"/>
            <p:cNvGrpSpPr/>
            <p:nvPr/>
          </p:nvGrpSpPr>
          <p:grpSpPr>
            <a:xfrm>
              <a:off x="6761160" y="4482720"/>
              <a:ext cx="463680" cy="425880"/>
              <a:chOff x="6761160" y="4482720"/>
              <a:chExt cx="463680" cy="425880"/>
            </a:xfrm>
          </p:grpSpPr>
          <p:sp>
            <p:nvSpPr>
              <p:cNvPr id="495" name="Arc 194"/>
              <p:cNvSpPr/>
              <p:nvPr/>
            </p:nvSpPr>
            <p:spPr>
              <a:xfrm flipH="1" rot="10802400">
                <a:off x="6760800" y="4578480"/>
                <a:ext cx="234360" cy="33012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rc 195"/>
              <p:cNvSpPr/>
              <p:nvPr/>
            </p:nvSpPr>
            <p:spPr>
              <a:xfrm flipH="1" flipV="1" rot="10802400">
                <a:off x="6995160" y="4482360"/>
                <a:ext cx="229320" cy="330120"/>
              </a:xfrm>
              <a:custGeom>
                <a:avLst/>
                <a:gdLst>
                  <a:gd name="textAreaLeft" fmla="*/ 0 w 229320"/>
                  <a:gd name="textAreaRight" fmla="*/ 229320 w 22932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fill="none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</a:path>
                  <a:path stroke="0" w="40133" h="21600">
                    <a:moveTo>
                      <a:pt x="-1" y="13410"/>
                    </a:moveTo>
                    <a:cubicBezTo>
                      <a:pt x="3323" y="5298"/>
                      <a:pt x="11220" y="-1"/>
                      <a:pt x="19987" y="-1"/>
                    </a:cubicBezTo>
                    <a:cubicBezTo>
                      <a:pt x="28910" y="-1"/>
                      <a:pt x="36915" y="5487"/>
                      <a:pt x="40133" y="13809"/>
                    </a:cubicBezTo>
                    <a:lnTo>
                      <a:pt x="19987" y="21600"/>
                    </a:lnTo>
                    <a:lnTo>
                      <a:pt x="-1" y="13410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79"/>
          <p:cNvSpPr/>
          <p:nvPr/>
        </p:nvSpPr>
        <p:spPr>
          <a:xfrm>
            <a:off x="8013600" y="2917800"/>
            <a:ext cx="39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80"/>
          <p:cNvSpPr/>
          <p:nvPr/>
        </p:nvSpPr>
        <p:spPr>
          <a:xfrm>
            <a:off x="6407280" y="2901960"/>
            <a:ext cx="3952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6084720" y="3138480"/>
            <a:ext cx="69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0.2i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0.2i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4360" y="285840"/>
            <a:ext cx="8123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complete electric field in a med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omagnetic wave in the medium becomes (combining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ly varying envelope with the complex exponentia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Object 4"/>
          <p:cNvGraphicFramePr/>
          <p:nvPr/>
        </p:nvGraphicFramePr>
        <p:xfrm>
          <a:off x="1198440" y="2362320"/>
          <a:ext cx="639936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2362320"/>
                    <a:ext cx="63993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5"/>
          <p:cNvGraphicFramePr/>
          <p:nvPr/>
        </p:nvGraphicFramePr>
        <p:xfrm>
          <a:off x="1495440" y="4205160"/>
          <a:ext cx="60912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5440" y="4205160"/>
                    <a:ext cx="6091200" cy="487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70" name="Line 6"/>
          <p:cNvSpPr/>
          <p:nvPr/>
        </p:nvSpPr>
        <p:spPr>
          <a:xfrm flipV="1">
            <a:off x="3865680" y="4597200"/>
            <a:ext cx="544320" cy="54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"/>
          <p:cNvSpPr/>
          <p:nvPr/>
        </p:nvSpPr>
        <p:spPr>
          <a:xfrm flipV="1">
            <a:off x="6338880" y="4576320"/>
            <a:ext cx="1440" cy="5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8"/>
          <p:cNvSpPr/>
          <p:nvPr/>
        </p:nvSpPr>
        <p:spPr>
          <a:xfrm rot="16200000">
            <a:off x="3862440" y="1158840"/>
            <a:ext cx="350640" cy="3532320"/>
          </a:xfrm>
          <a:custGeom>
            <a:avLst/>
            <a:gdLst>
              <a:gd name="textAreaLeft" fmla="*/ 223920 w 350640"/>
              <a:gd name="textAreaRight" fmla="*/ 351000 w 350640"/>
              <a:gd name="textAreaTop" fmla="*/ 91800 h 3532320"/>
              <a:gd name="textAreaBottom" fmla="*/ 3440520 h 353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"/>
          <p:cNvSpPr/>
          <p:nvPr/>
        </p:nvSpPr>
        <p:spPr>
          <a:xfrm>
            <a:off x="1946160" y="5097600"/>
            <a:ext cx="64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bsorption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Refractive index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ttenuates the 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changes the k-vecto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3671640" y="3051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0040" y="33768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light wave entering a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773280" y="1374840"/>
            <a:ext cx="7575480" cy="40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345960" y="58165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the speed of light, the wavelength, and the amplitude decrease, but the frequency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oes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hang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8"/>
          <p:cNvSpPr/>
          <p:nvPr/>
        </p:nvSpPr>
        <p:spPr>
          <a:xfrm>
            <a:off x="4537080" y="1862280"/>
            <a:ext cx="3587760" cy="339084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9"/>
          <p:cNvGrpSpPr/>
          <p:nvPr/>
        </p:nvGrpSpPr>
        <p:grpSpPr>
          <a:xfrm>
            <a:off x="947880" y="2530080"/>
            <a:ext cx="7153200" cy="2229120"/>
            <a:chOff x="947880" y="2530080"/>
            <a:chExt cx="7153200" cy="2229120"/>
          </a:xfrm>
        </p:grpSpPr>
        <p:grpSp>
          <p:nvGrpSpPr>
            <p:cNvPr id="880" name="Group 10"/>
            <p:cNvGrpSpPr/>
            <p:nvPr/>
          </p:nvGrpSpPr>
          <p:grpSpPr>
            <a:xfrm>
              <a:off x="947880" y="2530080"/>
              <a:ext cx="3564000" cy="2229120"/>
              <a:chOff x="947880" y="2530080"/>
              <a:chExt cx="3564000" cy="2229120"/>
            </a:xfrm>
          </p:grpSpPr>
          <p:sp>
            <p:nvSpPr>
              <p:cNvPr id="881" name="Line 11"/>
              <p:cNvSpPr/>
              <p:nvPr/>
            </p:nvSpPr>
            <p:spPr>
              <a:xfrm flipV="1">
                <a:off x="947880" y="3260880"/>
                <a:ext cx="237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2"/>
              <p:cNvSpPr/>
              <p:nvPr/>
            </p:nvSpPr>
            <p:spPr>
              <a:xfrm flipV="1">
                <a:off x="971640" y="3087360"/>
                <a:ext cx="381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3"/>
              <p:cNvSpPr/>
              <p:nvPr/>
            </p:nvSpPr>
            <p:spPr>
              <a:xfrm flipV="1">
                <a:off x="1009800" y="2927160"/>
                <a:ext cx="1260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4"/>
              <p:cNvSpPr/>
              <p:nvPr/>
            </p:nvSpPr>
            <p:spPr>
              <a:xfrm flipV="1">
                <a:off x="1022400" y="2790720"/>
                <a:ext cx="3672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5"/>
              <p:cNvSpPr/>
              <p:nvPr/>
            </p:nvSpPr>
            <p:spPr>
              <a:xfrm flipV="1">
                <a:off x="1059120" y="2679840"/>
                <a:ext cx="237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16"/>
              <p:cNvSpPr/>
              <p:nvPr/>
            </p:nvSpPr>
            <p:spPr>
              <a:xfrm flipV="1">
                <a:off x="1082880" y="2592000"/>
                <a:ext cx="255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17"/>
              <p:cNvSpPr/>
              <p:nvPr/>
            </p:nvSpPr>
            <p:spPr>
              <a:xfrm flipV="1">
                <a:off x="1108440" y="2542680"/>
                <a:ext cx="363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8"/>
              <p:cNvSpPr/>
              <p:nvPr/>
            </p:nvSpPr>
            <p:spPr>
              <a:xfrm flipV="1">
                <a:off x="1144800" y="2530080"/>
                <a:ext cx="255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9"/>
              <p:cNvSpPr/>
              <p:nvPr/>
            </p:nvSpPr>
            <p:spPr>
              <a:xfrm>
                <a:off x="1170360" y="2530440"/>
                <a:ext cx="363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20"/>
              <p:cNvSpPr/>
              <p:nvPr/>
            </p:nvSpPr>
            <p:spPr>
              <a:xfrm>
                <a:off x="1206720" y="2543040"/>
                <a:ext cx="1260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21"/>
              <p:cNvSpPr/>
              <p:nvPr/>
            </p:nvSpPr>
            <p:spPr>
              <a:xfrm>
                <a:off x="1219320" y="2592360"/>
                <a:ext cx="381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22"/>
              <p:cNvSpPr/>
              <p:nvPr/>
            </p:nvSpPr>
            <p:spPr>
              <a:xfrm>
                <a:off x="1257480" y="2679840"/>
                <a:ext cx="237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23"/>
              <p:cNvSpPr/>
              <p:nvPr/>
            </p:nvSpPr>
            <p:spPr>
              <a:xfrm>
                <a:off x="1281240" y="2790720"/>
                <a:ext cx="2556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24"/>
              <p:cNvSpPr/>
              <p:nvPr/>
            </p:nvSpPr>
            <p:spPr>
              <a:xfrm>
                <a:off x="1306800" y="2927520"/>
                <a:ext cx="363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25"/>
              <p:cNvSpPr/>
              <p:nvPr/>
            </p:nvSpPr>
            <p:spPr>
              <a:xfrm>
                <a:off x="1343160" y="3087720"/>
                <a:ext cx="255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26"/>
              <p:cNvSpPr/>
              <p:nvPr/>
            </p:nvSpPr>
            <p:spPr>
              <a:xfrm>
                <a:off x="1368720" y="3260880"/>
                <a:ext cx="237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27"/>
              <p:cNvSpPr/>
              <p:nvPr/>
            </p:nvSpPr>
            <p:spPr>
              <a:xfrm>
                <a:off x="1392480" y="3446640"/>
                <a:ext cx="255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28"/>
              <p:cNvSpPr/>
              <p:nvPr/>
            </p:nvSpPr>
            <p:spPr>
              <a:xfrm>
                <a:off x="1418040" y="3645000"/>
                <a:ext cx="2520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29"/>
              <p:cNvSpPr/>
              <p:nvPr/>
            </p:nvSpPr>
            <p:spPr>
              <a:xfrm>
                <a:off x="1443240" y="3843360"/>
                <a:ext cx="363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0"/>
              <p:cNvSpPr/>
              <p:nvPr/>
            </p:nvSpPr>
            <p:spPr>
              <a:xfrm>
                <a:off x="1479600" y="4029120"/>
                <a:ext cx="255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31"/>
              <p:cNvSpPr/>
              <p:nvPr/>
            </p:nvSpPr>
            <p:spPr>
              <a:xfrm>
                <a:off x="1505160" y="4202280"/>
                <a:ext cx="363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32"/>
              <p:cNvSpPr/>
              <p:nvPr/>
            </p:nvSpPr>
            <p:spPr>
              <a:xfrm>
                <a:off x="1541520" y="4362480"/>
                <a:ext cx="2556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33"/>
              <p:cNvSpPr/>
              <p:nvPr/>
            </p:nvSpPr>
            <p:spPr>
              <a:xfrm>
                <a:off x="1567080" y="4498920"/>
                <a:ext cx="237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34"/>
              <p:cNvSpPr/>
              <p:nvPr/>
            </p:nvSpPr>
            <p:spPr>
              <a:xfrm>
                <a:off x="1590840" y="4610160"/>
                <a:ext cx="255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35"/>
              <p:cNvSpPr/>
              <p:nvPr/>
            </p:nvSpPr>
            <p:spPr>
              <a:xfrm>
                <a:off x="1616400" y="4684680"/>
                <a:ext cx="237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36"/>
              <p:cNvSpPr/>
              <p:nvPr/>
            </p:nvSpPr>
            <p:spPr>
              <a:xfrm>
                <a:off x="1640160" y="4734000"/>
                <a:ext cx="3816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37"/>
              <p:cNvSpPr/>
              <p:nvPr/>
            </p:nvSpPr>
            <p:spPr>
              <a:xfrm flipV="1">
                <a:off x="1678320" y="4734000"/>
                <a:ext cx="2376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38"/>
              <p:cNvSpPr/>
              <p:nvPr/>
            </p:nvSpPr>
            <p:spPr>
              <a:xfrm flipV="1">
                <a:off x="1702080" y="4684320"/>
                <a:ext cx="2520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39"/>
              <p:cNvSpPr/>
              <p:nvPr/>
            </p:nvSpPr>
            <p:spPr>
              <a:xfrm flipV="1">
                <a:off x="1727280" y="4609800"/>
                <a:ext cx="3672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40"/>
              <p:cNvSpPr/>
              <p:nvPr/>
            </p:nvSpPr>
            <p:spPr>
              <a:xfrm flipV="1">
                <a:off x="1764000" y="4498560"/>
                <a:ext cx="2520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41"/>
              <p:cNvSpPr/>
              <p:nvPr/>
            </p:nvSpPr>
            <p:spPr>
              <a:xfrm flipV="1">
                <a:off x="1789200" y="4362120"/>
                <a:ext cx="2412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42"/>
              <p:cNvSpPr/>
              <p:nvPr/>
            </p:nvSpPr>
            <p:spPr>
              <a:xfrm flipV="1">
                <a:off x="1813320" y="4201920"/>
                <a:ext cx="2520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43"/>
              <p:cNvSpPr/>
              <p:nvPr/>
            </p:nvSpPr>
            <p:spPr>
              <a:xfrm flipV="1">
                <a:off x="1838520" y="4028760"/>
                <a:ext cx="255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44"/>
              <p:cNvSpPr/>
              <p:nvPr/>
            </p:nvSpPr>
            <p:spPr>
              <a:xfrm flipV="1">
                <a:off x="1864080" y="3843360"/>
                <a:ext cx="363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45"/>
              <p:cNvSpPr/>
              <p:nvPr/>
            </p:nvSpPr>
            <p:spPr>
              <a:xfrm flipV="1">
                <a:off x="1900440" y="3644640"/>
                <a:ext cx="255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46"/>
              <p:cNvSpPr/>
              <p:nvPr/>
            </p:nvSpPr>
            <p:spPr>
              <a:xfrm flipV="1">
                <a:off x="1926000" y="3446280"/>
                <a:ext cx="363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47"/>
              <p:cNvSpPr/>
              <p:nvPr/>
            </p:nvSpPr>
            <p:spPr>
              <a:xfrm flipV="1">
                <a:off x="1962360" y="3260880"/>
                <a:ext cx="255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48"/>
              <p:cNvSpPr/>
              <p:nvPr/>
            </p:nvSpPr>
            <p:spPr>
              <a:xfrm flipV="1">
                <a:off x="1987920" y="3087360"/>
                <a:ext cx="237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49"/>
              <p:cNvSpPr/>
              <p:nvPr/>
            </p:nvSpPr>
            <p:spPr>
              <a:xfrm flipV="1">
                <a:off x="2011680" y="2927160"/>
                <a:ext cx="2520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50"/>
              <p:cNvSpPr/>
              <p:nvPr/>
            </p:nvSpPr>
            <p:spPr>
              <a:xfrm flipV="1">
                <a:off x="2036880" y="2790720"/>
                <a:ext cx="2376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51"/>
              <p:cNvSpPr/>
              <p:nvPr/>
            </p:nvSpPr>
            <p:spPr>
              <a:xfrm flipV="1">
                <a:off x="2060640" y="2679840"/>
                <a:ext cx="381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52"/>
              <p:cNvSpPr/>
              <p:nvPr/>
            </p:nvSpPr>
            <p:spPr>
              <a:xfrm flipV="1">
                <a:off x="2098800" y="2592000"/>
                <a:ext cx="237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53"/>
              <p:cNvSpPr/>
              <p:nvPr/>
            </p:nvSpPr>
            <p:spPr>
              <a:xfrm flipV="1">
                <a:off x="2122560" y="2542680"/>
                <a:ext cx="255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54"/>
              <p:cNvSpPr/>
              <p:nvPr/>
            </p:nvSpPr>
            <p:spPr>
              <a:xfrm flipV="1">
                <a:off x="2148120" y="2530080"/>
                <a:ext cx="363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55"/>
              <p:cNvSpPr/>
              <p:nvPr/>
            </p:nvSpPr>
            <p:spPr>
              <a:xfrm>
                <a:off x="2184480" y="2530440"/>
                <a:ext cx="129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56"/>
              <p:cNvSpPr/>
              <p:nvPr/>
            </p:nvSpPr>
            <p:spPr>
              <a:xfrm>
                <a:off x="2197440" y="2543040"/>
                <a:ext cx="381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57"/>
              <p:cNvSpPr/>
              <p:nvPr/>
            </p:nvSpPr>
            <p:spPr>
              <a:xfrm>
                <a:off x="2235600" y="2592360"/>
                <a:ext cx="237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58"/>
              <p:cNvSpPr/>
              <p:nvPr/>
            </p:nvSpPr>
            <p:spPr>
              <a:xfrm>
                <a:off x="2259360" y="2679840"/>
                <a:ext cx="3780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59"/>
              <p:cNvSpPr/>
              <p:nvPr/>
            </p:nvSpPr>
            <p:spPr>
              <a:xfrm>
                <a:off x="2297160" y="2790720"/>
                <a:ext cx="2412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60"/>
              <p:cNvSpPr/>
              <p:nvPr/>
            </p:nvSpPr>
            <p:spPr>
              <a:xfrm>
                <a:off x="2321280" y="2927520"/>
                <a:ext cx="2520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61"/>
              <p:cNvSpPr/>
              <p:nvPr/>
            </p:nvSpPr>
            <p:spPr>
              <a:xfrm>
                <a:off x="2346480" y="3087720"/>
                <a:ext cx="3672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62"/>
              <p:cNvSpPr/>
              <p:nvPr/>
            </p:nvSpPr>
            <p:spPr>
              <a:xfrm>
                <a:off x="2383200" y="3260880"/>
                <a:ext cx="1260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63"/>
              <p:cNvSpPr/>
              <p:nvPr/>
            </p:nvSpPr>
            <p:spPr>
              <a:xfrm>
                <a:off x="2395800" y="3446640"/>
                <a:ext cx="363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64"/>
              <p:cNvSpPr/>
              <p:nvPr/>
            </p:nvSpPr>
            <p:spPr>
              <a:xfrm>
                <a:off x="2432160" y="3645000"/>
                <a:ext cx="255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65"/>
              <p:cNvSpPr/>
              <p:nvPr/>
            </p:nvSpPr>
            <p:spPr>
              <a:xfrm>
                <a:off x="2457720" y="3843360"/>
                <a:ext cx="237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66"/>
              <p:cNvSpPr/>
              <p:nvPr/>
            </p:nvSpPr>
            <p:spPr>
              <a:xfrm>
                <a:off x="2481480" y="4029120"/>
                <a:ext cx="381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67"/>
              <p:cNvSpPr/>
              <p:nvPr/>
            </p:nvSpPr>
            <p:spPr>
              <a:xfrm>
                <a:off x="2519640" y="4202280"/>
                <a:ext cx="237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68"/>
              <p:cNvSpPr/>
              <p:nvPr/>
            </p:nvSpPr>
            <p:spPr>
              <a:xfrm>
                <a:off x="2543400" y="4362480"/>
                <a:ext cx="2556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69"/>
              <p:cNvSpPr/>
              <p:nvPr/>
            </p:nvSpPr>
            <p:spPr>
              <a:xfrm>
                <a:off x="2568960" y="4498920"/>
                <a:ext cx="2520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70"/>
              <p:cNvSpPr/>
              <p:nvPr/>
            </p:nvSpPr>
            <p:spPr>
              <a:xfrm>
                <a:off x="2594160" y="4610160"/>
                <a:ext cx="237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71"/>
              <p:cNvSpPr/>
              <p:nvPr/>
            </p:nvSpPr>
            <p:spPr>
              <a:xfrm>
                <a:off x="2617920" y="4684680"/>
                <a:ext cx="381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72"/>
              <p:cNvSpPr/>
              <p:nvPr/>
            </p:nvSpPr>
            <p:spPr>
              <a:xfrm>
                <a:off x="2656080" y="4734000"/>
                <a:ext cx="2376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73"/>
              <p:cNvSpPr/>
              <p:nvPr/>
            </p:nvSpPr>
            <p:spPr>
              <a:xfrm flipV="1">
                <a:off x="2679840" y="4734000"/>
                <a:ext cx="3816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74"/>
              <p:cNvSpPr/>
              <p:nvPr/>
            </p:nvSpPr>
            <p:spPr>
              <a:xfrm flipV="1">
                <a:off x="2718000" y="4684320"/>
                <a:ext cx="237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75"/>
              <p:cNvSpPr/>
              <p:nvPr/>
            </p:nvSpPr>
            <p:spPr>
              <a:xfrm flipV="1">
                <a:off x="2741760" y="4609800"/>
                <a:ext cx="255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76"/>
              <p:cNvSpPr/>
              <p:nvPr/>
            </p:nvSpPr>
            <p:spPr>
              <a:xfrm flipV="1">
                <a:off x="2767320" y="4498560"/>
                <a:ext cx="237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77"/>
              <p:cNvSpPr/>
              <p:nvPr/>
            </p:nvSpPr>
            <p:spPr>
              <a:xfrm flipV="1">
                <a:off x="2791080" y="4362120"/>
                <a:ext cx="2520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78"/>
              <p:cNvSpPr/>
              <p:nvPr/>
            </p:nvSpPr>
            <p:spPr>
              <a:xfrm flipV="1">
                <a:off x="2816280" y="4201920"/>
                <a:ext cx="3672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79"/>
              <p:cNvSpPr/>
              <p:nvPr/>
            </p:nvSpPr>
            <p:spPr>
              <a:xfrm flipV="1">
                <a:off x="2853000" y="4028760"/>
                <a:ext cx="2520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80"/>
              <p:cNvSpPr/>
              <p:nvPr/>
            </p:nvSpPr>
            <p:spPr>
              <a:xfrm flipV="1">
                <a:off x="2878200" y="3843360"/>
                <a:ext cx="255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81"/>
              <p:cNvSpPr/>
              <p:nvPr/>
            </p:nvSpPr>
            <p:spPr>
              <a:xfrm flipV="1">
                <a:off x="2903760" y="3644640"/>
                <a:ext cx="363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82"/>
              <p:cNvSpPr/>
              <p:nvPr/>
            </p:nvSpPr>
            <p:spPr>
              <a:xfrm flipV="1">
                <a:off x="2940120" y="3446280"/>
                <a:ext cx="255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83"/>
              <p:cNvSpPr/>
              <p:nvPr/>
            </p:nvSpPr>
            <p:spPr>
              <a:xfrm flipV="1">
                <a:off x="2965680" y="3260880"/>
                <a:ext cx="237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84"/>
              <p:cNvSpPr/>
              <p:nvPr/>
            </p:nvSpPr>
            <p:spPr>
              <a:xfrm flipV="1">
                <a:off x="2989440" y="3087360"/>
                <a:ext cx="255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85"/>
              <p:cNvSpPr/>
              <p:nvPr/>
            </p:nvSpPr>
            <p:spPr>
              <a:xfrm flipV="1">
                <a:off x="3015000" y="2927160"/>
                <a:ext cx="237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86"/>
              <p:cNvSpPr/>
              <p:nvPr/>
            </p:nvSpPr>
            <p:spPr>
              <a:xfrm flipV="1">
                <a:off x="3038760" y="2790720"/>
                <a:ext cx="3816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87"/>
              <p:cNvSpPr/>
              <p:nvPr/>
            </p:nvSpPr>
            <p:spPr>
              <a:xfrm flipV="1">
                <a:off x="3076920" y="2679840"/>
                <a:ext cx="237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88"/>
              <p:cNvSpPr/>
              <p:nvPr/>
            </p:nvSpPr>
            <p:spPr>
              <a:xfrm flipV="1">
                <a:off x="3100680" y="2592000"/>
                <a:ext cx="381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89"/>
              <p:cNvSpPr/>
              <p:nvPr/>
            </p:nvSpPr>
            <p:spPr>
              <a:xfrm flipV="1">
                <a:off x="3138840" y="2542680"/>
                <a:ext cx="237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Line 90"/>
              <p:cNvSpPr/>
              <p:nvPr/>
            </p:nvSpPr>
            <p:spPr>
              <a:xfrm flipV="1">
                <a:off x="3162600" y="2530080"/>
                <a:ext cx="2520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91"/>
              <p:cNvSpPr/>
              <p:nvPr/>
            </p:nvSpPr>
            <p:spPr>
              <a:xfrm>
                <a:off x="3187800" y="2530440"/>
                <a:ext cx="237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92"/>
              <p:cNvSpPr/>
              <p:nvPr/>
            </p:nvSpPr>
            <p:spPr>
              <a:xfrm>
                <a:off x="3211560" y="2543040"/>
                <a:ext cx="255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93"/>
              <p:cNvSpPr/>
              <p:nvPr/>
            </p:nvSpPr>
            <p:spPr>
              <a:xfrm>
                <a:off x="3237120" y="2592360"/>
                <a:ext cx="363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94"/>
              <p:cNvSpPr/>
              <p:nvPr/>
            </p:nvSpPr>
            <p:spPr>
              <a:xfrm>
                <a:off x="3273480" y="2679840"/>
                <a:ext cx="255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95"/>
              <p:cNvSpPr/>
              <p:nvPr/>
            </p:nvSpPr>
            <p:spPr>
              <a:xfrm>
                <a:off x="3299040" y="2790720"/>
                <a:ext cx="2556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96"/>
              <p:cNvSpPr/>
              <p:nvPr/>
            </p:nvSpPr>
            <p:spPr>
              <a:xfrm>
                <a:off x="3324600" y="2927520"/>
                <a:ext cx="363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97"/>
              <p:cNvSpPr/>
              <p:nvPr/>
            </p:nvSpPr>
            <p:spPr>
              <a:xfrm>
                <a:off x="3360960" y="3087720"/>
                <a:ext cx="1260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98"/>
              <p:cNvSpPr/>
              <p:nvPr/>
            </p:nvSpPr>
            <p:spPr>
              <a:xfrm>
                <a:off x="3373560" y="3260880"/>
                <a:ext cx="3672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99"/>
              <p:cNvSpPr/>
              <p:nvPr/>
            </p:nvSpPr>
            <p:spPr>
              <a:xfrm>
                <a:off x="3410280" y="3446640"/>
                <a:ext cx="2520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100"/>
              <p:cNvSpPr/>
              <p:nvPr/>
            </p:nvSpPr>
            <p:spPr>
              <a:xfrm>
                <a:off x="3435480" y="3645000"/>
                <a:ext cx="3672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01"/>
              <p:cNvSpPr/>
              <p:nvPr/>
            </p:nvSpPr>
            <p:spPr>
              <a:xfrm>
                <a:off x="3472200" y="3843360"/>
                <a:ext cx="2520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102"/>
              <p:cNvSpPr/>
              <p:nvPr/>
            </p:nvSpPr>
            <p:spPr>
              <a:xfrm>
                <a:off x="3497400" y="4029120"/>
                <a:ext cx="237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03"/>
              <p:cNvSpPr/>
              <p:nvPr/>
            </p:nvSpPr>
            <p:spPr>
              <a:xfrm>
                <a:off x="3521160" y="4202280"/>
                <a:ext cx="381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04"/>
              <p:cNvSpPr/>
              <p:nvPr/>
            </p:nvSpPr>
            <p:spPr>
              <a:xfrm>
                <a:off x="3559320" y="4362480"/>
                <a:ext cx="1296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105"/>
              <p:cNvSpPr/>
              <p:nvPr/>
            </p:nvSpPr>
            <p:spPr>
              <a:xfrm>
                <a:off x="3572280" y="4498920"/>
                <a:ext cx="363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106"/>
              <p:cNvSpPr/>
              <p:nvPr/>
            </p:nvSpPr>
            <p:spPr>
              <a:xfrm>
                <a:off x="3608640" y="4610160"/>
                <a:ext cx="2520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107"/>
              <p:cNvSpPr/>
              <p:nvPr/>
            </p:nvSpPr>
            <p:spPr>
              <a:xfrm>
                <a:off x="3633840" y="4684680"/>
                <a:ext cx="2412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108"/>
              <p:cNvSpPr/>
              <p:nvPr/>
            </p:nvSpPr>
            <p:spPr>
              <a:xfrm>
                <a:off x="3657960" y="4734000"/>
                <a:ext cx="3780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109"/>
              <p:cNvSpPr/>
              <p:nvPr/>
            </p:nvSpPr>
            <p:spPr>
              <a:xfrm flipV="1">
                <a:off x="3695760" y="4734000"/>
                <a:ext cx="2412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110"/>
              <p:cNvSpPr/>
              <p:nvPr/>
            </p:nvSpPr>
            <p:spPr>
              <a:xfrm flipV="1">
                <a:off x="3719880" y="4684320"/>
                <a:ext cx="363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111"/>
              <p:cNvSpPr/>
              <p:nvPr/>
            </p:nvSpPr>
            <p:spPr>
              <a:xfrm flipV="1">
                <a:off x="3756240" y="4609800"/>
                <a:ext cx="1260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112"/>
              <p:cNvSpPr/>
              <p:nvPr/>
            </p:nvSpPr>
            <p:spPr>
              <a:xfrm flipV="1">
                <a:off x="3768840" y="4498560"/>
                <a:ext cx="255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113"/>
              <p:cNvSpPr/>
              <p:nvPr/>
            </p:nvSpPr>
            <p:spPr>
              <a:xfrm flipV="1">
                <a:off x="3794400" y="4362120"/>
                <a:ext cx="3636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114"/>
              <p:cNvSpPr/>
              <p:nvPr/>
            </p:nvSpPr>
            <p:spPr>
              <a:xfrm flipV="1">
                <a:off x="3830760" y="4201920"/>
                <a:ext cx="255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115"/>
              <p:cNvSpPr/>
              <p:nvPr/>
            </p:nvSpPr>
            <p:spPr>
              <a:xfrm flipV="1">
                <a:off x="3856320" y="4028760"/>
                <a:ext cx="363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116"/>
              <p:cNvSpPr/>
              <p:nvPr/>
            </p:nvSpPr>
            <p:spPr>
              <a:xfrm flipV="1">
                <a:off x="3892680" y="3843360"/>
                <a:ext cx="255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117"/>
              <p:cNvSpPr/>
              <p:nvPr/>
            </p:nvSpPr>
            <p:spPr>
              <a:xfrm flipV="1">
                <a:off x="3918240" y="3644640"/>
                <a:ext cx="237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118"/>
              <p:cNvSpPr/>
              <p:nvPr/>
            </p:nvSpPr>
            <p:spPr>
              <a:xfrm flipV="1">
                <a:off x="3942000" y="3446280"/>
                <a:ext cx="255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119"/>
              <p:cNvSpPr/>
              <p:nvPr/>
            </p:nvSpPr>
            <p:spPr>
              <a:xfrm flipV="1">
                <a:off x="3967560" y="3260880"/>
                <a:ext cx="2520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120"/>
              <p:cNvSpPr/>
              <p:nvPr/>
            </p:nvSpPr>
            <p:spPr>
              <a:xfrm flipV="1">
                <a:off x="3992760" y="3087360"/>
                <a:ext cx="3672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121"/>
              <p:cNvSpPr/>
              <p:nvPr/>
            </p:nvSpPr>
            <p:spPr>
              <a:xfrm flipV="1">
                <a:off x="4029480" y="2927160"/>
                <a:ext cx="2520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122"/>
              <p:cNvSpPr/>
              <p:nvPr/>
            </p:nvSpPr>
            <p:spPr>
              <a:xfrm flipV="1">
                <a:off x="4054680" y="2790720"/>
                <a:ext cx="2376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123"/>
              <p:cNvSpPr/>
              <p:nvPr/>
            </p:nvSpPr>
            <p:spPr>
              <a:xfrm flipV="1">
                <a:off x="4078440" y="2679840"/>
                <a:ext cx="381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124"/>
              <p:cNvSpPr/>
              <p:nvPr/>
            </p:nvSpPr>
            <p:spPr>
              <a:xfrm flipV="1">
                <a:off x="4116600" y="2592000"/>
                <a:ext cx="237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125"/>
              <p:cNvSpPr/>
              <p:nvPr/>
            </p:nvSpPr>
            <p:spPr>
              <a:xfrm flipV="1">
                <a:off x="4140360" y="2542680"/>
                <a:ext cx="255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126"/>
              <p:cNvSpPr/>
              <p:nvPr/>
            </p:nvSpPr>
            <p:spPr>
              <a:xfrm flipV="1">
                <a:off x="4165920" y="2530080"/>
                <a:ext cx="237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127"/>
              <p:cNvSpPr/>
              <p:nvPr/>
            </p:nvSpPr>
            <p:spPr>
              <a:xfrm>
                <a:off x="4189680" y="2530440"/>
                <a:ext cx="381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128"/>
              <p:cNvSpPr/>
              <p:nvPr/>
            </p:nvSpPr>
            <p:spPr>
              <a:xfrm>
                <a:off x="4227840" y="2543040"/>
                <a:ext cx="237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129"/>
              <p:cNvSpPr/>
              <p:nvPr/>
            </p:nvSpPr>
            <p:spPr>
              <a:xfrm>
                <a:off x="4251600" y="2592360"/>
                <a:ext cx="2520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130"/>
              <p:cNvSpPr/>
              <p:nvPr/>
            </p:nvSpPr>
            <p:spPr>
              <a:xfrm>
                <a:off x="4276800" y="2679840"/>
                <a:ext cx="3672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131"/>
              <p:cNvSpPr/>
              <p:nvPr/>
            </p:nvSpPr>
            <p:spPr>
              <a:xfrm>
                <a:off x="4313520" y="2790720"/>
                <a:ext cx="2520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132"/>
              <p:cNvSpPr/>
              <p:nvPr/>
            </p:nvSpPr>
            <p:spPr>
              <a:xfrm>
                <a:off x="4338720" y="2927520"/>
                <a:ext cx="25560" cy="160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133"/>
              <p:cNvSpPr/>
              <p:nvPr/>
            </p:nvSpPr>
            <p:spPr>
              <a:xfrm>
                <a:off x="4364280" y="3087720"/>
                <a:ext cx="23760" cy="173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134"/>
              <p:cNvSpPr/>
              <p:nvPr/>
            </p:nvSpPr>
            <p:spPr>
              <a:xfrm>
                <a:off x="4388040" y="3260880"/>
                <a:ext cx="255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135"/>
              <p:cNvSpPr/>
              <p:nvPr/>
            </p:nvSpPr>
            <p:spPr>
              <a:xfrm>
                <a:off x="4413600" y="3446640"/>
                <a:ext cx="363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136"/>
              <p:cNvSpPr/>
              <p:nvPr/>
            </p:nvSpPr>
            <p:spPr>
              <a:xfrm>
                <a:off x="4449960" y="3645000"/>
                <a:ext cx="255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137"/>
              <p:cNvSpPr/>
              <p:nvPr/>
            </p:nvSpPr>
            <p:spPr>
              <a:xfrm>
                <a:off x="4475520" y="3843360"/>
                <a:ext cx="363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38"/>
            <p:cNvGrpSpPr/>
            <p:nvPr/>
          </p:nvGrpSpPr>
          <p:grpSpPr>
            <a:xfrm>
              <a:off x="4524480" y="2777760"/>
              <a:ext cx="3576600" cy="1919520"/>
              <a:chOff x="4524480" y="2777760"/>
              <a:chExt cx="3576600" cy="1919520"/>
            </a:xfrm>
          </p:grpSpPr>
          <p:sp>
            <p:nvSpPr>
              <p:cNvPr id="1009" name="Line 139"/>
              <p:cNvSpPr/>
              <p:nvPr/>
            </p:nvSpPr>
            <p:spPr>
              <a:xfrm>
                <a:off x="4524480" y="4041720"/>
                <a:ext cx="23760" cy="320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140"/>
              <p:cNvSpPr/>
              <p:nvPr/>
            </p:nvSpPr>
            <p:spPr>
              <a:xfrm>
                <a:off x="4548240" y="4362480"/>
                <a:ext cx="38160" cy="223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141"/>
              <p:cNvSpPr/>
              <p:nvPr/>
            </p:nvSpPr>
            <p:spPr>
              <a:xfrm>
                <a:off x="4586400" y="4586400"/>
                <a:ext cx="129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142"/>
              <p:cNvSpPr/>
              <p:nvPr/>
            </p:nvSpPr>
            <p:spPr>
              <a:xfrm flipV="1">
                <a:off x="4599360" y="4672080"/>
                <a:ext cx="36360" cy="252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143"/>
              <p:cNvSpPr/>
              <p:nvPr/>
            </p:nvSpPr>
            <p:spPr>
              <a:xfrm flipV="1">
                <a:off x="4635720" y="4535280"/>
                <a:ext cx="2556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144"/>
              <p:cNvSpPr/>
              <p:nvPr/>
            </p:nvSpPr>
            <p:spPr>
              <a:xfrm flipV="1">
                <a:off x="4661280" y="4300200"/>
                <a:ext cx="36360" cy="235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45"/>
              <p:cNvSpPr/>
              <p:nvPr/>
            </p:nvSpPr>
            <p:spPr>
              <a:xfrm flipV="1">
                <a:off x="4697640" y="4003200"/>
                <a:ext cx="25560" cy="2970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46"/>
              <p:cNvSpPr/>
              <p:nvPr/>
            </p:nvSpPr>
            <p:spPr>
              <a:xfrm flipV="1">
                <a:off x="4723200" y="3670200"/>
                <a:ext cx="23760" cy="333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47"/>
              <p:cNvSpPr/>
              <p:nvPr/>
            </p:nvSpPr>
            <p:spPr>
              <a:xfrm flipV="1">
                <a:off x="4746960" y="3335400"/>
                <a:ext cx="38160" cy="334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48"/>
              <p:cNvSpPr/>
              <p:nvPr/>
            </p:nvSpPr>
            <p:spPr>
              <a:xfrm flipV="1">
                <a:off x="4785120" y="3063960"/>
                <a:ext cx="10800" cy="271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149"/>
              <p:cNvSpPr/>
              <p:nvPr/>
            </p:nvSpPr>
            <p:spPr>
              <a:xfrm flipV="1">
                <a:off x="4795920" y="2865240"/>
                <a:ext cx="38160" cy="198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150"/>
              <p:cNvSpPr/>
              <p:nvPr/>
            </p:nvSpPr>
            <p:spPr>
              <a:xfrm flipV="1">
                <a:off x="4834080" y="2777760"/>
                <a:ext cx="2376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151"/>
              <p:cNvSpPr/>
              <p:nvPr/>
            </p:nvSpPr>
            <p:spPr>
              <a:xfrm>
                <a:off x="4857840" y="2778120"/>
                <a:ext cx="255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52"/>
              <p:cNvSpPr/>
              <p:nvPr/>
            </p:nvSpPr>
            <p:spPr>
              <a:xfrm>
                <a:off x="4883400" y="2790720"/>
                <a:ext cx="363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53"/>
              <p:cNvSpPr/>
              <p:nvPr/>
            </p:nvSpPr>
            <p:spPr>
              <a:xfrm>
                <a:off x="4919760" y="2901960"/>
                <a:ext cx="25560" cy="210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54"/>
              <p:cNvSpPr/>
              <p:nvPr/>
            </p:nvSpPr>
            <p:spPr>
              <a:xfrm>
                <a:off x="4945320" y="3112920"/>
                <a:ext cx="36360" cy="271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155"/>
              <p:cNvSpPr/>
              <p:nvPr/>
            </p:nvSpPr>
            <p:spPr>
              <a:xfrm>
                <a:off x="4981680" y="3384720"/>
                <a:ext cx="12960" cy="285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156"/>
              <p:cNvSpPr/>
              <p:nvPr/>
            </p:nvSpPr>
            <p:spPr>
              <a:xfrm>
                <a:off x="4994640" y="3670200"/>
                <a:ext cx="37800" cy="2844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57"/>
              <p:cNvSpPr/>
              <p:nvPr/>
            </p:nvSpPr>
            <p:spPr>
              <a:xfrm>
                <a:off x="5032440" y="3954600"/>
                <a:ext cx="24120" cy="2347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58"/>
              <p:cNvSpPr/>
              <p:nvPr/>
            </p:nvSpPr>
            <p:spPr>
              <a:xfrm>
                <a:off x="5056560" y="4189320"/>
                <a:ext cx="25200" cy="1605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159"/>
              <p:cNvSpPr/>
              <p:nvPr/>
            </p:nvSpPr>
            <p:spPr>
              <a:xfrm>
                <a:off x="5081760" y="4349880"/>
                <a:ext cx="36720" cy="871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60"/>
              <p:cNvSpPr/>
              <p:nvPr/>
            </p:nvSpPr>
            <p:spPr>
              <a:xfrm flipV="1">
                <a:off x="5118480" y="4424040"/>
                <a:ext cx="2520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61"/>
              <p:cNvSpPr/>
              <p:nvPr/>
            </p:nvSpPr>
            <p:spPr>
              <a:xfrm flipV="1">
                <a:off x="5143680" y="4312800"/>
                <a:ext cx="237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62"/>
              <p:cNvSpPr/>
              <p:nvPr/>
            </p:nvSpPr>
            <p:spPr>
              <a:xfrm flipV="1">
                <a:off x="5167440" y="4140360"/>
                <a:ext cx="25560" cy="172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63"/>
              <p:cNvSpPr/>
              <p:nvPr/>
            </p:nvSpPr>
            <p:spPr>
              <a:xfrm flipV="1">
                <a:off x="5193000" y="3904920"/>
                <a:ext cx="23760" cy="235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64"/>
              <p:cNvSpPr/>
              <p:nvPr/>
            </p:nvSpPr>
            <p:spPr>
              <a:xfrm flipV="1">
                <a:off x="5216760" y="3669840"/>
                <a:ext cx="38160" cy="235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165"/>
              <p:cNvSpPr/>
              <p:nvPr/>
            </p:nvSpPr>
            <p:spPr>
              <a:xfrm flipV="1">
                <a:off x="5254920" y="3433320"/>
                <a:ext cx="23760" cy="236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66"/>
              <p:cNvSpPr/>
              <p:nvPr/>
            </p:nvSpPr>
            <p:spPr>
              <a:xfrm flipV="1">
                <a:off x="5278680" y="3224160"/>
                <a:ext cx="38160" cy="209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67"/>
              <p:cNvSpPr/>
              <p:nvPr/>
            </p:nvSpPr>
            <p:spPr>
              <a:xfrm flipV="1">
                <a:off x="5316840" y="3075120"/>
                <a:ext cx="23760" cy="1490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68"/>
              <p:cNvSpPr/>
              <p:nvPr/>
            </p:nvSpPr>
            <p:spPr>
              <a:xfrm flipV="1">
                <a:off x="5340600" y="3001680"/>
                <a:ext cx="25200" cy="73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69"/>
              <p:cNvSpPr/>
              <p:nvPr/>
            </p:nvSpPr>
            <p:spPr>
              <a:xfrm>
                <a:off x="5365800" y="3002040"/>
                <a:ext cx="25560" cy="11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70"/>
              <p:cNvSpPr/>
              <p:nvPr/>
            </p:nvSpPr>
            <p:spPr>
              <a:xfrm>
                <a:off x="5391360" y="3013200"/>
                <a:ext cx="23760" cy="871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71"/>
              <p:cNvSpPr/>
              <p:nvPr/>
            </p:nvSpPr>
            <p:spPr>
              <a:xfrm>
                <a:off x="5415120" y="3100320"/>
                <a:ext cx="38160" cy="1605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72"/>
              <p:cNvSpPr/>
              <p:nvPr/>
            </p:nvSpPr>
            <p:spPr>
              <a:xfrm>
                <a:off x="5453280" y="3260880"/>
                <a:ext cx="237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73"/>
              <p:cNvSpPr/>
              <p:nvPr/>
            </p:nvSpPr>
            <p:spPr>
              <a:xfrm>
                <a:off x="5477040" y="3446640"/>
                <a:ext cx="25560" cy="2235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174"/>
              <p:cNvSpPr/>
              <p:nvPr/>
            </p:nvSpPr>
            <p:spPr>
              <a:xfrm>
                <a:off x="5502600" y="3670200"/>
                <a:ext cx="36360" cy="196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175"/>
              <p:cNvSpPr/>
              <p:nvPr/>
            </p:nvSpPr>
            <p:spPr>
              <a:xfrm>
                <a:off x="5538960" y="3867120"/>
                <a:ext cx="255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76"/>
              <p:cNvSpPr/>
              <p:nvPr/>
            </p:nvSpPr>
            <p:spPr>
              <a:xfrm>
                <a:off x="5564520" y="4052880"/>
                <a:ext cx="23760" cy="1238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177"/>
              <p:cNvSpPr/>
              <p:nvPr/>
            </p:nvSpPr>
            <p:spPr>
              <a:xfrm>
                <a:off x="5588280" y="4176720"/>
                <a:ext cx="2520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178"/>
              <p:cNvSpPr/>
              <p:nvPr/>
            </p:nvSpPr>
            <p:spPr>
              <a:xfrm flipV="1">
                <a:off x="5613480" y="4225680"/>
                <a:ext cx="3672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179"/>
              <p:cNvSpPr/>
              <p:nvPr/>
            </p:nvSpPr>
            <p:spPr>
              <a:xfrm flipV="1">
                <a:off x="5650200" y="4152600"/>
                <a:ext cx="25200" cy="73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180"/>
              <p:cNvSpPr/>
              <p:nvPr/>
            </p:nvSpPr>
            <p:spPr>
              <a:xfrm flipV="1">
                <a:off x="5675400" y="4016160"/>
                <a:ext cx="2556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181"/>
              <p:cNvSpPr/>
              <p:nvPr/>
            </p:nvSpPr>
            <p:spPr>
              <a:xfrm flipV="1">
                <a:off x="5700960" y="3855960"/>
                <a:ext cx="36360" cy="1605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182"/>
              <p:cNvSpPr/>
              <p:nvPr/>
            </p:nvSpPr>
            <p:spPr>
              <a:xfrm flipV="1">
                <a:off x="5737320" y="3670200"/>
                <a:ext cx="255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183"/>
              <p:cNvSpPr/>
              <p:nvPr/>
            </p:nvSpPr>
            <p:spPr>
              <a:xfrm flipV="1">
                <a:off x="5762880" y="3484440"/>
                <a:ext cx="23760" cy="185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84"/>
              <p:cNvSpPr/>
              <p:nvPr/>
            </p:nvSpPr>
            <p:spPr>
              <a:xfrm flipV="1">
                <a:off x="5786640" y="3335400"/>
                <a:ext cx="25560" cy="1490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185"/>
              <p:cNvSpPr/>
              <p:nvPr/>
            </p:nvSpPr>
            <p:spPr>
              <a:xfrm flipV="1">
                <a:off x="5812200" y="3236760"/>
                <a:ext cx="23760" cy="986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86"/>
              <p:cNvSpPr/>
              <p:nvPr/>
            </p:nvSpPr>
            <p:spPr>
              <a:xfrm flipV="1">
                <a:off x="5835960" y="3174840"/>
                <a:ext cx="3816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87"/>
              <p:cNvSpPr/>
              <p:nvPr/>
            </p:nvSpPr>
            <p:spPr>
              <a:xfrm>
                <a:off x="5874120" y="3174840"/>
                <a:ext cx="23760" cy="12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188"/>
              <p:cNvSpPr/>
              <p:nvPr/>
            </p:nvSpPr>
            <p:spPr>
              <a:xfrm>
                <a:off x="5897880" y="3187800"/>
                <a:ext cx="3816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89"/>
              <p:cNvSpPr/>
              <p:nvPr/>
            </p:nvSpPr>
            <p:spPr>
              <a:xfrm>
                <a:off x="5936040" y="3249720"/>
                <a:ext cx="23760" cy="1108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90"/>
              <p:cNvSpPr/>
              <p:nvPr/>
            </p:nvSpPr>
            <p:spPr>
              <a:xfrm>
                <a:off x="5959800" y="3360600"/>
                <a:ext cx="25200" cy="147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191"/>
              <p:cNvSpPr/>
              <p:nvPr/>
            </p:nvSpPr>
            <p:spPr>
              <a:xfrm>
                <a:off x="5985000" y="3508200"/>
                <a:ext cx="23760" cy="1620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192"/>
              <p:cNvSpPr/>
              <p:nvPr/>
            </p:nvSpPr>
            <p:spPr>
              <a:xfrm>
                <a:off x="6008760" y="3670200"/>
                <a:ext cx="25560" cy="147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193"/>
              <p:cNvSpPr/>
              <p:nvPr/>
            </p:nvSpPr>
            <p:spPr>
              <a:xfrm>
                <a:off x="6034320" y="3817800"/>
                <a:ext cx="36360" cy="1368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194"/>
              <p:cNvSpPr/>
              <p:nvPr/>
            </p:nvSpPr>
            <p:spPr>
              <a:xfrm>
                <a:off x="6070680" y="3954600"/>
                <a:ext cx="25560" cy="871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195"/>
              <p:cNvSpPr/>
              <p:nvPr/>
            </p:nvSpPr>
            <p:spPr>
              <a:xfrm>
                <a:off x="6096240" y="4041720"/>
                <a:ext cx="363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196"/>
              <p:cNvSpPr/>
              <p:nvPr/>
            </p:nvSpPr>
            <p:spPr>
              <a:xfrm flipV="1">
                <a:off x="6132600" y="4078080"/>
                <a:ext cx="255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197"/>
              <p:cNvSpPr/>
              <p:nvPr/>
            </p:nvSpPr>
            <p:spPr>
              <a:xfrm flipV="1">
                <a:off x="6158160" y="4016520"/>
                <a:ext cx="2520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198"/>
              <p:cNvSpPr/>
              <p:nvPr/>
            </p:nvSpPr>
            <p:spPr>
              <a:xfrm flipV="1">
                <a:off x="6183360" y="3928680"/>
                <a:ext cx="24120" cy="874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199"/>
              <p:cNvSpPr/>
              <p:nvPr/>
            </p:nvSpPr>
            <p:spPr>
              <a:xfrm flipV="1">
                <a:off x="6207480" y="3805200"/>
                <a:ext cx="25200" cy="1238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00"/>
              <p:cNvSpPr/>
              <p:nvPr/>
            </p:nvSpPr>
            <p:spPr>
              <a:xfrm flipV="1">
                <a:off x="6232680" y="3669840"/>
                <a:ext cx="36720" cy="1350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01"/>
              <p:cNvSpPr/>
              <p:nvPr/>
            </p:nvSpPr>
            <p:spPr>
              <a:xfrm flipV="1">
                <a:off x="6269400" y="3533400"/>
                <a:ext cx="25200" cy="136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02"/>
              <p:cNvSpPr/>
              <p:nvPr/>
            </p:nvSpPr>
            <p:spPr>
              <a:xfrm flipV="1">
                <a:off x="6294600" y="3422160"/>
                <a:ext cx="237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03"/>
              <p:cNvSpPr/>
              <p:nvPr/>
            </p:nvSpPr>
            <p:spPr>
              <a:xfrm flipV="1">
                <a:off x="6318360" y="3335400"/>
                <a:ext cx="38160" cy="871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04"/>
              <p:cNvSpPr/>
              <p:nvPr/>
            </p:nvSpPr>
            <p:spPr>
              <a:xfrm flipV="1">
                <a:off x="6356520" y="3298680"/>
                <a:ext cx="12600" cy="367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05"/>
              <p:cNvSpPr/>
              <p:nvPr/>
            </p:nvSpPr>
            <p:spPr>
              <a:xfrm>
                <a:off x="6369120" y="3298680"/>
                <a:ext cx="36720" cy="12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06"/>
              <p:cNvSpPr/>
              <p:nvPr/>
            </p:nvSpPr>
            <p:spPr>
              <a:xfrm>
                <a:off x="6405840" y="3311640"/>
                <a:ext cx="25200" cy="48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07"/>
              <p:cNvSpPr/>
              <p:nvPr/>
            </p:nvSpPr>
            <p:spPr>
              <a:xfrm>
                <a:off x="6431040" y="3360600"/>
                <a:ext cx="36720" cy="73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08"/>
              <p:cNvSpPr/>
              <p:nvPr/>
            </p:nvSpPr>
            <p:spPr>
              <a:xfrm>
                <a:off x="6467760" y="3433680"/>
                <a:ext cx="23760" cy="1126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09"/>
              <p:cNvSpPr/>
              <p:nvPr/>
            </p:nvSpPr>
            <p:spPr>
              <a:xfrm>
                <a:off x="6491520" y="3546360"/>
                <a:ext cx="25560" cy="1238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10"/>
              <p:cNvSpPr/>
              <p:nvPr/>
            </p:nvSpPr>
            <p:spPr>
              <a:xfrm>
                <a:off x="6517080" y="3670200"/>
                <a:ext cx="36360" cy="1112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11"/>
              <p:cNvSpPr/>
              <p:nvPr/>
            </p:nvSpPr>
            <p:spPr>
              <a:xfrm>
                <a:off x="6553440" y="3781440"/>
                <a:ext cx="12600" cy="856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12"/>
              <p:cNvSpPr/>
              <p:nvPr/>
            </p:nvSpPr>
            <p:spPr>
              <a:xfrm>
                <a:off x="6566040" y="3867120"/>
                <a:ext cx="381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213"/>
              <p:cNvSpPr/>
              <p:nvPr/>
            </p:nvSpPr>
            <p:spPr>
              <a:xfrm>
                <a:off x="6604200" y="3941640"/>
                <a:ext cx="23760" cy="38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14"/>
              <p:cNvSpPr/>
              <p:nvPr/>
            </p:nvSpPr>
            <p:spPr>
              <a:xfrm flipV="1">
                <a:off x="6627960" y="3966840"/>
                <a:ext cx="255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15"/>
              <p:cNvSpPr/>
              <p:nvPr/>
            </p:nvSpPr>
            <p:spPr>
              <a:xfrm flipV="1">
                <a:off x="6653520" y="3929040"/>
                <a:ext cx="36360" cy="38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16"/>
              <p:cNvSpPr/>
              <p:nvPr/>
            </p:nvSpPr>
            <p:spPr>
              <a:xfrm flipV="1">
                <a:off x="6689880" y="3855600"/>
                <a:ext cx="25560" cy="73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217"/>
              <p:cNvSpPr/>
              <p:nvPr/>
            </p:nvSpPr>
            <p:spPr>
              <a:xfrm flipV="1">
                <a:off x="6715440" y="3768840"/>
                <a:ext cx="36360" cy="871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218"/>
              <p:cNvSpPr/>
              <p:nvPr/>
            </p:nvSpPr>
            <p:spPr>
              <a:xfrm flipV="1">
                <a:off x="6751800" y="3670200"/>
                <a:ext cx="12600" cy="986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219"/>
              <p:cNvSpPr/>
              <p:nvPr/>
            </p:nvSpPr>
            <p:spPr>
              <a:xfrm flipV="1">
                <a:off x="6764400" y="3570120"/>
                <a:ext cx="36720" cy="100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220"/>
              <p:cNvSpPr/>
              <p:nvPr/>
            </p:nvSpPr>
            <p:spPr>
              <a:xfrm flipV="1">
                <a:off x="6801120" y="3484440"/>
                <a:ext cx="25200" cy="856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221"/>
              <p:cNvSpPr/>
              <p:nvPr/>
            </p:nvSpPr>
            <p:spPr>
              <a:xfrm flipV="1">
                <a:off x="6826320" y="3433320"/>
                <a:ext cx="25560" cy="50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222"/>
              <p:cNvSpPr/>
              <p:nvPr/>
            </p:nvSpPr>
            <p:spPr>
              <a:xfrm flipV="1">
                <a:off x="6851880" y="3396960"/>
                <a:ext cx="36360" cy="36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223"/>
              <p:cNvSpPr/>
              <p:nvPr/>
            </p:nvSpPr>
            <p:spPr>
              <a:xfrm>
                <a:off x="6888240" y="3397320"/>
                <a:ext cx="25560" cy="1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224"/>
              <p:cNvSpPr/>
              <p:nvPr/>
            </p:nvSpPr>
            <p:spPr>
              <a:xfrm>
                <a:off x="6913800" y="3397320"/>
                <a:ext cx="36360" cy="36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225"/>
              <p:cNvSpPr/>
              <p:nvPr/>
            </p:nvSpPr>
            <p:spPr>
              <a:xfrm>
                <a:off x="6950160" y="3433680"/>
                <a:ext cx="1296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226"/>
              <p:cNvSpPr/>
              <p:nvPr/>
            </p:nvSpPr>
            <p:spPr>
              <a:xfrm>
                <a:off x="6963120" y="3495600"/>
                <a:ext cx="237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227"/>
              <p:cNvSpPr/>
              <p:nvPr/>
            </p:nvSpPr>
            <p:spPr>
              <a:xfrm>
                <a:off x="6986880" y="3570120"/>
                <a:ext cx="38160" cy="100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228"/>
              <p:cNvSpPr/>
              <p:nvPr/>
            </p:nvSpPr>
            <p:spPr>
              <a:xfrm>
                <a:off x="7025040" y="3670200"/>
                <a:ext cx="23760" cy="856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229"/>
              <p:cNvSpPr/>
              <p:nvPr/>
            </p:nvSpPr>
            <p:spPr>
              <a:xfrm>
                <a:off x="7048800" y="3755880"/>
                <a:ext cx="3816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230"/>
              <p:cNvSpPr/>
              <p:nvPr/>
            </p:nvSpPr>
            <p:spPr>
              <a:xfrm>
                <a:off x="7086960" y="3817800"/>
                <a:ext cx="237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231"/>
              <p:cNvSpPr/>
              <p:nvPr/>
            </p:nvSpPr>
            <p:spPr>
              <a:xfrm>
                <a:off x="7110720" y="3867120"/>
                <a:ext cx="25200" cy="38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232"/>
              <p:cNvSpPr/>
              <p:nvPr/>
            </p:nvSpPr>
            <p:spPr>
              <a:xfrm flipV="1">
                <a:off x="7135920" y="3892320"/>
                <a:ext cx="237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233"/>
              <p:cNvSpPr/>
              <p:nvPr/>
            </p:nvSpPr>
            <p:spPr>
              <a:xfrm flipV="1">
                <a:off x="7159680" y="3855960"/>
                <a:ext cx="25560" cy="367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234"/>
              <p:cNvSpPr/>
              <p:nvPr/>
            </p:nvSpPr>
            <p:spPr>
              <a:xfrm flipV="1">
                <a:off x="7185240" y="3817800"/>
                <a:ext cx="36360" cy="381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235"/>
              <p:cNvSpPr/>
              <p:nvPr/>
            </p:nvSpPr>
            <p:spPr>
              <a:xfrm flipV="1">
                <a:off x="7221600" y="3742920"/>
                <a:ext cx="255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236"/>
              <p:cNvSpPr/>
              <p:nvPr/>
            </p:nvSpPr>
            <p:spPr>
              <a:xfrm flipV="1">
                <a:off x="7247160" y="3669840"/>
                <a:ext cx="36360" cy="7308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237"/>
              <p:cNvSpPr/>
              <p:nvPr/>
            </p:nvSpPr>
            <p:spPr>
              <a:xfrm flipV="1">
                <a:off x="7283520" y="3595320"/>
                <a:ext cx="255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238"/>
              <p:cNvSpPr/>
              <p:nvPr/>
            </p:nvSpPr>
            <p:spPr>
              <a:xfrm flipV="1">
                <a:off x="7309080" y="3520800"/>
                <a:ext cx="25560" cy="745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239"/>
              <p:cNvSpPr/>
              <p:nvPr/>
            </p:nvSpPr>
            <p:spPr>
              <a:xfrm flipV="1">
                <a:off x="7334640" y="3484440"/>
                <a:ext cx="23760" cy="367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240"/>
              <p:cNvSpPr/>
              <p:nvPr/>
            </p:nvSpPr>
            <p:spPr>
              <a:xfrm flipV="1">
                <a:off x="7358400" y="3471480"/>
                <a:ext cx="2520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41"/>
              <p:cNvSpPr/>
              <p:nvPr/>
            </p:nvSpPr>
            <p:spPr>
              <a:xfrm>
                <a:off x="7383600" y="3471840"/>
                <a:ext cx="36720" cy="1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42"/>
              <p:cNvSpPr/>
              <p:nvPr/>
            </p:nvSpPr>
            <p:spPr>
              <a:xfrm>
                <a:off x="7420320" y="3471840"/>
                <a:ext cx="25200" cy="23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243"/>
              <p:cNvSpPr/>
              <p:nvPr/>
            </p:nvSpPr>
            <p:spPr>
              <a:xfrm>
                <a:off x="7445520" y="3495600"/>
                <a:ext cx="23760" cy="50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244"/>
              <p:cNvSpPr/>
              <p:nvPr/>
            </p:nvSpPr>
            <p:spPr>
              <a:xfrm>
                <a:off x="7469280" y="3546360"/>
                <a:ext cx="3816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245"/>
              <p:cNvSpPr/>
              <p:nvPr/>
            </p:nvSpPr>
            <p:spPr>
              <a:xfrm>
                <a:off x="7507440" y="3608280"/>
                <a:ext cx="2376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246"/>
              <p:cNvSpPr/>
              <p:nvPr/>
            </p:nvSpPr>
            <p:spPr>
              <a:xfrm>
                <a:off x="7531200" y="3670200"/>
                <a:ext cx="255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247"/>
              <p:cNvSpPr/>
              <p:nvPr/>
            </p:nvSpPr>
            <p:spPr>
              <a:xfrm>
                <a:off x="7556760" y="3719520"/>
                <a:ext cx="25200" cy="619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248"/>
              <p:cNvSpPr/>
              <p:nvPr/>
            </p:nvSpPr>
            <p:spPr>
              <a:xfrm>
                <a:off x="7581960" y="3781440"/>
                <a:ext cx="36720" cy="36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249"/>
              <p:cNvSpPr/>
              <p:nvPr/>
            </p:nvSpPr>
            <p:spPr>
              <a:xfrm>
                <a:off x="7618680" y="3817800"/>
                <a:ext cx="25200" cy="12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50"/>
              <p:cNvSpPr/>
              <p:nvPr/>
            </p:nvSpPr>
            <p:spPr>
              <a:xfrm>
                <a:off x="7643880" y="3830760"/>
                <a:ext cx="24120" cy="1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251"/>
              <p:cNvSpPr/>
              <p:nvPr/>
            </p:nvSpPr>
            <p:spPr>
              <a:xfrm flipV="1">
                <a:off x="7668000" y="3817800"/>
                <a:ext cx="37800" cy="12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252"/>
              <p:cNvSpPr/>
              <p:nvPr/>
            </p:nvSpPr>
            <p:spPr>
              <a:xfrm flipV="1">
                <a:off x="7705800" y="3768840"/>
                <a:ext cx="24120" cy="489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253"/>
              <p:cNvSpPr/>
              <p:nvPr/>
            </p:nvSpPr>
            <p:spPr>
              <a:xfrm flipV="1">
                <a:off x="7729920" y="3719160"/>
                <a:ext cx="2520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254"/>
              <p:cNvSpPr/>
              <p:nvPr/>
            </p:nvSpPr>
            <p:spPr>
              <a:xfrm flipV="1">
                <a:off x="7755120" y="3669840"/>
                <a:ext cx="237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255"/>
              <p:cNvSpPr/>
              <p:nvPr/>
            </p:nvSpPr>
            <p:spPr>
              <a:xfrm flipV="1">
                <a:off x="7778880" y="3619080"/>
                <a:ext cx="25560" cy="50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256"/>
              <p:cNvSpPr/>
              <p:nvPr/>
            </p:nvSpPr>
            <p:spPr>
              <a:xfrm flipV="1">
                <a:off x="7804440" y="3569760"/>
                <a:ext cx="363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257"/>
              <p:cNvSpPr/>
              <p:nvPr/>
            </p:nvSpPr>
            <p:spPr>
              <a:xfrm flipV="1">
                <a:off x="7840800" y="3533400"/>
                <a:ext cx="25560" cy="36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258"/>
              <p:cNvSpPr/>
              <p:nvPr/>
            </p:nvSpPr>
            <p:spPr>
              <a:xfrm flipV="1">
                <a:off x="7866360" y="3520800"/>
                <a:ext cx="363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259"/>
              <p:cNvSpPr/>
              <p:nvPr/>
            </p:nvSpPr>
            <p:spPr>
              <a:xfrm>
                <a:off x="7902720" y="3521160"/>
                <a:ext cx="25560" cy="144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260"/>
              <p:cNvSpPr/>
              <p:nvPr/>
            </p:nvSpPr>
            <p:spPr>
              <a:xfrm>
                <a:off x="7928280" y="3521160"/>
                <a:ext cx="23760" cy="1260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261"/>
              <p:cNvSpPr/>
              <p:nvPr/>
            </p:nvSpPr>
            <p:spPr>
              <a:xfrm>
                <a:off x="7952040" y="3533760"/>
                <a:ext cx="25200" cy="36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262"/>
              <p:cNvSpPr/>
              <p:nvPr/>
            </p:nvSpPr>
            <p:spPr>
              <a:xfrm>
                <a:off x="7977240" y="3570120"/>
                <a:ext cx="255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263"/>
              <p:cNvSpPr/>
              <p:nvPr/>
            </p:nvSpPr>
            <p:spPr>
              <a:xfrm>
                <a:off x="8002800" y="3619440"/>
                <a:ext cx="36360" cy="507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Line 264"/>
              <p:cNvSpPr/>
              <p:nvPr/>
            </p:nvSpPr>
            <p:spPr>
              <a:xfrm>
                <a:off x="8039160" y="3670200"/>
                <a:ext cx="25560" cy="4932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Line 265"/>
              <p:cNvSpPr/>
              <p:nvPr/>
            </p:nvSpPr>
            <p:spPr>
              <a:xfrm>
                <a:off x="8064720" y="3719520"/>
                <a:ext cx="36360" cy="36360"/>
              </a:xfrm>
              <a:prstGeom prst="line">
                <a:avLst/>
              </a:prstGeom>
              <a:ln w="255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Rectangle 266"/>
          <p:cNvSpPr/>
          <p:nvPr/>
        </p:nvSpPr>
        <p:spPr>
          <a:xfrm>
            <a:off x="2518560" y="2036880"/>
            <a:ext cx="63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67"/>
          <p:cNvSpPr/>
          <p:nvPr/>
        </p:nvSpPr>
        <p:spPr>
          <a:xfrm>
            <a:off x="6020640" y="2036880"/>
            <a:ext cx="63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Group 268"/>
          <p:cNvGrpSpPr/>
          <p:nvPr/>
        </p:nvGrpSpPr>
        <p:grpSpPr>
          <a:xfrm>
            <a:off x="5848200" y="3595680"/>
            <a:ext cx="1014480" cy="147600"/>
            <a:chOff x="5848200" y="3595680"/>
            <a:chExt cx="1014480" cy="147600"/>
          </a:xfrm>
        </p:grpSpPr>
        <p:sp>
          <p:nvSpPr>
            <p:cNvPr id="1139" name="Freeform 269"/>
            <p:cNvSpPr/>
            <p:nvPr/>
          </p:nvSpPr>
          <p:spPr>
            <a:xfrm>
              <a:off x="6676920" y="3595680"/>
              <a:ext cx="185760" cy="1476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17" h="93">
                  <a:moveTo>
                    <a:pt x="117" y="47"/>
                  </a:moveTo>
                  <a:lnTo>
                    <a:pt x="0" y="93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270"/>
            <p:cNvSpPr/>
            <p:nvPr/>
          </p:nvSpPr>
          <p:spPr>
            <a:xfrm>
              <a:off x="5848200" y="3670200"/>
              <a:ext cx="828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Rectangle 271"/>
          <p:cNvSpPr/>
          <p:nvPr/>
        </p:nvSpPr>
        <p:spPr>
          <a:xfrm>
            <a:off x="2104920" y="3706920"/>
            <a:ext cx="2635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272"/>
          <p:cNvGrpSpPr/>
          <p:nvPr/>
        </p:nvGrpSpPr>
        <p:grpSpPr>
          <a:xfrm>
            <a:off x="2036880" y="3619440"/>
            <a:ext cx="495360" cy="149400"/>
            <a:chOff x="2036880" y="3619440"/>
            <a:chExt cx="495360" cy="149400"/>
          </a:xfrm>
        </p:grpSpPr>
        <p:sp>
          <p:nvSpPr>
            <p:cNvPr id="1143" name="Freeform 273"/>
            <p:cNvSpPr/>
            <p:nvPr/>
          </p:nvSpPr>
          <p:spPr>
            <a:xfrm>
              <a:off x="2346480" y="3619440"/>
              <a:ext cx="185760" cy="1494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17" h="94">
                  <a:moveTo>
                    <a:pt x="117" y="47"/>
                  </a:moveTo>
                  <a:lnTo>
                    <a:pt x="0" y="94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274"/>
            <p:cNvSpPr/>
            <p:nvPr/>
          </p:nvSpPr>
          <p:spPr>
            <a:xfrm>
              <a:off x="2036880" y="3693960"/>
              <a:ext cx="3096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Rectangle 275"/>
          <p:cNvSpPr/>
          <p:nvPr/>
        </p:nvSpPr>
        <p:spPr>
          <a:xfrm>
            <a:off x="6253200" y="3753000"/>
            <a:ext cx="347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288"/>
          <p:cNvSpPr/>
          <p:nvPr/>
        </p:nvSpPr>
        <p:spPr>
          <a:xfrm>
            <a:off x="1911960" y="1468440"/>
            <a:ext cx="1837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cuum (or air)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89"/>
          <p:cNvSpPr/>
          <p:nvPr/>
        </p:nvSpPr>
        <p:spPr>
          <a:xfrm>
            <a:off x="5821920" y="1468440"/>
            <a:ext cx="948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290"/>
          <p:cNvSpPr/>
          <p:nvPr/>
        </p:nvSpPr>
        <p:spPr>
          <a:xfrm>
            <a:off x="4660920" y="2357280"/>
            <a:ext cx="3341520" cy="1089360"/>
          </a:xfrm>
          <a:custGeom>
            <a:avLst/>
            <a:gdLst>
              <a:gd name="textAreaLeft" fmla="*/ 0 w 3341520"/>
              <a:gd name="textAreaRight" fmla="*/ 3341880 w 3341520"/>
              <a:gd name="textAreaTop" fmla="*/ 0 h 1089360"/>
              <a:gd name="textAreaBottom" fmla="*/ 1089720 h 1089360"/>
            </a:gdLst>
            <a:ahLst/>
            <a:rect l="textAreaLeft" t="textAreaTop" r="textAreaRight" b="textAreaBottom"/>
            <a:pathLst>
              <a:path w="2105" h="686">
                <a:moveTo>
                  <a:pt x="2089" y="686"/>
                </a:moveTo>
                <a:lnTo>
                  <a:pt x="1723" y="663"/>
                </a:lnTo>
                <a:lnTo>
                  <a:pt x="1364" y="624"/>
                </a:lnTo>
                <a:lnTo>
                  <a:pt x="1037" y="569"/>
                </a:lnTo>
                <a:lnTo>
                  <a:pt x="732" y="499"/>
                </a:lnTo>
                <a:lnTo>
                  <a:pt x="475" y="413"/>
                </a:lnTo>
                <a:lnTo>
                  <a:pt x="273" y="320"/>
                </a:lnTo>
                <a:lnTo>
                  <a:pt x="117" y="218"/>
                </a:lnTo>
                <a:lnTo>
                  <a:pt x="23" y="109"/>
                </a:lnTo>
                <a:lnTo>
                  <a:pt x="0" y="0"/>
                </a:lnTo>
                <a:lnTo>
                  <a:pt x="2105" y="70"/>
                </a:lnTo>
                <a:lnTo>
                  <a:pt x="2089" y="68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291"/>
          <p:cNvSpPr/>
          <p:nvPr/>
        </p:nvSpPr>
        <p:spPr>
          <a:xfrm>
            <a:off x="4576680" y="2300400"/>
            <a:ext cx="3484800" cy="115884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2089" h="686">
                <a:moveTo>
                  <a:pt x="2089" y="686"/>
                </a:moveTo>
                <a:lnTo>
                  <a:pt x="1723" y="663"/>
                </a:lnTo>
                <a:lnTo>
                  <a:pt x="1364" y="624"/>
                </a:lnTo>
                <a:lnTo>
                  <a:pt x="1037" y="569"/>
                </a:lnTo>
                <a:lnTo>
                  <a:pt x="732" y="499"/>
                </a:lnTo>
                <a:lnTo>
                  <a:pt x="475" y="413"/>
                </a:lnTo>
                <a:lnTo>
                  <a:pt x="273" y="320"/>
                </a:lnTo>
                <a:lnTo>
                  <a:pt x="117" y="218"/>
                </a:lnTo>
                <a:lnTo>
                  <a:pt x="23" y="10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92"/>
          <p:cNvSpPr/>
          <p:nvPr/>
        </p:nvSpPr>
        <p:spPr>
          <a:xfrm>
            <a:off x="4559400" y="2252520"/>
            <a:ext cx="291960" cy="408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93"/>
          <p:cNvSpPr/>
          <p:nvPr/>
        </p:nvSpPr>
        <p:spPr>
          <a:xfrm>
            <a:off x="5564520" y="2784600"/>
            <a:ext cx="232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depth = 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296"/>
          <p:cNvGrpSpPr/>
          <p:nvPr/>
        </p:nvGrpSpPr>
        <p:grpSpPr>
          <a:xfrm>
            <a:off x="2173320" y="2703600"/>
            <a:ext cx="1001520" cy="123840"/>
            <a:chOff x="2173320" y="2703600"/>
            <a:chExt cx="1001520" cy="123840"/>
          </a:xfrm>
        </p:grpSpPr>
        <p:sp>
          <p:nvSpPr>
            <p:cNvPr id="1153" name="Freeform 297"/>
            <p:cNvSpPr/>
            <p:nvPr/>
          </p:nvSpPr>
          <p:spPr>
            <a:xfrm>
              <a:off x="2173320" y="2703600"/>
              <a:ext cx="185400" cy="123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17" h="78">
                  <a:moveTo>
                    <a:pt x="0" y="39"/>
                  </a:moveTo>
                  <a:lnTo>
                    <a:pt x="117" y="0"/>
                  </a:lnTo>
                  <a:lnTo>
                    <a:pt x="117" y="39"/>
                  </a:lnTo>
                  <a:lnTo>
                    <a:pt x="117" y="7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98"/>
            <p:cNvSpPr/>
            <p:nvPr/>
          </p:nvSpPr>
          <p:spPr>
            <a:xfrm>
              <a:off x="2989080" y="2703600"/>
              <a:ext cx="185760" cy="1238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17" h="78">
                  <a:moveTo>
                    <a:pt x="117" y="39"/>
                  </a:move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17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299"/>
            <p:cNvSpPr/>
            <p:nvPr/>
          </p:nvSpPr>
          <p:spPr>
            <a:xfrm>
              <a:off x="2358720" y="2765520"/>
              <a:ext cx="630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300"/>
          <p:cNvSpPr/>
          <p:nvPr/>
        </p:nvSpPr>
        <p:spPr>
          <a:xfrm>
            <a:off x="2568600" y="2579760"/>
            <a:ext cx="24768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301"/>
          <p:cNvSpPr/>
          <p:nvPr/>
        </p:nvSpPr>
        <p:spPr>
          <a:xfrm>
            <a:off x="2575080" y="2579760"/>
            <a:ext cx="2491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302"/>
          <p:cNvGrpSpPr/>
          <p:nvPr/>
        </p:nvGrpSpPr>
        <p:grpSpPr>
          <a:xfrm>
            <a:off x="5118120" y="4251240"/>
            <a:ext cx="495000" cy="98640"/>
            <a:chOff x="5118120" y="4251240"/>
            <a:chExt cx="495000" cy="98640"/>
          </a:xfrm>
        </p:grpSpPr>
        <p:sp>
          <p:nvSpPr>
            <p:cNvPr id="1159" name="Freeform 303"/>
            <p:cNvSpPr/>
            <p:nvPr/>
          </p:nvSpPr>
          <p:spPr>
            <a:xfrm>
              <a:off x="5118120" y="4251240"/>
              <a:ext cx="136440" cy="98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86" h="62">
                  <a:moveTo>
                    <a:pt x="0" y="31"/>
                  </a:moveTo>
                  <a:lnTo>
                    <a:pt x="86" y="0"/>
                  </a:lnTo>
                  <a:lnTo>
                    <a:pt x="86" y="31"/>
                  </a:lnTo>
                  <a:lnTo>
                    <a:pt x="86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4"/>
            <p:cNvSpPr/>
            <p:nvPr/>
          </p:nvSpPr>
          <p:spPr>
            <a:xfrm>
              <a:off x="5476680" y="4251240"/>
              <a:ext cx="136440" cy="98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1"/>
                  </a:moveTo>
                  <a:lnTo>
                    <a:pt x="0" y="6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86" y="3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305"/>
            <p:cNvSpPr/>
            <p:nvPr/>
          </p:nvSpPr>
          <p:spPr>
            <a:xfrm>
              <a:off x="5254560" y="4300560"/>
              <a:ext cx="222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Rectangle 306"/>
          <p:cNvSpPr/>
          <p:nvPr/>
        </p:nvSpPr>
        <p:spPr>
          <a:xfrm>
            <a:off x="5255280" y="4367160"/>
            <a:ext cx="37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11"/>
          <p:cNvSpPr/>
          <p:nvPr/>
        </p:nvSpPr>
        <p:spPr>
          <a:xfrm>
            <a:off x="5713560" y="4251240"/>
            <a:ext cx="232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 decreas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4" name="Object 312"/>
          <p:cNvGraphicFramePr/>
          <p:nvPr/>
        </p:nvGraphicFramePr>
        <p:xfrm>
          <a:off x="4624560" y="4822920"/>
          <a:ext cx="341784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4560" y="4822920"/>
                    <a:ext cx="3417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313"/>
          <p:cNvGraphicFramePr/>
          <p:nvPr/>
        </p:nvGraphicFramePr>
        <p:xfrm>
          <a:off x="1171440" y="4822920"/>
          <a:ext cx="27576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7" name="Object 3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1440" y="4822920"/>
                    <a:ext cx="2757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609480" y="1201320"/>
            <a:ext cx="792504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rradiance is proportional to the (average) square of the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(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irradiance i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297000" y="344160"/>
            <a:ext cx="8516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bsorption Coefficient and the Irrad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6"/>
          <p:cNvSpPr/>
          <p:nvPr/>
        </p:nvSpPr>
        <p:spPr>
          <a:xfrm>
            <a:off x="609480" y="3886200"/>
            <a:ext cx="780732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rradianc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rradianc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due to absorption, a bea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rradiance exponentially decreases as it propagates through a medium.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/e distance, 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a rough measure of the distance light can propagate into a medium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8"/>
          <p:cNvSpPr/>
          <p:nvPr/>
        </p:nvSpPr>
        <p:spPr>
          <a:xfrm>
            <a:off x="2703600" y="2846520"/>
            <a:ext cx="343512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 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ex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α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58560" y="194760"/>
            <a:ext cx="83581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99"/>
                </a:solidFill>
                <a:latin typeface="Arial"/>
              </a:rPr>
              <a:t>Refractive index and Absorption coeffic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7534440" cy="3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es from the real par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4" name="Object 4"/>
          <p:cNvGraphicFramePr/>
          <p:nvPr/>
        </p:nvGraphicFramePr>
        <p:xfrm>
          <a:off x="1584360" y="1698480"/>
          <a:ext cx="61228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698480"/>
                    <a:ext cx="6122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5"/>
          <p:cNvGraphicFramePr/>
          <p:nvPr/>
        </p:nvGraphicFramePr>
        <p:xfrm>
          <a:off x="1701720" y="3236760"/>
          <a:ext cx="5929560" cy="9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236760"/>
                    <a:ext cx="5929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7"/>
          <p:cNvGraphicFramePr/>
          <p:nvPr/>
        </p:nvGraphicFramePr>
        <p:xfrm>
          <a:off x="1879560" y="4603680"/>
          <a:ext cx="4761000" cy="19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9560" y="4603680"/>
                    <a:ext cx="47610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Rectangle 8"/>
          <p:cNvSpPr/>
          <p:nvPr/>
        </p:nvSpPr>
        <p:spPr>
          <a:xfrm>
            <a:off x="687600" y="43434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9"/>
          <p:cNvSpPr/>
          <p:nvPr/>
        </p:nvSpPr>
        <p:spPr>
          <a:xfrm>
            <a:off x="679680" y="2749680"/>
            <a:ext cx="444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from the imaginary par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6972480" y="4756320"/>
            <a:ext cx="1336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sults are valid for small values of these quantities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9"/>
          <p:cNvSpPr/>
          <p:nvPr/>
        </p:nvSpPr>
        <p:spPr>
          <a:xfrm>
            <a:off x="1973160" y="1047600"/>
            <a:ext cx="5197680" cy="380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324000" y="5124600"/>
            <a:ext cx="8553240" cy="15048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17520" y="174600"/>
            <a:ext cx="8602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Refractive index and Absorption coeffici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6" name="Object 6"/>
          <p:cNvGraphicFramePr/>
          <p:nvPr/>
        </p:nvGraphicFramePr>
        <p:xfrm>
          <a:off x="490680" y="5423040"/>
          <a:ext cx="824364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5423040"/>
                    <a:ext cx="82436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8" name="Picture 7" descr=""/>
          <p:cNvPicPr/>
          <p:nvPr/>
        </p:nvPicPr>
        <p:blipFill>
          <a:blip r:embed="rId3"/>
          <a:srcRect l="0" t="0" r="0" b="15271"/>
          <a:stretch/>
        </p:blipFill>
        <p:spPr>
          <a:xfrm>
            <a:off x="2198520" y="1328760"/>
            <a:ext cx="4948560" cy="297036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10"/>
          <p:cNvSpPr/>
          <p:nvPr/>
        </p:nvSpPr>
        <p:spPr>
          <a:xfrm>
            <a:off x="4900680" y="42591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1"/>
          <p:cNvSpPr/>
          <p:nvPr/>
        </p:nvSpPr>
        <p:spPr>
          <a:xfrm>
            <a:off x="4255920" y="4116240"/>
            <a:ext cx="53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19"/>
          <p:cNvSpPr/>
          <p:nvPr/>
        </p:nvSpPr>
        <p:spPr>
          <a:xfrm>
            <a:off x="3417840" y="2674800"/>
            <a:ext cx="11127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18"/>
          <p:cNvSpPr/>
          <p:nvPr/>
        </p:nvSpPr>
        <p:spPr>
          <a:xfrm>
            <a:off x="1874880" y="2674800"/>
            <a:ext cx="144288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9040" y="190080"/>
            <a:ext cx="826776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Light excites atoms, which emit light that adds (or subtracts) with the inpu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0080" y="1542960"/>
            <a:ext cx="8178840" cy="4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of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ites an atom with resonant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06"/>
          <p:cNvSpPr/>
          <p:nvPr/>
        </p:nvSpPr>
        <p:spPr>
          <a:xfrm>
            <a:off x="460440" y="4707000"/>
            <a:ext cx="791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ited atom vibrates at the frequency of the light that excited it and re-emits the energy as light of that frequency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ucial issue is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lative 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cident light and this re-emitted light.  For example, if these two waves are ~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hase, the beam will be attenuated. We call this absorptio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05"/>
          <p:cNvSpPr/>
          <p:nvPr/>
        </p:nvSpPr>
        <p:spPr>
          <a:xfrm>
            <a:off x="625320" y="2674800"/>
            <a:ext cx="114012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407"/>
          <p:cNvSpPr/>
          <p:nvPr/>
        </p:nvSpPr>
        <p:spPr>
          <a:xfrm>
            <a:off x="2530440" y="302904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08"/>
          <p:cNvSpPr/>
          <p:nvPr/>
        </p:nvSpPr>
        <p:spPr>
          <a:xfrm>
            <a:off x="1386000" y="3394080"/>
            <a:ext cx="231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409"/>
          <p:cNvSpPr/>
          <p:nvPr/>
        </p:nvSpPr>
        <p:spPr>
          <a:xfrm>
            <a:off x="4164120" y="3394080"/>
            <a:ext cx="19836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11"/>
          <p:cNvSpPr/>
          <p:nvPr/>
        </p:nvSpPr>
        <p:spPr>
          <a:xfrm>
            <a:off x="512640" y="2116080"/>
            <a:ext cx="14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2"/>
          <p:cNvSpPr/>
          <p:nvPr/>
        </p:nvSpPr>
        <p:spPr>
          <a:xfrm>
            <a:off x="1998720" y="211608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13"/>
          <p:cNvSpPr/>
          <p:nvPr/>
        </p:nvSpPr>
        <p:spPr>
          <a:xfrm>
            <a:off x="3341520" y="2116080"/>
            <a:ext cx="11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ed fiel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06"/>
          <p:cNvSpPr/>
          <p:nvPr/>
        </p:nvSpPr>
        <p:spPr>
          <a:xfrm>
            <a:off x="903240" y="4132440"/>
            <a:ext cx="3106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so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14"/>
          <p:cNvSpPr/>
          <p:nvPr/>
        </p:nvSpPr>
        <p:spPr>
          <a:xfrm flipV="1">
            <a:off x="2490840" y="2801520"/>
            <a:ext cx="0" cy="12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Object 415"/>
          <p:cNvGraphicFramePr/>
          <p:nvPr/>
        </p:nvGraphicFramePr>
        <p:xfrm>
          <a:off x="1911240" y="3176640"/>
          <a:ext cx="5875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4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3176640"/>
                    <a:ext cx="587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Line 416"/>
          <p:cNvSpPr/>
          <p:nvPr/>
        </p:nvSpPr>
        <p:spPr>
          <a:xfrm flipV="1">
            <a:off x="1249200" y="280368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Object 417"/>
          <p:cNvGraphicFramePr/>
          <p:nvPr/>
        </p:nvGraphicFramePr>
        <p:xfrm>
          <a:off x="646200" y="3127320"/>
          <a:ext cx="56808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4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3127320"/>
                    <a:ext cx="5680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420"/>
          <p:cNvSpPr/>
          <p:nvPr/>
        </p:nvSpPr>
        <p:spPr>
          <a:xfrm flipV="1">
            <a:off x="4011480" y="2803680"/>
            <a:ext cx="0" cy="12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21"/>
          <p:cNvGraphicFramePr/>
          <p:nvPr/>
        </p:nvGraphicFramePr>
        <p:xfrm>
          <a:off x="3387600" y="3141720"/>
          <a:ext cx="63828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1" name="Object 4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7600" y="3141720"/>
                    <a:ext cx="638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2" name="Group 463"/>
          <p:cNvGrpSpPr/>
          <p:nvPr/>
        </p:nvGrpSpPr>
        <p:grpSpPr>
          <a:xfrm>
            <a:off x="4967280" y="2400480"/>
            <a:ext cx="3568320" cy="2112840"/>
            <a:chOff x="4967280" y="2400480"/>
            <a:chExt cx="3568320" cy="2112840"/>
          </a:xfrm>
        </p:grpSpPr>
        <p:sp>
          <p:nvSpPr>
            <p:cNvPr id="523" name="Rectangle 818"/>
            <p:cNvSpPr/>
            <p:nvPr/>
          </p:nvSpPr>
          <p:spPr>
            <a:xfrm>
              <a:off x="4976640" y="2400480"/>
              <a:ext cx="3558960" cy="21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431"/>
            <p:cNvGrpSpPr/>
            <p:nvPr/>
          </p:nvGrpSpPr>
          <p:grpSpPr>
            <a:xfrm>
              <a:off x="5238000" y="2711520"/>
              <a:ext cx="1411200" cy="360720"/>
              <a:chOff x="5238000" y="2711520"/>
              <a:chExt cx="1411200" cy="360720"/>
            </a:xfrm>
          </p:grpSpPr>
          <p:grpSp>
            <p:nvGrpSpPr>
              <p:cNvPr id="525" name="Group 432"/>
              <p:cNvGrpSpPr/>
              <p:nvPr/>
            </p:nvGrpSpPr>
            <p:grpSpPr>
              <a:xfrm>
                <a:off x="5707080" y="2713320"/>
                <a:ext cx="468720" cy="348480"/>
                <a:chOff x="5707080" y="2713320"/>
                <a:chExt cx="468720" cy="348480"/>
              </a:xfrm>
            </p:grpSpPr>
            <p:sp>
              <p:nvSpPr>
                <p:cNvPr id="526" name="Arc 433"/>
                <p:cNvSpPr/>
                <p:nvPr/>
              </p:nvSpPr>
              <p:spPr>
                <a:xfrm flipH="1" rot="10802400">
                  <a:off x="5707080" y="2790360"/>
                  <a:ext cx="236880" cy="271440"/>
                </a:xfrm>
                <a:custGeom>
                  <a:avLst/>
                  <a:gdLst>
                    <a:gd name="textAreaLeft" fmla="*/ 360 w 236880"/>
                    <a:gd name="textAreaRight" fmla="*/ 237600 w 236880"/>
                    <a:gd name="textAreaTop" fmla="*/ 0 h 271440"/>
                    <a:gd name="textAreaBottom" fmla="*/ 271800 h 27144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rc 434"/>
                <p:cNvSpPr/>
                <p:nvPr/>
              </p:nvSpPr>
              <p:spPr>
                <a:xfrm flipH="1" flipV="1" rot="10802400">
                  <a:off x="5943960" y="2712960"/>
                  <a:ext cx="231840" cy="271080"/>
                </a:xfrm>
                <a:custGeom>
                  <a:avLst/>
                  <a:gdLst>
                    <a:gd name="textAreaLeft" fmla="*/ 0 w 231840"/>
                    <a:gd name="textAreaRight" fmla="*/ 231840 w 231840"/>
                    <a:gd name="textAreaTop" fmla="*/ -360 h 271080"/>
                    <a:gd name="textAreaBottom" fmla="*/ 271080 h 27108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Arc 435"/>
              <p:cNvSpPr/>
              <p:nvPr/>
            </p:nvSpPr>
            <p:spPr>
              <a:xfrm flipH="1" rot="10802400">
                <a:off x="6172920" y="2802600"/>
                <a:ext cx="239400" cy="269640"/>
              </a:xfrm>
              <a:custGeom>
                <a:avLst/>
                <a:gdLst>
                  <a:gd name="textAreaLeft" fmla="*/ 0 w 239400"/>
                  <a:gd name="textAreaRight" fmla="*/ 239400 w 239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rc 436"/>
              <p:cNvSpPr/>
              <p:nvPr/>
            </p:nvSpPr>
            <p:spPr>
              <a:xfrm flipH="1" flipV="1" rot="10801800">
                <a:off x="6412320" y="2715120"/>
                <a:ext cx="236520" cy="270000"/>
              </a:xfrm>
              <a:custGeom>
                <a:avLst/>
                <a:gdLst>
                  <a:gd name="textAreaLeft" fmla="*/ -360 w 236520"/>
                  <a:gd name="textAreaRight" fmla="*/ 236520 w 236520"/>
                  <a:gd name="textAreaTop" fmla="*/ 360 h 270000"/>
                  <a:gd name="textAreaBottom" fmla="*/ 270720 h 270000"/>
                </a:gdLst>
                <a:ahLst/>
                <a:rect l="textAreaLeft" t="textAreaTop" r="textAreaRight" b="textAreaBottom"/>
                <a:pathLst>
                  <a:path fill="none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</a:path>
                  <a:path stroke="0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  <a:lnTo>
                      <a:pt x="20791" y="21600"/>
                    </a:lnTo>
                    <a:lnTo>
                      <a:pt x="-1" y="15743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Group 437"/>
              <p:cNvGrpSpPr/>
              <p:nvPr/>
            </p:nvGrpSpPr>
            <p:grpSpPr>
              <a:xfrm>
                <a:off x="5238000" y="2711520"/>
                <a:ext cx="470880" cy="348480"/>
                <a:chOff x="5238000" y="2711520"/>
                <a:chExt cx="470880" cy="348480"/>
              </a:xfrm>
            </p:grpSpPr>
            <p:sp>
              <p:nvSpPr>
                <p:cNvPr id="531" name="Arc 438"/>
                <p:cNvSpPr/>
                <p:nvPr/>
              </p:nvSpPr>
              <p:spPr>
                <a:xfrm flipH="1" rot="10802400">
                  <a:off x="5237640" y="2788560"/>
                  <a:ext cx="237960" cy="271440"/>
                </a:xfrm>
                <a:custGeom>
                  <a:avLst/>
                  <a:gdLst>
                    <a:gd name="textAreaLeft" fmla="*/ -360 w 237960"/>
                    <a:gd name="textAreaRight" fmla="*/ 237960 w 237960"/>
                    <a:gd name="textAreaTop" fmla="*/ 0 h 271440"/>
                    <a:gd name="textAreaBottom" fmla="*/ 271800 h 27144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rc 439"/>
                <p:cNvSpPr/>
                <p:nvPr/>
              </p:nvSpPr>
              <p:spPr>
                <a:xfrm flipH="1" flipV="1" rot="10802400">
                  <a:off x="5475600" y="2711160"/>
                  <a:ext cx="232920" cy="271080"/>
                </a:xfrm>
                <a:custGeom>
                  <a:avLst/>
                  <a:gdLst>
                    <a:gd name="textAreaLeft" fmla="*/ -360 w 232920"/>
                    <a:gd name="textAreaRight" fmla="*/ 232920 w 232920"/>
                    <a:gd name="textAreaTop" fmla="*/ -360 h 271080"/>
                    <a:gd name="textAreaBottom" fmla="*/ 271080 h 27108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Group 440"/>
            <p:cNvGrpSpPr/>
            <p:nvPr/>
          </p:nvGrpSpPr>
          <p:grpSpPr>
            <a:xfrm>
              <a:off x="5232600" y="3937320"/>
              <a:ext cx="1411560" cy="187920"/>
              <a:chOff x="5232600" y="3937320"/>
              <a:chExt cx="1411560" cy="187920"/>
            </a:xfrm>
          </p:grpSpPr>
          <p:grpSp>
            <p:nvGrpSpPr>
              <p:cNvPr id="534" name="Group 441"/>
              <p:cNvGrpSpPr/>
              <p:nvPr/>
            </p:nvGrpSpPr>
            <p:grpSpPr>
              <a:xfrm>
                <a:off x="5702040" y="3938400"/>
                <a:ext cx="468720" cy="181440"/>
                <a:chOff x="5702040" y="3938400"/>
                <a:chExt cx="468720" cy="181440"/>
              </a:xfrm>
            </p:grpSpPr>
            <p:sp>
              <p:nvSpPr>
                <p:cNvPr id="535" name="Arc 442"/>
                <p:cNvSpPr/>
                <p:nvPr/>
              </p:nvSpPr>
              <p:spPr>
                <a:xfrm flipH="1" rot="10802400">
                  <a:off x="5701680" y="3979080"/>
                  <a:ext cx="235800" cy="140760"/>
                </a:xfrm>
                <a:custGeom>
                  <a:avLst/>
                  <a:gdLst>
                    <a:gd name="textAreaLeft" fmla="*/ -360 w 235800"/>
                    <a:gd name="textAreaRight" fmla="*/ 235800 w 2358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rc 443"/>
                <p:cNvSpPr/>
                <p:nvPr/>
              </p:nvSpPr>
              <p:spPr>
                <a:xfrm flipH="1" flipV="1" rot="10802400">
                  <a:off x="5941800" y="3938040"/>
                  <a:ext cx="228600" cy="140760"/>
                </a:xfrm>
                <a:custGeom>
                  <a:avLst/>
                  <a:gdLst>
                    <a:gd name="textAreaLeft" fmla="*/ -360 w 228600"/>
                    <a:gd name="textAreaRight" fmla="*/ 228600 w 228600"/>
                    <a:gd name="textAreaTop" fmla="*/ -360 h 140760"/>
                    <a:gd name="textAreaBottom" fmla="*/ 140760 h 14076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Arc 444"/>
              <p:cNvSpPr/>
              <p:nvPr/>
            </p:nvSpPr>
            <p:spPr>
              <a:xfrm flipH="1" rot="10802400">
                <a:off x="6167880" y="3985200"/>
                <a:ext cx="239400" cy="140040"/>
              </a:xfrm>
              <a:custGeom>
                <a:avLst/>
                <a:gdLst/>
                <a:ahLst/>
                <a:rect l="l" t="t" r="r" b="b"/>
                <a:pathLst>
                  <a:path fill="none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</a:path>
                  <a:path stroke="0" w="41051" h="21600">
                    <a:moveTo>
                      <a:pt x="-1" y="14962"/>
                    </a:moveTo>
                    <a:cubicBezTo>
                      <a:pt x="2879" y="6044"/>
                      <a:pt x="11182" y="-1"/>
                      <a:pt x="20555" y="-1"/>
                    </a:cubicBezTo>
                    <a:cubicBezTo>
                      <a:pt x="29857" y="-1"/>
                      <a:pt x="38114" y="5955"/>
                      <a:pt x="41050" y="14782"/>
                    </a:cubicBezTo>
                    <a:lnTo>
                      <a:pt x="20555" y="21600"/>
                    </a:lnTo>
                    <a:lnTo>
                      <a:pt x="-1" y="14962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rc 445"/>
              <p:cNvSpPr/>
              <p:nvPr/>
            </p:nvSpPr>
            <p:spPr>
              <a:xfrm flipH="1" flipV="1" rot="10801800">
                <a:off x="6407280" y="3939840"/>
                <a:ext cx="236520" cy="140400"/>
              </a:xfrm>
              <a:custGeom>
                <a:avLst/>
                <a:gdLst>
                  <a:gd name="textAreaLeft" fmla="*/ -360 w 236520"/>
                  <a:gd name="textAreaRight" fmla="*/ 236520 w 236520"/>
                  <a:gd name="textAreaTop" fmla="*/ 360 h 140400"/>
                  <a:gd name="textAreaBottom" fmla="*/ 141120 h 140400"/>
                </a:gdLst>
                <a:ahLst/>
                <a:rect l="textAreaLeft" t="textAreaTop" r="textAreaRight" b="textAreaBottom"/>
                <a:pathLst>
                  <a:path fill="none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</a:path>
                  <a:path stroke="0" w="40937" h="21600">
                    <a:moveTo>
                      <a:pt x="-1" y="15743"/>
                    </a:moveTo>
                    <a:cubicBezTo>
                      <a:pt x="2622" y="6432"/>
                      <a:pt x="11116" y="-1"/>
                      <a:pt x="20791" y="-1"/>
                    </a:cubicBezTo>
                    <a:cubicBezTo>
                      <a:pt x="29714" y="-1"/>
                      <a:pt x="37719" y="5487"/>
                      <a:pt x="40937" y="13809"/>
                    </a:cubicBezTo>
                    <a:lnTo>
                      <a:pt x="20791" y="21600"/>
                    </a:lnTo>
                    <a:lnTo>
                      <a:pt x="-1" y="15743"/>
                    </a:lnTo>
                    <a:close/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9" name="Group 446"/>
              <p:cNvGrpSpPr/>
              <p:nvPr/>
            </p:nvGrpSpPr>
            <p:grpSpPr>
              <a:xfrm>
                <a:off x="5232600" y="3937320"/>
                <a:ext cx="470880" cy="181800"/>
                <a:chOff x="5232600" y="3937320"/>
                <a:chExt cx="470880" cy="181800"/>
              </a:xfrm>
            </p:grpSpPr>
            <p:sp>
              <p:nvSpPr>
                <p:cNvPr id="540" name="Arc 447"/>
                <p:cNvSpPr/>
                <p:nvPr/>
              </p:nvSpPr>
              <p:spPr>
                <a:xfrm flipH="1" rot="10802400">
                  <a:off x="5232240" y="3976560"/>
                  <a:ext cx="237960" cy="142560"/>
                </a:xfrm>
                <a:custGeom>
                  <a:avLst/>
                  <a:gdLst>
                    <a:gd name="textAreaLeft" fmla="*/ -360 w 237960"/>
                    <a:gd name="textAreaRight" fmla="*/ 237960 w 2379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rc 448"/>
                <p:cNvSpPr/>
                <p:nvPr/>
              </p:nvSpPr>
              <p:spPr>
                <a:xfrm flipH="1" flipV="1" rot="10802400">
                  <a:off x="5470200" y="3937320"/>
                  <a:ext cx="232920" cy="142560"/>
                </a:xfrm>
                <a:custGeom>
                  <a:avLst/>
                  <a:gdLst>
                    <a:gd name="textAreaLeft" fmla="*/ -360 w 232920"/>
                    <a:gd name="textAreaRight" fmla="*/ 232920 w 232920"/>
                    <a:gd name="textAreaTop" fmla="*/ 360 h 142560"/>
                    <a:gd name="textAreaBottom" fmla="*/ 143280 h 142560"/>
                  </a:gdLst>
                  <a:ahLst/>
                  <a:rect l="textAreaLeft" t="textAreaTop" r="textAreaRight" b="textAreaBottom"/>
                  <a:pathLst>
                    <a:path fill="none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</a:path>
                    <a:path stroke="0" w="40133" h="21600">
                      <a:moveTo>
                        <a:pt x="-1" y="13410"/>
                      </a:moveTo>
                      <a:cubicBezTo>
                        <a:pt x="3323" y="5298"/>
                        <a:pt x="11220" y="-1"/>
                        <a:pt x="19987" y="-1"/>
                      </a:cubicBezTo>
                      <a:cubicBezTo>
                        <a:pt x="28910" y="-1"/>
                        <a:pt x="36915" y="5487"/>
                        <a:pt x="40133" y="13809"/>
                      </a:cubicBezTo>
                      <a:lnTo>
                        <a:pt x="19987" y="21600"/>
                      </a:lnTo>
                      <a:lnTo>
                        <a:pt x="-1" y="1341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Group 461"/>
            <p:cNvGrpSpPr/>
            <p:nvPr/>
          </p:nvGrpSpPr>
          <p:grpSpPr>
            <a:xfrm>
              <a:off x="5008680" y="2565360"/>
              <a:ext cx="1411200" cy="1820160"/>
              <a:chOff x="5008680" y="2565360"/>
              <a:chExt cx="1411200" cy="1820160"/>
            </a:xfrm>
          </p:grpSpPr>
          <p:grpSp>
            <p:nvGrpSpPr>
              <p:cNvPr id="543" name="Group 422"/>
              <p:cNvGrpSpPr/>
              <p:nvPr/>
            </p:nvGrpSpPr>
            <p:grpSpPr>
              <a:xfrm>
                <a:off x="5008680" y="3380760"/>
                <a:ext cx="1411200" cy="142920"/>
                <a:chOff x="5008680" y="3380760"/>
                <a:chExt cx="1411200" cy="142920"/>
              </a:xfrm>
            </p:grpSpPr>
            <p:grpSp>
              <p:nvGrpSpPr>
                <p:cNvPr id="544" name="Group 423"/>
                <p:cNvGrpSpPr/>
                <p:nvPr/>
              </p:nvGrpSpPr>
              <p:grpSpPr>
                <a:xfrm>
                  <a:off x="5477760" y="3381480"/>
                  <a:ext cx="468720" cy="138240"/>
                  <a:chOff x="5477760" y="3381480"/>
                  <a:chExt cx="468720" cy="138240"/>
                </a:xfrm>
              </p:grpSpPr>
              <p:sp>
                <p:nvSpPr>
                  <p:cNvPr id="545" name="Arc 424"/>
                  <p:cNvSpPr/>
                  <p:nvPr/>
                </p:nvSpPr>
                <p:spPr>
                  <a:xfrm flipH="1" rot="10802400">
                    <a:off x="5477760" y="3414240"/>
                    <a:ext cx="233280" cy="10548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fill="none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</a:path>
                      <a:path stroke="0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  <a:lnTo>
                          <a:pt x="20555" y="21600"/>
                        </a:lnTo>
                        <a:lnTo>
                          <a:pt x="-1" y="1496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Arc 425"/>
                  <p:cNvSpPr/>
                  <p:nvPr/>
                </p:nvSpPr>
                <p:spPr>
                  <a:xfrm flipH="1" flipV="1" rot="10802400">
                    <a:off x="5715360" y="3381120"/>
                    <a:ext cx="230760" cy="107640"/>
                  </a:xfrm>
                  <a:custGeom>
                    <a:avLst/>
                    <a:gdLst>
                      <a:gd name="textAreaLeft" fmla="*/ -360 w 230760"/>
                      <a:gd name="textAreaRight" fmla="*/ 230760 w 230760"/>
                      <a:gd name="textAreaTop" fmla="*/ -360 h 107640"/>
                      <a:gd name="textAreaBottom" fmla="*/ 107640 h 107640"/>
                    </a:gdLst>
                    <a:ahLst/>
                    <a:rect l="textAreaLeft" t="textAreaTop" r="textAreaRight" b="textAreaBottom"/>
                    <a:pathLst>
                      <a:path fill="none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</a:path>
                      <a:path stroke="0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  <a:lnTo>
                          <a:pt x="19987" y="21600"/>
                        </a:lnTo>
                        <a:lnTo>
                          <a:pt x="-1" y="1341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Arc 426"/>
                <p:cNvSpPr/>
                <p:nvPr/>
              </p:nvSpPr>
              <p:spPr>
                <a:xfrm flipH="1" rot="10802400">
                  <a:off x="5943600" y="3416760"/>
                  <a:ext cx="239400" cy="106920"/>
                </a:xfrm>
                <a:custGeom>
                  <a:avLst/>
                  <a:gdLst>
                    <a:gd name="textAreaLeft" fmla="*/ 0 w 239400"/>
                    <a:gd name="textAreaRight" fmla="*/ 239400 w 239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fill="none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</a:path>
                    <a:path stroke="0" w="41051" h="21600">
                      <a:moveTo>
                        <a:pt x="-1" y="14962"/>
                      </a:moveTo>
                      <a:cubicBezTo>
                        <a:pt x="2879" y="6044"/>
                        <a:pt x="11182" y="-1"/>
                        <a:pt x="20555" y="-1"/>
                      </a:cubicBezTo>
                      <a:cubicBezTo>
                        <a:pt x="29857" y="-1"/>
                        <a:pt x="38114" y="5955"/>
                        <a:pt x="41050" y="14782"/>
                      </a:cubicBezTo>
                      <a:lnTo>
                        <a:pt x="20555" y="21600"/>
                      </a:lnTo>
                      <a:lnTo>
                        <a:pt x="-1" y="1496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rc 427"/>
                <p:cNvSpPr/>
                <p:nvPr/>
              </p:nvSpPr>
              <p:spPr>
                <a:xfrm flipH="1" flipV="1" rot="10801800">
                  <a:off x="6183000" y="3382200"/>
                  <a:ext cx="236520" cy="107280"/>
                </a:xfrm>
                <a:custGeom>
                  <a:avLst/>
                  <a:gdLst>
                    <a:gd name="textAreaLeft" fmla="*/ -360 w 236520"/>
                    <a:gd name="textAreaRight" fmla="*/ 236520 w 236520"/>
                    <a:gd name="textAreaTop" fmla="*/ 360 h 107280"/>
                    <a:gd name="textAreaBottom" fmla="*/ 108000 h 107280"/>
                  </a:gdLst>
                  <a:ahLst/>
                  <a:rect l="textAreaLeft" t="textAreaTop" r="textAreaRight" b="textAreaBottom"/>
                  <a:pathLst>
                    <a:path fill="none" w="40937" h="21600">
                      <a:moveTo>
                        <a:pt x="-1" y="15743"/>
                      </a:moveTo>
                      <a:cubicBezTo>
                        <a:pt x="2622" y="6432"/>
                        <a:pt x="11116" y="-1"/>
                        <a:pt x="20791" y="-1"/>
                      </a:cubicBezTo>
                      <a:cubicBezTo>
                        <a:pt x="29714" y="-1"/>
                        <a:pt x="37719" y="5487"/>
                        <a:pt x="40937" y="13809"/>
                      </a:cubicBezTo>
                    </a:path>
                    <a:path stroke="0" w="40937" h="21600">
                      <a:moveTo>
                        <a:pt x="-1" y="15743"/>
                      </a:moveTo>
                      <a:cubicBezTo>
                        <a:pt x="2622" y="6432"/>
                        <a:pt x="11116" y="-1"/>
                        <a:pt x="20791" y="-1"/>
                      </a:cubicBezTo>
                      <a:cubicBezTo>
                        <a:pt x="29714" y="-1"/>
                        <a:pt x="37719" y="5487"/>
                        <a:pt x="40937" y="13809"/>
                      </a:cubicBezTo>
                      <a:lnTo>
                        <a:pt x="20791" y="21600"/>
                      </a:lnTo>
                      <a:lnTo>
                        <a:pt x="-1" y="1574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Group 428"/>
                <p:cNvGrpSpPr/>
                <p:nvPr/>
              </p:nvGrpSpPr>
              <p:grpSpPr>
                <a:xfrm>
                  <a:off x="5008680" y="3380760"/>
                  <a:ext cx="470880" cy="138240"/>
                  <a:chOff x="5008680" y="3380760"/>
                  <a:chExt cx="470880" cy="138240"/>
                </a:xfrm>
              </p:grpSpPr>
              <p:sp>
                <p:nvSpPr>
                  <p:cNvPr id="550" name="Arc 429"/>
                  <p:cNvSpPr/>
                  <p:nvPr/>
                </p:nvSpPr>
                <p:spPr>
                  <a:xfrm flipH="1" rot="10802400">
                    <a:off x="5008320" y="3411720"/>
                    <a:ext cx="237960" cy="107280"/>
                  </a:xfrm>
                  <a:custGeom>
                    <a:avLst/>
                    <a:gdLst>
                      <a:gd name="textAreaLeft" fmla="*/ -360 w 237960"/>
                      <a:gd name="textAreaRight" fmla="*/ 237960 w 237960"/>
                      <a:gd name="textAreaTop" fmla="*/ 0 h 107280"/>
                      <a:gd name="textAreaBottom" fmla="*/ 107640 h 107280"/>
                    </a:gdLst>
                    <a:ahLst/>
                    <a:rect l="textAreaLeft" t="textAreaTop" r="textAreaRight" b="textAreaBottom"/>
                    <a:pathLst>
                      <a:path fill="none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</a:path>
                      <a:path stroke="0" w="41051" h="21600">
                        <a:moveTo>
                          <a:pt x="-1" y="14962"/>
                        </a:moveTo>
                        <a:cubicBezTo>
                          <a:pt x="2879" y="6044"/>
                          <a:pt x="11182" y="-1"/>
                          <a:pt x="20555" y="-1"/>
                        </a:cubicBezTo>
                        <a:cubicBezTo>
                          <a:pt x="29857" y="-1"/>
                          <a:pt x="38114" y="5955"/>
                          <a:pt x="41050" y="14782"/>
                        </a:cubicBezTo>
                        <a:lnTo>
                          <a:pt x="20555" y="21600"/>
                        </a:lnTo>
                        <a:lnTo>
                          <a:pt x="-1" y="14962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rc 430"/>
                  <p:cNvSpPr/>
                  <p:nvPr/>
                </p:nvSpPr>
                <p:spPr>
                  <a:xfrm flipH="1" flipV="1" rot="10802400">
                    <a:off x="5246280" y="3380400"/>
                    <a:ext cx="232920" cy="106920"/>
                  </a:xfrm>
                  <a:custGeom>
                    <a:avLst/>
                    <a:gdLst>
                      <a:gd name="textAreaLeft" fmla="*/ -360 w 232920"/>
                      <a:gd name="textAreaRight" fmla="*/ 232920 w 232920"/>
                      <a:gd name="textAreaTop" fmla="*/ -360 h 106920"/>
                      <a:gd name="textAreaBottom" fmla="*/ 106920 h 106920"/>
                    </a:gdLst>
                    <a:ahLst/>
                    <a:rect l="textAreaLeft" t="textAreaTop" r="textAreaRight" b="textAreaBottom"/>
                    <a:pathLst>
                      <a:path fill="none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</a:path>
                      <a:path stroke="0" w="40133" h="21600">
                        <a:moveTo>
                          <a:pt x="-1" y="13410"/>
                        </a:moveTo>
                        <a:cubicBezTo>
                          <a:pt x="3323" y="5298"/>
                          <a:pt x="11220" y="-1"/>
                          <a:pt x="19987" y="-1"/>
                        </a:cubicBezTo>
                        <a:cubicBezTo>
                          <a:pt x="28910" y="-1"/>
                          <a:pt x="36915" y="5487"/>
                          <a:pt x="40133" y="13809"/>
                        </a:cubicBezTo>
                        <a:lnTo>
                          <a:pt x="19987" y="21600"/>
                        </a:lnTo>
                        <a:lnTo>
                          <a:pt x="-1" y="1341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Text Box 449"/>
              <p:cNvSpPr/>
              <p:nvPr/>
            </p:nvSpPr>
            <p:spPr>
              <a:xfrm>
                <a:off x="5644080" y="30495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Group 450"/>
              <p:cNvGrpSpPr/>
              <p:nvPr/>
            </p:nvGrpSpPr>
            <p:grpSpPr>
              <a:xfrm>
                <a:off x="5595120" y="2565360"/>
                <a:ext cx="468720" cy="1820160"/>
                <a:chOff x="5595120" y="2565360"/>
                <a:chExt cx="468720" cy="1820160"/>
              </a:xfrm>
            </p:grpSpPr>
            <p:sp>
              <p:nvSpPr>
                <p:cNvPr id="554" name="Line 451"/>
                <p:cNvSpPr/>
                <p:nvPr/>
              </p:nvSpPr>
              <p:spPr>
                <a:xfrm>
                  <a:off x="5595120" y="2566440"/>
                  <a:ext cx="0" cy="18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452"/>
                <p:cNvSpPr/>
                <p:nvPr/>
              </p:nvSpPr>
              <p:spPr>
                <a:xfrm>
                  <a:off x="6063840" y="2565360"/>
                  <a:ext cx="0" cy="18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453"/>
              <p:cNvSpPr/>
              <p:nvPr/>
            </p:nvSpPr>
            <p:spPr>
              <a:xfrm>
                <a:off x="5642280" y="35586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457"/>
            <p:cNvSpPr/>
            <p:nvPr/>
          </p:nvSpPr>
          <p:spPr>
            <a:xfrm>
              <a:off x="4967280" y="2521080"/>
              <a:ext cx="272160" cy="19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459"/>
            <p:cNvSpPr/>
            <p:nvPr/>
          </p:nvSpPr>
          <p:spPr>
            <a:xfrm>
              <a:off x="6435000" y="2565360"/>
              <a:ext cx="399600" cy="19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814"/>
            <p:cNvSpPr/>
            <p:nvPr/>
          </p:nvSpPr>
          <p:spPr>
            <a:xfrm>
              <a:off x="6440040" y="271224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ident ligh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15"/>
            <p:cNvSpPr/>
            <p:nvPr/>
          </p:nvSpPr>
          <p:spPr>
            <a:xfrm>
              <a:off x="6440760" y="3290040"/>
              <a:ext cx="157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itted ligh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6"/>
            <p:cNvSpPr/>
            <p:nvPr/>
          </p:nvSpPr>
          <p:spPr>
            <a:xfrm>
              <a:off x="6410520" y="387684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mitted ligh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C -0.00156 -0.02659 -0.00156 -0.04879 -0.00156 -0.04856 C -0.00139 -0.04879 -0.00139 -0.02659 -0.00104 -0.00208 C -0.00104 0.02451 -0.00104 0.05225 -0.00087 0.05225 C -0.00052 0.05225 -0.00052 0.02451 -0.00052 -0.00208 C -0.00052 -0.02659 -0.00052 -0.04879 -0.00034 -0.04879 C -2.77778E-006 -0.04879 -2.77778E-006 -0.02659 -2.77778E-006 -0.00208 C -2.77778E-006 0.02451 -2.77778E-006 0.05225 0.00018 0.05225 C 0.00052 0.05225 0.00052 -0.00208 0.00052 -0.00185 C 0.00052 -0.02659 0.0007 -0.04879 0.00104 -0.04879 C 0.00104 -0.04856 0.00104 -0.02659 0.00104 -0.00208 C 0.00122 0.02451 0.00122 0.05225 0.00157 0.05225 C 0.00157 0.05248 0.00157 0.02451 0.00174 -0.00208 C 0.00174 -0.02659 0.00174 -0.04879 0.00209 -0.04879 C 0.00209 -0.04856 0.00226 -0.02659 0.00226 -0.00208 C 0.00226 0.02451 0.00261 0.05225 0.00261 0.05248 C 0.00278 0.05225 0.00278 0.02451 0.00313 -0.00208 E">
                                      <p:cBhvr>
                                        <p:cTn id="6" dur="5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313 -0.00416 C -0.00313 -0.04832 -0.00313 -0.09063 -0.00313 -0.0904 C -0.00278 -0.09063 -0.00278 -0.04832 -0.00243 -0.00416 C -0.00243 0.04509 -0.00243 0.0948 -0.00209 0.0948 C -0.00174 0.0948 -0.00174 0.04509 -0.00174 -0.00416 C -0.00174 -0.04832 -0.00174 -0.09063 -0.00139 -0.09063 C -0.00105 -0.09063 -0.00105 -0.04832 -0.00105 -0.00416 C -0.00105 0.04509 -0.00105 0.0948 -0.0007 0.0948 C -0.00035 0.0948 -0.00035 -0.00416 -0.00035 -0.00347 C -0.00035 -0.04832 3.88888999999998E-006 -0.09063 0.00034 -0.09063 C 0.00034 -0.0904 0.00034 -0.04832 0.00034 -0.00416 C 0.00069 0.04509 0.00069 0.0948 0.00104 0.0948 C 0.00104 0.09503 0.00104 0.04509 0.00139 -0.00416 C 0.00139 -0.04832 0.00139 -0.09063 0.00173 -0.09063 C 0.00173 -0.0904 0.00208 -0.04832 0.00208 -0.00416 C 0.00208 0.04509 0.00243 0.0948 0.00243 0.09503 C 0.00277 0.0948 0.00277 0.04509 0.00312 -0.00416 E">
                                      <p:cBhvr>
                                        <p:cTn id="8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156 -0.00208 C -0.00156 -0.03491 -0.00156 -0.06589 -0.00156 -0.06566 C -0.00139 -0.06589 -0.00139 -0.03491 -0.00104 -0.00208 C -0.00104 0.03515 -0.00104 0.07283 -0.00086 0.07283 C -0.00052 0.07283 -0.00052 0.03515 -0.00052 -0.00208 C -0.00052 -0.03491 -0.00052 -0.06589 -0.00034 -0.06589 C -3.33332999999999E-006 -0.06589 -3.33333E-006 -0.03491 -3.33333E-006 -0.00208 C -3.33333E-006 0.03515 -3.33333000000001E-006 0.07283 0.00018 0.07283 C 0.00052 0.07283 0.00052 -0.00208 0.00052 -0.00139 C 0.00052 -0.03491 0.0007 -0.06589 0.00105 -0.06589 C 0.00105 -0.06566 0.00105 -0.03491 0.00105 -0.00208 C 0.00122 0.03515 0.00122 0.07283 0.00157 0.07283 C 0.00157 0.07306 0.00157 0.03515 0.00174 -0.00208 C 0.00174 -0.03491 0.00174 -0.06589 0.00209 -0.06589 C 0.00209 -0.06566 0.00226 -0.03491 0.00226 -0.00208 C 0.00226 0.03515 0.00261 0.07283 0.00261 0.07306 C 0.00278 0.07283 0.00278 0.03515 0.00313 -0.00208 E">
                                      <p:cBhvr>
                                        <p:cTn id="10" dur="5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5443560" y="87804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7360" y="193320"/>
            <a:ext cx="4071960" cy="34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The Forced Oscillator: 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The relative phase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of the oscillator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motion with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respect to the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input force </a:t>
            </a:r>
            <a:br>
              <a:rPr sz="2600"/>
            </a:br>
            <a:r>
              <a:rPr b="1" lang="en-US" sz="2600" spc="-1" strike="noStrike">
                <a:solidFill>
                  <a:srgbClr val="ffccff"/>
                </a:solidFill>
                <a:latin typeface="Arial"/>
              </a:rPr>
              <a:t>depends on the frequen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22560" y="1133280"/>
            <a:ext cx="164016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591"/>
          <p:cNvSpPr/>
          <p:nvPr/>
        </p:nvSpPr>
        <p:spPr>
          <a:xfrm>
            <a:off x="6969240" y="152388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92"/>
          <p:cNvSpPr/>
          <p:nvPr/>
        </p:nvSpPr>
        <p:spPr>
          <a:xfrm>
            <a:off x="5897520" y="1581120"/>
            <a:ext cx="2286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93"/>
          <p:cNvSpPr/>
          <p:nvPr/>
        </p:nvSpPr>
        <p:spPr>
          <a:xfrm>
            <a:off x="5524560" y="5158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95"/>
          <p:cNvSpPr/>
          <p:nvPr/>
        </p:nvSpPr>
        <p:spPr>
          <a:xfrm>
            <a:off x="6507000" y="5158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96"/>
          <p:cNvSpPr/>
          <p:nvPr/>
        </p:nvSpPr>
        <p:spPr>
          <a:xfrm>
            <a:off x="5438880" y="285912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97"/>
          <p:cNvSpPr/>
          <p:nvPr/>
        </p:nvSpPr>
        <p:spPr>
          <a:xfrm>
            <a:off x="3998880" y="306864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600"/>
          <p:cNvSpPr/>
          <p:nvPr/>
        </p:nvSpPr>
        <p:spPr>
          <a:xfrm>
            <a:off x="6969240" y="351792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601"/>
          <p:cNvSpPr/>
          <p:nvPr/>
        </p:nvSpPr>
        <p:spPr>
          <a:xfrm>
            <a:off x="5899320" y="3575160"/>
            <a:ext cx="2426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06"/>
          <p:cNvSpPr/>
          <p:nvPr/>
        </p:nvSpPr>
        <p:spPr>
          <a:xfrm>
            <a:off x="5437080" y="484812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07"/>
          <p:cNvSpPr/>
          <p:nvPr/>
        </p:nvSpPr>
        <p:spPr>
          <a:xfrm>
            <a:off x="3844800" y="5073480"/>
            <a:ext cx="17560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24"/>
          <p:cNvSpPr/>
          <p:nvPr/>
        </p:nvSpPr>
        <p:spPr>
          <a:xfrm>
            <a:off x="622440" y="3825720"/>
            <a:ext cx="3276360" cy="3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oscilla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esonan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forcing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think of the forcing function as a light electric field and the oscillator as a nucleus of an atom in a molecul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626"/>
          <p:cNvSpPr/>
          <p:nvPr/>
        </p:nvSpPr>
        <p:spPr>
          <a:xfrm>
            <a:off x="6969240" y="548640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627"/>
          <p:cNvSpPr/>
          <p:nvPr/>
        </p:nvSpPr>
        <p:spPr>
          <a:xfrm>
            <a:off x="5894280" y="5556240"/>
            <a:ext cx="2509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32"/>
          <p:cNvSpPr/>
          <p:nvPr/>
        </p:nvSpPr>
        <p:spPr>
          <a:xfrm>
            <a:off x="7810560" y="1181160"/>
            <a:ext cx="108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33"/>
          <p:cNvSpPr/>
          <p:nvPr/>
        </p:nvSpPr>
        <p:spPr>
          <a:xfrm>
            <a:off x="7810560" y="304812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vibration.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34"/>
          <p:cNvSpPr/>
          <p:nvPr/>
        </p:nvSpPr>
        <p:spPr>
          <a:xfrm>
            <a:off x="7810560" y="504360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624 C -0.00312 -0.05109 -0.00312 -0.09387 -0.00295 -0.09387 C -0.00278 -0.09387 -0.00278 -0.05109 -0.0026 -0.00624 C -0.0026 0.0437 -0.0026 0.09388 -0.00225 0.09388 C -0.00208 0.09388 -0.00208 0.0437 -0.00208 -0.00624 C -0.00191 -0.05109 -0.00191 -0.09387 -0.00173 -0.09387 C -0.00156 -0.09387 -0.00156 -0.05109 -0.00139 -0.00624 C -0.00139 0.0437 -0.00139 0.09388 -0.00121 0.09388 C -0.00104 0.09388 -0.00087 -0.00624 -0.00087 -0.00578 C -0.00087 -0.05109 -0.00069 -0.09387 -0.00052 -0.09387 C -0.00034 -0.09387 -0.00034 -0.05109 -0.00034 -0.00624 C -0.00017 0.0437 -0.00017 0.09388 -2.22222E-006 0.09388 C 0.00018 0.09388 0.00018 0.0437 0.00035 -0.00624 C 0.00035 -0.05109 0.00035 -0.09387 0.00052 -0.09387 C 0.0007 -0.09387 0.00087 -0.05109 0.00087 -0.00624 C 0.00087 0.0437 0.00104 0.09388 0.00122 0.09388 C 0.00139 0.09388 0.00139 0.0437 0.00156 -0.00624 E">
                                      <p:cBhvr>
                                        <p:cTn id="16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68208E-006 C 1.94444E-006 -0.00833 1.94444000000001E-006 -0.01619 0.00017 -0.01619 C 0.00035 -0.01619 0.00035 -0.00833 0.00052 4.68208E-006 C 0.00052 0.00948 0.00052 0.01942 0.00087 0.01942 C 0.00104 0.01942 0.00104 0.00948 0.00104 4.68208E-006 C 0.00121 -0.00833 0.00121 -0.01619 0.00139 -0.01619 C 0.00156 -0.01619 0.00156 -0.00833 0.00173 4.68208E-006 C 0.00173 0.00948 0.00173 0.01942 0.00191 0.01942 C 0.00208 0.01942 0.00226 4.68208E-006 0.00226 0.00023 C 0.00226 -0.00833 0.00243 -0.01619 0.0026 -0.01619 C 0.00278 -0.01619 0.00278 -0.00833 0.00278 4.68208E-006 C 0.00295 0.00948 0.00295 0.01942 0.00312 0.01942 C 0.0033 0.01942 0.0033 0.00948 0.00347 4.68208E-006 C 0.00347 -0.00833 0.00347 -0.01619 0.00364 -0.01619 C 0.00382 -0.01619 0.00399 -0.00833 0.00399 4.68208E-006 C 0.00399 0.00948 0.00416 0.01942 0.00434 0.01942 C 0.00451 0.01942 0.00451 0.00948 0.00469 4.68208E-006 E">
                                      <p:cBhvr>
                                        <p:cTn id="18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-0.00832 C -0.00468 -0.05526 -0.00468 -0.09988 -0.00451 -0.09988 C -0.00434 -0.09988 -0.00434 -0.05526 -0.00416 -0.00832 C -0.00416 0.0437 -0.00416 0.09619 -0.00382 0.09619 C -0.00364 0.09619 -0.00364 0.0437 -0.00364 -0.00832 C -0.00347 -0.05526 -0.00347 -0.09988 -0.0033 -0.09988 C -0.00312 -0.09988 -0.00312 -0.05526 -0.00295 -0.00832 C -0.00295 0.0437 -0.00295 0.09619 -0.00277 0.09619 C -0.0026 0.09619 -0.00243 -0.00832 -0.00243 -0.00809 C -0.00243 -0.05526 -0.00225 -0.09988 -0.00208 -0.09988 C -0.00191 -0.09988 -0.00191 -0.05526 -0.00191 -0.00832 C -0.00173 0.0437 -0.00173 0.09619 -0.00156 0.09619 C -0.00139 0.09619 -0.00139 0.0437 -0.00121 -0.00832 C -0.00121 -0.05526 -0.00121 -0.09988 -0.00104 -0.09988 C -0.00087 -0.09988 -0.00069 -0.05526 -0.00069 -0.00832 C -0.00069 0.0437 -0.00052 0.09619 -0.00034 0.09619 C -0.00017 0.09619 -0.00017 0.0437 -2.77778E-006 -0.00832 E">
                                      <p:cBhvr>
                                        <p:cTn id="22" dur="5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-0.00832 C 1.38889E-006 -0.05734 1.38889E-006 -0.10358 0.00017 -0.10358 C 0.00035 -0.10358 0.00035 -0.05734 0.00052 -0.00832 C 0.00052 0.04624 0.00052 0.10104 0.00087 0.10104 C 0.00104 0.10104 0.00104 0.04624 0.00104 -0.00832 C 0.00121 -0.05734 0.00121 -0.10358 0.00139 -0.10358 C 0.00156 -0.10358 0.00156 -0.05734 0.00173 -0.00832 C 0.00173 0.04624 0.00173 0.10104 0.00191 0.10104 C 0.00208 0.10104 0.00226 -0.00832 0.00226 -0.00786 C 0.00226 -0.05734 0.00243 -0.10358 0.0026 -0.10358 C 0.00278 -0.10358 0.00278 -0.05734 0.00278 -0.00832 C 0.00295 0.04624 0.00295 0.10104 0.00312 0.10104 C 0.0033 0.10104 0.0033 0.04624 0.00347 -0.00832 C 0.00347 -0.05734 0.00347 -0.10358 0.00364 -0.10358 C 0.00382 -0.10358 0.00399 -0.05734 0.00399 -0.00832 C 0.00399 0.04624 0.00417 0.10104 0.00434 0.10104 C 0.00451 0.10104 0.00451 0.04624 0.00469 -0.00832 E">
                                      <p:cBhvr>
                                        <p:cTn id="24" dur="5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833 C 2.5E-006 -0.05365 2.50000000000001E-006 -0.09665 0.00017 -0.09665 C 0.00034 -0.09665 0.00034 -0.05365 0.00069 -0.00833 C 0.00069 0.04231 0.00069 0.09317 0.00104 0.09317 C 0.00139 0.09317 0.00139 0.04231 0.00139 -0.00833 C 0.00156 -0.05365 0.00156 -0.09665 0.00173 -0.09665 C 0.00208 -0.09665 0.00208 -0.05365 0.00225 -0.00833 C 0.00225 0.04231 0.00225 0.09317 0.00243 0.09317 C 0.00278 0.09317 0.00295 -0.00833 0.00295 -0.00763 C 0.00295 -0.05365 0.00312 -0.09665 0.00347 -0.09665 C 0.00364 -0.09665 0.00364 -0.05365 0.00364 -0.00833 C 0.00382 0.04231 0.00382 0.09317 0.00416 0.09317 C 0.00434 0.09317 0.00434 0.04231 0.00451 -0.00833 C 0.00451 -0.05365 0.00451 -0.09665 0.00486 -0.09665 C 0.00503 -0.09665 0.00521 -0.05365 0.00521 -0.00833 C 0.00521 0.04231 0.00555 0.09317 0.00573 0.09317 C 0.0059 0.09317 0.0059 0.04231 0.00625 -0.00833 E">
                                      <p:cBhvr>
                                        <p:cTn id="28" dur="5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72222E-006 -8.09249E-007 C 4.72222E-006 -0.0104 4.72221999999999E-006 -0.02035 -0.00018 -0.02035 C -0.00035 -0.02035 -0.00035 -0.0104 -0.00053 -8.09249E-007 C -0.00053 0.01179 -0.00053 0.02382 -0.00087 0.02382 C -0.00105 0.02382 -0.00105 0.01179 -0.00105 -8.09249E-007 C -0.00122 -0.0104 -0.00122 -0.02035 -0.00139 -0.02035 C -0.00157 -0.02035 -0.00157 -0.0104 -0.00174 -8.09249E-007 C -0.00174 0.01179 -0.00174 0.02382 -0.00191 0.02382 C -0.00209 0.02382 -0.00226 -8.09249000000007E-007 -0.00226 0.00023 C -0.00226 -0.0104 -0.00244 -0.02035 -0.00261 -0.02035 C -0.00278 -0.02035 -0.00278 -0.0104 -0.00278 -8.09249E-007 C -0.00296 0.01179 -0.00296 0.02382 -0.00313 0.02382 C -0.0033 0.02382 -0.0033 0.01179 -0.00348 -8.09249E-007 C -0.00348 -0.0104 -0.00348 -0.02035 -0.00365 -0.02035 C -0.00382 -0.02035 -0.004 -0.0104 -0.004 -8.09249E-007 C -0.004 0.01179 -0.00417 0.02382 -0.00434 0.02382 C -0.00452 0.02382 -0.00452 0.01179 -0.00469 -8.09249E-007 E">
                                      <p:cBhvr>
                                        <p:cTn id="30" dur="5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"/>
          <p:cNvSpPr/>
          <p:nvPr/>
        </p:nvSpPr>
        <p:spPr>
          <a:xfrm>
            <a:off x="622440" y="4724280"/>
            <a:ext cx="30096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5443560" y="963720"/>
            <a:ext cx="23511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77360" y="193680"/>
            <a:ext cx="350676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relative phase of an electron cloud</a:t>
            </a:r>
            <a:r>
              <a:rPr b="1" lang="ja-JP" sz="28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 motion with respect to input light depends on th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6585120" y="130500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5897520" y="1666800"/>
            <a:ext cx="2476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280120" y="32688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6622920" y="3268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5438880" y="294480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6585120" y="328464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5894280" y="3660840"/>
            <a:ext cx="2444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5437080" y="4933800"/>
            <a:ext cx="23511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709560" y="3500280"/>
            <a:ext cx="2932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ato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esonan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light frequency b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on charge is negative, so the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 180° phase shift in all cases (compared to the previous sli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lots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6"/>
          <p:cNvSpPr/>
          <p:nvPr/>
        </p:nvSpPr>
        <p:spPr>
          <a:xfrm>
            <a:off x="6585120" y="52815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5899320" y="5641920"/>
            <a:ext cx="2347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8"/>
          <p:cNvSpPr/>
          <p:nvPr/>
        </p:nvSpPr>
        <p:spPr>
          <a:xfrm>
            <a:off x="7810560" y="116676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7810560" y="313380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7810560" y="5129280"/>
            <a:ext cx="108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vib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3922560" y="1133640"/>
            <a:ext cx="1640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97"/>
          <p:cNvSpPr/>
          <p:nvPr/>
        </p:nvSpPr>
        <p:spPr>
          <a:xfrm>
            <a:off x="3998880" y="306864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07"/>
          <p:cNvSpPr/>
          <p:nvPr/>
        </p:nvSpPr>
        <p:spPr>
          <a:xfrm>
            <a:off x="3844800" y="5073480"/>
            <a:ext cx="17560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624 C -0.00312 -0.05109 -0.00312 -0.09387 -0.00295 -0.09387 C -0.00278 -0.09387 -0.00278 -0.05109 -0.0026 -0.00624 C -0.0026 0.0437 -0.0026 0.09388 -0.00225 0.09388 C -0.00208 0.09388 -0.00208 0.0437 -0.00208 -0.00624 C -0.00191 -0.05109 -0.00191 -0.09387 -0.00173 -0.09387 C -0.00156 -0.09387 -0.00156 -0.05109 -0.00139 -0.00624 C -0.00139 0.0437 -0.00139 0.09388 -0.00121 0.09388 C -0.00104 0.09388 -0.00087 -0.00624 -0.00087 -0.00578 C -0.00087 -0.05109 -0.00069 -0.09387 -0.00052 -0.09387 C -0.00034 -0.09387 -0.00034 -0.05109 -0.00034 -0.00624 C -0.00017 0.0437 -0.00017 0.09388 -2.22222E-006 0.09388 C 0.00018 0.09388 0.00018 0.0437 0.00035 -0.00624 C 0.00035 -0.05109 0.00035 -0.09387 0.00052 -0.09387 C 0.0007 -0.09387 0.00087 -0.05109 0.00087 -0.00624 C 0.00087 0.0437 0.00104 0.09388 0.00122 0.09388 C 0.00139 0.09388 0.00139 0.0437 0.00156 -0.00624 E">
                                      <p:cBhvr>
                                        <p:cTn id="41" dur="5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94444E-006 4.68208E-006 C 1.94444E-006 -0.00833 1.94444000000001E-006 -0.01619 0.00017 -0.01619 C 0.00035 -0.01619 0.00035 -0.00833 0.00052 4.68208E-006 C 0.00052 0.00948 0.00052 0.01942 0.00087 0.01942 C 0.00104 0.01942 0.00104 0.00948 0.00104 4.68208E-006 C 0.00121 -0.00833 0.00121 -0.01619 0.00139 -0.01619 C 0.00156 -0.01619 0.00156 -0.00833 0.00173 4.68208E-006 C 0.00173 0.00948 0.00173 0.01942 0.00191 0.01942 C 0.00208 0.01942 0.00226 4.68208E-006 0.00226 0.00023 C 0.00226 -0.00833 0.00243 -0.01619 0.0026 -0.01619 C 0.00278 -0.01619 0.00278 -0.00833 0.00278 4.68208E-006 C 0.00295 0.00948 0.00295 0.01942 0.00312 0.01942 C 0.0033 0.01942 0.0033 0.00948 0.00347 4.68208E-006 C 0.00347 -0.00833 0.00347 -0.01619 0.00364 -0.01619 C 0.00382 -0.01619 0.00399 -0.00833 0.00399 4.68208E-006 C 0.00399 0.00948 0.00416 0.01942 0.00434 0.01942 C 0.00451 0.01942 0.00451 0.00948 0.00469 4.68208E-006 E">
                                      <p:cBhvr>
                                        <p:cTn id="43" dur="5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416 C 4.44444E-006 -0.05318 4.44443999999999E-006 -0.09942 0.00017 -0.09942 C 0.00034 -0.09942 0.00034 -0.05318 0.00052 -0.00416 C 0.00052 0.05041 0.00052 0.10521 0.00086 0.10521 C 0.00104 0.10521 0.00104 0.05041 0.00104 -0.00416 C 0.00121 -0.05318 0.00121 -0.09942 0.00138 -0.09942 C 0.00156 -0.09942 0.00156 -0.05318 0.00173 -0.00416 C 0.00173 0.05041 0.00173 0.10521 0.00191 0.10521 C 0.00208 0.10521 0.00225 -0.00416 0.00225 -0.0037 C 0.00225 -0.05318 0.00243 -0.09942 0.0026 -0.09942 C 0.00277 -0.09942 0.00277 -0.05318 0.00277 -0.00416 C 0.00295 0.05041 0.00295 0.10521 0.00312 0.10521 C 0.00329 0.10521 0.00329 0.05041 0.00347 -0.00416 C 0.00347 -0.05318 0.00347 -0.09942 0.00364 -0.09942 C 0.00382 -0.09942 0.00399 -0.05318 0.00399 -0.00416 C 0.00399 0.05041 0.00416 0.10521 0.00434 0.10521 C 0.00451 0.10521 0.00451 0.05041 0.00468 -0.00416 E">
                                      <p:cBhvr>
                                        <p:cTn id="47" dur="5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468 -0.00832 C -0.00468 -0.05526 -0.00468 -0.09988 -0.00451 -0.09988 C -0.00434 -0.09988 -0.00434 -0.05526 -0.00416 -0.00832 C -0.00416 0.0437 -0.00416 0.09619 -0.00382 0.09619 C -0.00364 0.09619 -0.00364 0.0437 -0.00364 -0.00832 C -0.00347 -0.05526 -0.00347 -0.09988 -0.0033 -0.09988 C -0.00312 -0.09988 -0.00312 -0.05526 -0.00295 -0.00832 C -0.00295 0.0437 -0.00295 0.09619 -0.00277 0.09619 C -0.0026 0.09619 -0.00243 -0.00832 -0.00243 -0.00809 C -0.00243 -0.05526 -0.00225 -0.09988 -0.00208 -0.09988 C -0.00191 -0.09988 -0.00191 -0.05526 -0.00191 -0.00832 C -0.00173 0.0437 -0.00173 0.09619 -0.00156 0.09619 C -0.00139 0.09619 -0.00139 0.0437 -0.00121 -0.00832 C -0.00121 -0.05526 -0.00121 -0.09988 -0.00104 -0.09988 C -0.00087 -0.09988 -0.00069 -0.05526 -0.00069 -0.00832 C -0.00069 0.0437 -0.00052 0.09619 -0.00034 0.09619 C -0.00017 0.09619 -0.00017 0.0437 -2.77778E-006 -0.00832 E">
                                      <p:cBhvr>
                                        <p:cTn id="49" dur="5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833 C 2.5E-006 -0.05365 2.50000000000001E-006 -0.09665 0.00017 -0.09665 C 0.00034 -0.09665 0.00034 -0.05365 0.00069 -0.00833 C 0.00069 0.04231 0.00069 0.09317 0.00104 0.09317 C 0.00139 0.09317 0.00139 0.04231 0.00139 -0.00833 C 0.00156 -0.05365 0.00156 -0.09665 0.00173 -0.09665 C 0.00208 -0.09665 0.00208 -0.05365 0.00225 -0.00833 C 0.00225 0.04231 0.00225 0.09317 0.00243 0.09317 C 0.00278 0.09317 0.00295 -0.00833 0.00295 -0.00763 C 0.00295 -0.05365 0.00312 -0.09665 0.00347 -0.09665 C 0.00364 -0.09665 0.00364 -0.05365 0.00364 -0.00833 C 0.00382 0.04231 0.00382 0.09317 0.00416 0.09317 C 0.00434 0.09317 0.00434 0.04231 0.00451 -0.00833 C 0.00451 -0.05365 0.00451 -0.09665 0.00486 -0.09665 C 0.00503 -0.09665 0.00521 -0.05365 0.00521 -0.00833 C 0.00521 0.04231 0.00555 0.09317 0.00573 0.09317 C 0.0059 0.09317 0.0059 0.04231 0.00625 -0.00833 E">
                                      <p:cBhvr>
                                        <p:cTn id="53" dur="5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8.09249E-007 C 4.72222E-006 -0.0104 4.72221999999999E-006 -0.02035 -0.00018 -0.02035 C -0.00035 -0.02035 -0.00035 -0.0104 -0.00053 -8.09249E-007 C -0.00053 0.01179 -0.00053 0.02382 -0.00087 0.02382 C -0.00105 0.02382 -0.00105 0.01179 -0.00105 -8.09249E-007 C -0.00122 -0.0104 -0.00122 -0.02035 -0.00139 -0.02035 C -0.00157 -0.02035 -0.00157 -0.0104 -0.00174 -8.09249E-007 C -0.00174 0.01179 -0.00174 0.02382 -0.00191 0.02382 C -0.00209 0.02382 -0.00226 -8.09249000000007E-007 -0.00226 0.00023 C -0.00226 -0.0104 -0.00244 -0.02035 -0.00261 -0.02035 C -0.00278 -0.02035 -0.00278 -0.0104 -0.00278 -8.09249E-007 C -0.00296 0.01179 -0.00296 0.02382 -0.00313 0.02382 C -0.0033 0.02382 -0.0033 0.01179 -0.00348 -8.09249E-007 C -0.00348 -0.0104 -0.00348 -0.02035 -0.00365 -0.02035 C -0.00382 -0.02035 -0.004 -0.0104 -0.004 -8.09249E-007 C -0.004 0.01179 -0.00417 0.02382 -0.00434 0.02382 C -0.00452 0.02382 -0.00452 0.01179 -0.00469 -8.09249E-007 E">
                                      <p:cBhvr>
                                        <p:cTn id="55" dur="5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4"/>
          <p:cNvSpPr/>
          <p:nvPr/>
        </p:nvSpPr>
        <p:spPr>
          <a:xfrm>
            <a:off x="533520" y="3733920"/>
            <a:ext cx="2527200" cy="153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4854600" y="1116000"/>
            <a:ext cx="28875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63040" y="539280"/>
            <a:ext cx="2955960" cy="28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The relative phase of emitted light with respect to the input light depends on th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931000" y="146196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5294160" y="1812960"/>
            <a:ext cx="2160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4622760" y="522360"/>
            <a:ext cx="14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 field at at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5865840" y="52236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4854600" y="2982960"/>
            <a:ext cx="288756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5"/>
          <p:cNvSpPr/>
          <p:nvPr/>
        </p:nvSpPr>
        <p:spPr>
          <a:xfrm>
            <a:off x="5931000" y="332892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6"/>
          <p:cNvSpPr/>
          <p:nvPr/>
        </p:nvSpPr>
        <p:spPr>
          <a:xfrm>
            <a:off x="5286240" y="3693960"/>
            <a:ext cx="231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854600" y="4917960"/>
            <a:ext cx="2887560" cy="14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2"/>
          <p:cNvSpPr/>
          <p:nvPr/>
        </p:nvSpPr>
        <p:spPr>
          <a:xfrm>
            <a:off x="552600" y="3817800"/>
            <a:ext cx="267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itted light is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ase-shifted with respect to the ato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otio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34"/>
          <p:cNvSpPr/>
          <p:nvPr/>
        </p:nvSpPr>
        <p:spPr>
          <a:xfrm>
            <a:off x="5977080" y="5265720"/>
            <a:ext cx="763560" cy="7635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35"/>
          <p:cNvSpPr/>
          <p:nvPr/>
        </p:nvSpPr>
        <p:spPr>
          <a:xfrm>
            <a:off x="5297400" y="5614920"/>
            <a:ext cx="209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40"/>
          <p:cNvSpPr/>
          <p:nvPr/>
        </p:nvSpPr>
        <p:spPr>
          <a:xfrm>
            <a:off x="7170840" y="1814400"/>
            <a:ext cx="21420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1"/>
          <p:cNvSpPr/>
          <p:nvPr/>
        </p:nvSpPr>
        <p:spPr>
          <a:xfrm>
            <a:off x="6723000" y="522360"/>
            <a:ext cx="117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ed fiel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43"/>
          <p:cNvSpPr/>
          <p:nvPr/>
        </p:nvSpPr>
        <p:spPr>
          <a:xfrm>
            <a:off x="7174080" y="5616720"/>
            <a:ext cx="20772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44"/>
          <p:cNvSpPr/>
          <p:nvPr/>
        </p:nvSpPr>
        <p:spPr>
          <a:xfrm>
            <a:off x="7178760" y="3693960"/>
            <a:ext cx="198360" cy="4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6"/>
          <p:cNvSpPr/>
          <p:nvPr/>
        </p:nvSpPr>
        <p:spPr>
          <a:xfrm>
            <a:off x="7759800" y="12826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emission.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7"/>
          <p:cNvSpPr/>
          <p:nvPr/>
        </p:nvSpPr>
        <p:spPr>
          <a:xfrm>
            <a:off x="7759800" y="31780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emiss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8"/>
          <p:cNvSpPr/>
          <p:nvPr/>
        </p:nvSpPr>
        <p:spPr>
          <a:xfrm>
            <a:off x="7759800" y="510228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emiss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 of phase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61960" y="1133280"/>
            <a:ext cx="16398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97"/>
          <p:cNvSpPr/>
          <p:nvPr/>
        </p:nvSpPr>
        <p:spPr>
          <a:xfrm>
            <a:off x="3338640" y="3068640"/>
            <a:ext cx="1538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eson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07"/>
          <p:cNvSpPr/>
          <p:nvPr/>
        </p:nvSpPr>
        <p:spPr>
          <a:xfrm>
            <a:off x="3184560" y="5073480"/>
            <a:ext cx="1755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n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3526E-006 C -2.22222E-006 -0.04578 -2.22222E-006 -0.08924 -2.22222E-006 -0.08901 C 0.00018 -0.08924 0.00018 -0.04578 0.00035 -4.33526E-006 C 0.00035 0.05087 0.00035 0.10243 0.0007 0.10243 C 0.00087 0.10243 0.00087 0.05087 0.00087 -4.33526E-006 C 0.00104 -0.04578 0.00104 -0.08924 0.00122 -0.08924 C 0.00139 -0.08924 0.00139 -0.04578 0.00156 -4.33526E-006 C 0.00156 0.05087 0.00156 0.10243 0.00156 0.10243 C 0.00191 0.10243 0.00209 -4.33526000000002E-006 0.00209 0.00024 C 0.00209 -0.04578 0.00226 -0.08924 0.00243 -0.08924 C 0.00261 -0.08924 0.00261 -0.04578 0.00261 -4.33526E-006 C 0.00278 0.05087 0.00278 0.10243 0.00295 0.10243 C 0.00313 0.10243 0.00313 0.05087 0.0033 -4.33526E-006 C 0.0033 -0.04578 0.0033 -0.08924 0.00347 -0.08924 C 0.00365 -0.08924 0.00382 -0.04578 0.00382 -4.33526E-006 C 0.00382 0.05087 0.004 0.10243 0.00417 0.10243 C 0.00434 0.10243 0.00434 0.05087 0.00469 -4.33526E-006 E">
                                      <p:cBhvr>
                                        <p:cTn id="66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6.93642E-007 C -2.77778E-006 -0.01318 -2.77778E-006 -0.02613 -0.00034 -0.02613 C -0.00052 -0.02613 -0.00052 -0.01318 -0.00052 6.93642E-007 C -0.00052 0.01595 -0.00052 0.03306 -0.00104 0.03306 C -0.00104 0.03306 -0.00104 0.01595 -0.00104 6.93642E-007 C -0.00139 -0.01318 -0.00139 -0.02613 -0.00156 -0.02613 C -0.00156 -0.02613 -0.00156 -0.01318 -0.00191 6.93642E-007 C -0.00191 0.01595 -0.00191 0.03306 -0.00208 0.03306 C -0.00208 0.03306 -0.00243 6.93641999999998E-007 -0.00243 0.00023 C -0.00243 -0.01318 -0.0026 -0.02613 -0.0026 -0.02613 C -0.00295 -0.02613 -0.00295 -0.01318 -0.00295 6.93642E-007 C -0.00312 0.01595 -0.00312 0.03306 -0.00312 0.03306 C -0.00347 0.03306 -0.00347 0.01595 -0.00364 6.93642E-007 C -0.00364 -0.01318 -0.00364 -0.02613 -0.00364 -0.02613 C -0.00399 -0.02613 -0.00416 -0.01318 -0.00416 6.93642E-007 C -0.00416 0.01595 -0.00416 0.03306 -0.00451 0.03306 C -0.00468 0.03306 -0.00468 0.01595 -0.00468 6.93642E-007 E">
                                      <p:cBhvr>
                                        <p:cTn id="68" dur="5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469 -3.58382E-006 C -0.00469 -0.01133 -0.00469 -0.02196 -0.00469 -0.02173 C -0.00434 -0.02196 -0.00434 -0.01133 -0.00434 -3.58382E-006 C -0.00417 0.01318 -0.00417 0.02636 -0.00382 0.02636 C -0.00382 0.02659 -0.00382 0.01318 -0.00364 -3.58382E-006 C -0.00364 -0.01133 -0.00364 -0.02196 -0.00347 -0.02196 C -0.00312 -0.02196 -0.00312 -0.01133 -0.00312 -3.58382E-006 C -0.00295 0.01318 -0.00295 0.02636 -0.00295 0.02659 C -0.0026 0.02636 -0.00243 -3.58382000000001E-006 -0.00243 0.00023 C -0.00243 -0.01133 -0.00243 -0.02196 -0.00226 -0.02196 C -0.00191 -0.02196 -0.00191 -0.01133 -0.00191 -3.58382E-006 C -0.00191 0.01318 -0.00191 0.02636 -0.00156 0.02636 C -0.00139 0.02636 -0.00139 0.01318 -0.00139 -3.58382E-006 C -0.00121 -0.01133 -0.00121 -0.02196 -0.00104 -0.02196 C -0.00087 -0.02196 -0.00087 -0.01133 -0.00087 -3.58382E-006 C -0.00069 0.01318 -0.00069 0.02636 -0.00052 0.02636 C -0.00017 0.02636 -0.00017 0.01318 -8.33333E-007 -3.58382E-006 E">
                                      <p:cBhvr>
                                        <p:cTn id="70" dur="5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208 C -0.00469 -0.04255 -0.00469 -0.0807 -0.00451 -0.0807 C -0.00434 -0.0807 -0.00434 -0.04255 -0.00417 -0.00208 C -0.00417 0.04277 -0.00417 0.08809 -0.00382 0.08809 C -0.00365 0.08809 -0.00365 0.04277 -0.00365 -0.00208 C -0.00347 -0.04255 -0.00347 -0.0807 -0.0033 -0.0807 C -0.00312 -0.0807 -0.00312 -0.04255 -0.00295 -0.00208 C -0.00295 0.04277 -0.00295 0.08809 -0.00278 0.08809 C -0.0026 0.08809 -0.00243 -0.00208 -0.00243 -0.00162 C -0.00243 -0.04255 -0.00226 -0.0807 -0.00208 -0.0807 C -0.00191 -0.0807 -0.00191 -0.04255 -0.00191 -0.00208 C -0.00174 0.04277 -0.00174 0.08809 -0.00156 0.08809 C -0.00139 0.08809 -0.00139 0.04277 -0.00121 -0.00208 C -0.00121 -0.04255 -0.00121 -0.0807 -0.00104 -0.0807 C -0.00087 -0.0807 -0.00069 -0.04255 -0.00069 -0.00208 C -0.00069 0.04277 -0.00052 0.08809 -0.00035 0.08809 C -0.00017 0.08809 -0.00017 0.04277 -2.77778E-007 -0.00208 E">
                                      <p:cBhvr>
                                        <p:cTn id="74" dur="5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-0.00416 C 1.38889E-006 -0.04832 1.38889E-006 -0.09064 1.38889E-006 -0.0904 C 0.00035 -0.09064 0.00035 -0.04832 0.00069 -0.00416 C 0.00069 0.04509 0.00069 0.0948 0.00104 0.0948 C 0.00139 0.0948 0.00139 0.04509 0.00139 -0.00416 C 0.00139 -0.04832 0.00139 -0.09064 0.00173 -0.09064 C 0.00208 -0.09064 0.00208 -0.04832 0.00208 -0.00416 C 0.00208 0.04509 0.00208 0.0948 0.00243 0.0948 C 0.00278 0.0948 0.00278 -0.00416 0.00278 -0.00347 C 0.00278 -0.04832 0.00312 -0.09064 0.00347 -0.09064 C 0.00347 -0.0904 0.00347 -0.04832 0.00347 -0.00416 C 0.00382 0.04509 0.00382 0.0948 0.00417 0.0948 C 0.00417 0.09503 0.00417 0.04509 0.00451 -0.00416 C 0.00451 -0.04832 0.00451 -0.09064 0.00486 -0.09064 C 0.00486 -0.0904 0.00521 -0.04832 0.00521 -0.00416 C 0.00521 0.04509 0.00555 0.0948 0.00555 0.09503 C 0.0059 0.0948 0.0059 0.04509 0.00625 -0.00416 E">
                                      <p:cBhvr>
                                        <p:cTn id="76" dur="5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3.33333E-006 -0.00416 C -3.33333E-006 -0.04809 -3.33333000000001E-006 -0.08994 0.00018 -0.08994 C 0.00035 -0.08994 0.00035 -0.04809 0.00052 -0.00416 C 0.00052 0.04532 0.00052 0.09526 0.00087 0.09526 C 0.00105 0.09526 0.00105 0.04532 0.00105 -0.00416 C 0.00122 -0.04809 0.00122 -0.08994 0.00139 -0.08994 C 0.00157 -0.08994 0.00157 -0.04809 0.00174 -0.00416 C 0.00174 0.04532 0.00174 0.09526 0.00191 0.09526 C 0.00209 0.09526 0.00226 -0.00416 0.00226 -0.00324 C 0.00226 -0.04809 0.00243 -0.08994 0.00261 -0.08994 C 0.00278 -0.08994 0.00278 -0.04809 0.00278 -0.00416 C 0.00295 0.04532 0.00295 0.09526 0.00313 0.09526 C 0.0033 0.09526 0.0033 0.04532 0.00348 -0.00416 C 0.00348 -0.04809 0.00348 -0.08994 0.00365 -0.08994 C 0.00382 -0.08994 0.004 -0.04809 0.004 -0.00416 C 0.004 0.04532 0.00417 0.09526 0.00434 0.09526 C 0.00452 0.09526 0.00452 0.04532 0.00469 -0.00416 E">
                                      <p:cBhvr>
                                        <p:cTn id="78" dur="5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208 C 0.00469 -0.04694 0.00469 -0.08971 0.00451 -0.08971 C 0.00434 -0.08971 0.00434 -0.04694 0.00417 -0.00208 C 0.00417 0.04786 0.00417 0.09803 0.00382 0.09803 C 0.00364 0.09803 0.00364 0.04786 0.00364 -0.00208 C 0.00347 -0.04694 0.00347 -0.08971 0.0033 -0.08971 C 0.00312 -0.08971 0.00312 -0.04694 0.00295 -0.00208 C 0.00295 0.04786 0.00295 0.09803 0.00278 0.09803 C 0.0026 0.09803 0.00243 -0.00208 0.00243 -0.00162 C 0.00243 -0.04694 0.00226 -0.08971 0.00208 -0.08971 C 0.00191 -0.08971 0.00191 -0.04694 0.00191 -0.00208 C 0.00173 0.04786 0.00173 0.09803 0.00156 0.09803 C 0.00139 0.09803 0.00139 0.04786 0.00121 -0.00208 C 0.00121 -0.04694 0.00121 -0.08971 0.00104 -0.08971 C 0.00087 -0.08971 0.00069 -0.04694 0.00069 -0.00208 C 0.00069 0.04786 0.00052 0.09803 0.00035 0.09803 C 0.00017 0.09803 0.00017 0.04786 1.38889E-006 -0.00208 E">
                                      <p:cBhvr>
                                        <p:cTn id="82" dur="5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2.25434E-006 C -0.00468 -0.01457 -0.00468 -0.02798 -0.00468 -0.02775 C -0.00451 -0.02798 -0.00451 -0.01457 -0.00416 2.25434E-006 C -0.00416 0.01618 -0.00416 0.03283 -0.00399 0.03283 C -0.00364 0.03283 -0.00364 0.01618 -0.00364 2.25434E-006 C -0.00364 -0.01457 -0.00364 -0.02798 -0.00347 -0.02798 C -0.00312 -0.02798 -0.00312 -0.01457 -0.00312 2.25434E-006 C -0.00312 0.01618 -0.00312 0.03283 -0.00295 0.03283 C -0.0026 0.03283 -0.0026 2.25434000000001E-006 -0.0026 0.00023 C -0.0026 -0.01457 -0.00243 -0.02798 -0.00208 -0.02798 C -0.00208 -0.02775 -0.00208 -0.01457 -0.00208 2.25434E-006 C -0.00191 0.01618 -0.00191 0.03283 -0.00156 0.03283 C -0.00156 0.03306 -0.00156 0.01618 -0.00139 2.25434E-006 C -0.00139 -0.01457 -0.00139 -0.02798 -0.00104 -0.02798 C -0.00104 -0.02775 -0.00087 -0.01457 -0.00087 2.25434E-006 C -0.00087 0.01618 -0.00052 0.03283 -0.00052 0.03306 C -0.00034 0.03283 -0.00034 0.01618 -2.5E-006 2.25434E-006 E">
                                      <p:cBhvr>
                                        <p:cTn id="84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469 4.62428E-007 C -0.00469 -0.01734 -0.00469 -0.03306 -0.00451 -0.03306 C -0.00434 -0.03306 -0.00434 -0.01734 -0.00417 4.62428E-007 C -0.00417 0.01873 -0.00417 0.03815 -0.00382 0.03815 C -0.00364 0.03815 -0.00364 0.01873 -0.00364 4.62428E-007 C -0.00347 -0.01734 -0.00347 -0.03306 -0.0033 -0.03306 C -0.00312 -0.03306 -0.00312 -0.01734 -0.00295 4.62428E-007 C -0.00295 0.01873 -0.00295 0.03815 -0.00278 0.03815 C -0.0026 0.03815 -0.00243 4.62428000000008E-007 -0.00243 0.00023 C -0.00243 -0.01734 -0.00226 -0.03306 -0.00208 -0.03306 C -0.00191 -0.03306 -0.00191 -0.01734 -0.00191 4.62428E-007 C -0.00174 0.01873 -0.00174 0.03815 -0.00156 0.03815 C -0.00139 0.03815 -0.00139 0.01873 -0.00121 4.62428E-007 C -0.00121 -0.01734 -0.00121 -0.03306 -0.00104 -0.03306 C -0.00087 -0.03306 -0.00069 -0.01734 -0.00069 4.62428E-007 C -0.00069 0.01873 -0.00052 0.03815 -0.00035 0.03815 C -0.00017 0.03815 -0.00017 0.01873 -8.33333E-007 4.62428E-007 E">
                                      <p:cBhvr>
                                        <p:cTn id="86" dur="5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The Damped Forced Osc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919080"/>
            <a:ext cx="80629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amped oscillator has infinite amplitude on resonance, which is unphysical. We fix thi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using a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am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ced oscilla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Object 5"/>
          <p:cNvGraphicFramePr/>
          <p:nvPr/>
        </p:nvGraphicFramePr>
        <p:xfrm>
          <a:off x="2006640" y="2077920"/>
          <a:ext cx="516888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077920"/>
                    <a:ext cx="5168880" cy="797040"/>
                  </a:xfrm>
                  <a:prstGeom prst="rect">
                    <a:avLst/>
                  </a:prstGeom>
                  <a:ln w="381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2711520" y="3913200"/>
          <a:ext cx="35416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1520" y="3913200"/>
                    <a:ext cx="3541680" cy="914400"/>
                  </a:xfrm>
                  <a:prstGeom prst="rect">
                    <a:avLst/>
                  </a:prstGeom>
                  <a:ln w="381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1" name="Rectangle 7"/>
          <p:cNvSpPr/>
          <p:nvPr/>
        </p:nvSpPr>
        <p:spPr>
          <a:xfrm>
            <a:off x="533520" y="5224320"/>
            <a:ext cx="736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on always oscillates at the light frequency but the complex-valued solution introduces a frequency-dependent phase shift, and frequency-dependent amplitud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533160" y="32590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is now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11"/>
          <p:cNvSpPr/>
          <p:nvPr/>
        </p:nvSpPr>
        <p:spPr>
          <a:xfrm>
            <a:off x="763560" y="2351160"/>
            <a:ext cx="476568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7" descr="Dephasing"/>
          <p:cNvPicPr/>
          <p:nvPr/>
        </p:nvPicPr>
        <p:blipFill>
          <a:blip r:embed="rId1"/>
          <a:stretch/>
        </p:blipFill>
        <p:spPr>
          <a:xfrm>
            <a:off x="1733400" y="2452680"/>
            <a:ext cx="3783240" cy="399564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80680" y="190440"/>
            <a:ext cx="78678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Why we included the damping factor, </a:t>
            </a:r>
            <a:r>
              <a:rPr b="1" lang="en-US" sz="3200" spc="-1" strike="noStrike">
                <a:solidFill>
                  <a:srgbClr val="99ff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685800" y="934920"/>
            <a:ext cx="76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spontaneously decay to the ground state after a tim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the vibration of a medium is the sum of the vibrations of all the atoms in the medium, and collisions cause the sum to canc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5710320" y="2995560"/>
            <a:ext cx="3170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 "dephase"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brations, caus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ation of th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dium vibration, typically exponentially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can use the same argument for the emitted light, too.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"/>
          <p:cNvPicPr/>
          <p:nvPr/>
        </p:nvPicPr>
        <p:blipFill>
          <a:blip r:embed="rId2"/>
          <a:stretch/>
        </p:blipFill>
        <p:spPr>
          <a:xfrm>
            <a:off x="874800" y="2489040"/>
            <a:ext cx="4235400" cy="38880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2"/>
          <p:cNvGrpSpPr/>
          <p:nvPr/>
        </p:nvGrpSpPr>
        <p:grpSpPr>
          <a:xfrm>
            <a:off x="3895560" y="6118200"/>
            <a:ext cx="892440" cy="368280"/>
            <a:chOff x="3895560" y="6118200"/>
            <a:chExt cx="892440" cy="368280"/>
          </a:xfrm>
        </p:grpSpPr>
        <p:sp>
          <p:nvSpPr>
            <p:cNvPr id="640" name="Text Box 9"/>
            <p:cNvSpPr/>
            <p:nvPr/>
          </p:nvSpPr>
          <p:spPr>
            <a:xfrm>
              <a:off x="3895560" y="6118200"/>
              <a:ext cx="8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"/>
            <p:cNvSpPr/>
            <p:nvPr/>
          </p:nvSpPr>
          <p:spPr>
            <a:xfrm>
              <a:off x="4519440" y="6314760"/>
              <a:ext cx="26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0"/>
          <p:cNvSpPr/>
          <p:nvPr/>
        </p:nvSpPr>
        <p:spPr>
          <a:xfrm>
            <a:off x="624960" y="2678040"/>
            <a:ext cx="38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           , this become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160" y="294840"/>
            <a:ext cx="784548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Arial"/>
                <a:ea typeface="Times New Roman"/>
              </a:rPr>
              <a:t>The atom</a:t>
            </a:r>
            <a:r>
              <a:rPr b="1" lang="ja-JP" sz="3200" spc="-1" strike="noStrike">
                <a:solidFill>
                  <a:srgbClr val="ffcccc"/>
                </a:solidFill>
                <a:latin typeface="Arial"/>
                <a:ea typeface="Times New Roman"/>
              </a:rPr>
              <a:t>’</a:t>
            </a:r>
            <a:r>
              <a:rPr b="1" lang="en-US" sz="3200" spc="-1" strike="noStrike">
                <a:solidFill>
                  <a:srgbClr val="ffcccc"/>
                </a:solidFill>
                <a:latin typeface="Arial"/>
                <a:ea typeface="Times New Roman"/>
              </a:rPr>
              <a:t>s response is approximately a Complex Lorentz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3880" y="1647360"/>
            <a:ext cx="14479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Object 4"/>
          <p:cNvGraphicFramePr/>
          <p:nvPr/>
        </p:nvGraphicFramePr>
        <p:xfrm>
          <a:off x="4675320" y="2502000"/>
          <a:ext cx="275112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5320" y="2502000"/>
                    <a:ext cx="275112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5"/>
          <p:cNvGraphicFramePr/>
          <p:nvPr/>
        </p:nvGraphicFramePr>
        <p:xfrm>
          <a:off x="1884240" y="2690640"/>
          <a:ext cx="86220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4240" y="2690640"/>
                    <a:ext cx="862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962000" y="5454720"/>
          <a:ext cx="5050080" cy="82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2000" y="5454720"/>
                    <a:ext cx="505008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7"/>
          <p:cNvGraphicFramePr/>
          <p:nvPr/>
        </p:nvGraphicFramePr>
        <p:xfrm>
          <a:off x="2185920" y="1477800"/>
          <a:ext cx="5408640" cy="80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5920" y="1477800"/>
                    <a:ext cx="5408640" cy="8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9"/>
          <p:cNvSpPr/>
          <p:nvPr/>
        </p:nvSpPr>
        <p:spPr>
          <a:xfrm>
            <a:off x="623880" y="4419720"/>
            <a:ext cx="7535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the variabl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δω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ω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γ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the fun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δ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i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complex Lorentzian.  Its real and imaginary parts are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6:18:37Z</dcterms:created>
  <dc:creator>Rick Trebino</dc:creator>
  <dc:description/>
  <dc:language>en-US</dc:language>
  <cp:lastModifiedBy>Robin Marjoribanks</cp:lastModifiedBy>
  <dcterms:modified xsi:type="dcterms:W3CDTF">2015-01-07T15:24:27Z</dcterms:modified>
  <cp:revision>474</cp:revision>
  <dc:subject/>
  <dc:title>5. The Interaction of Light and  Matter:  a and n</dc:title>
</cp:coreProperties>
</file>